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E54-0267-4E99-9AFD-D615500A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ABC-E60B-469F-A804-E89A7587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45A-8DFB-44B3-ACCF-42EFEA28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FFE-89FA-4B90-ADEE-050F942A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0707-C12D-4C74-9115-DBB3C251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BDCE-5798-4283-B6FD-1DDDCC7A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B39D-3AAD-414B-8C84-D52873EC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540C-846C-4D57-BC58-9C9AE856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42A7-DB53-4ECB-8017-BF9DF90E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AABA-A772-4D23-949D-4F920F8D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5E75-B670-41B4-B5ED-195E8FDA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0E3-D36B-42FC-A4ED-4948DDD6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74EB-B27F-485E-82F3-4AA2FE5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BB25-C206-4919-864D-8D2B2D44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FF02-4409-4B6B-A36A-8E66B386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5006-44A9-4561-9759-A598DE45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E470-528B-469A-A003-E9B10B56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D2ABA-9EA6-4E04-AE2F-0EE7B7D9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EAEC-225A-4B6E-9A24-3610CE86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6335-8BB7-4DB0-A527-F72FF79B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94E5-7104-4565-9E26-DA39220F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AC92-15CB-4F0B-A045-A0990264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9C9-9E85-4EE2-AC7F-2D17BFA8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69FB-EE21-4053-8916-8DA483C4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5008-DC4C-41E0-A5E4-1E61E7A4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677A6-BB55-42EC-AF82-4A73DBC0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1DCD-4841-4B2F-83D3-D11C4DD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0C3D0-6451-456E-831D-2C3DDD7A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84BD-E9F5-43A1-A827-4E7C9EB3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D47F-DF72-4770-A68B-36A118F2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F34CA-D7AE-4B1A-AB29-C2D9E664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6F24-F0EB-44E7-BA61-3CA5DADA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61A01-B105-4291-9194-30E0C0AA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42C-10FD-42E9-8070-76D90E87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3828-983C-44AF-A5A2-47D04B6D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27C7D-9F73-4397-AE19-DDBAE861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DB96-ACF6-4753-9B97-0D056937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2F055-115D-406C-AC98-A4AD7C0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6E6B-1760-4527-A0BB-FCF4D4AD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A7779-1ADA-45A3-BC63-B86835EF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EE522-209B-4E47-B40F-5380F3DB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3E4F-CFB4-48A1-868A-8778CFDC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06FCC-D752-45AA-9EED-21841B0A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0E5F7-E497-49FD-977E-4DCBD183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873-1DD6-443C-8DA7-1722EBC4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A823-3969-4A69-91E3-C7FAD83E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9511C-35B4-4A68-82D3-2FFD1FB3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D5BFC-860D-47E4-BDD5-E0A9BE2E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066A8-8A05-44E9-9E07-78D1FEBB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F9B9D-BA72-4BF2-A404-125DE28C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F54B8-D290-44D8-81EA-5306E99F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F34ED-CA2F-4EE0-8C27-BB4310BF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5ED7-61FC-4F56-8791-D45381BC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F11D3-72FC-4391-A940-489DF83C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A75AB-BDFF-4C4B-94EF-14A2D7E5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34C-230A-4D13-9A1C-E309506F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038F-3ABA-48A4-83BC-970ECA0B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A63CC-BD2A-4C38-84BC-BD7D9C7C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3AE81-D305-4B1E-9445-60FF6F25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673B4-CF5E-4E42-9A12-741C713A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2F46E-5E45-43F9-93AB-D110707D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68D0D-9896-4B15-A30C-CCE803FB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FD105-E6AE-4561-B547-AB610E11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F472E-9389-400D-A66F-DD37312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4ECF7-7299-40A5-BA3A-41D52EEE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9AC8B-B167-4EB9-B54A-0BF77D38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642-38F3-49AE-B774-349A3794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D6EF0-5A6A-4B15-8FE2-9E21EFC3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0A8C0-9105-4506-87D6-59336E50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0EB56-12BE-4C83-978A-BC46E194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9B91F-9CDA-43E3-9ECE-1765BB55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33656-2A90-4EAD-AE24-9E3F3EDE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F0EF8-2953-4CE2-9F2B-4EEB5D85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12E27-9F5A-4563-8600-4B87A2C7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32B20-8498-47A9-A9A6-F9139DD5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C2999-9B01-4890-BEF7-07D127B0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3492C-4D82-4C5F-BCE2-391ADC0A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914-5305-4186-BB74-83E8118B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CB547-3ACC-4306-AB0E-F5CB388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67D2F-3E4F-4463-856E-C3189581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DF692-080A-47C2-A7AA-471B59F0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6CEF2-84D9-4E06-95D5-B0383CED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D2834-AACA-40BA-AD0A-6874567D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6C8-5332-4FBC-B694-56AE622D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DA68-4007-4B69-8BBC-1283D0F00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8155-DF65-4B5B-9993-9CFDE4943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F63C-8EFE-4C1D-9A4C-E67690D8D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68E1-2DD6-4CAB-B58B-2EE416BDE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4B03-6611-4583-997A-7081AF425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1157-50D4-4669-A208-108BD6E9D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662F-6F3F-4381-9939-6FC8FDE0BE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3-30T14:30:23Z</dcterms:modified>
  <cp:revision>40</cp:revision>
  <dc:subject/>
  <dc:title>Dante’s Inferno</dc:title>
</cp:coreProperties>
</file>