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E56-0902-450C-8DC2-36479929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050-60F6-4B44-97A2-3F29A95E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F07-A617-43FD-B37D-2DA9136D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7EE-4529-4010-B894-6A8CAB28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495F-6D48-4CA9-93E3-B4D961D1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63CC-8C2E-4B7F-9B34-7526EA74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11CB-A9CA-4090-BA2D-244D03A0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B5B4-8BBA-44F7-A199-313C9A7F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6EFB-15BF-4FFA-AE8C-C350D71B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1BAF-1DDD-4392-8F34-93A29AB9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B21-CB95-48AE-A045-568429B4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2FA-7C3A-463F-9187-43422104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85AA-4057-4846-9767-00128BD1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E705-A9ED-422E-889F-9BA5F7F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77D1-5612-4FA4-9745-BA3E6EF0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4942-23AD-46BA-878F-D641EEDD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8C91-5CE6-47B3-A966-2E26D40F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74C9-C8CF-4D23-9F76-2F2E9E7F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696B3-4DC4-430C-887D-1FC7A010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0FDE-5316-425C-A25A-6658A780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1584-B47F-4222-8554-6349C12B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71D1-AC54-4975-9FD7-1DF8EC13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F97-A679-405B-AC08-524D94BF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9FD4-8064-4DE8-8D14-48CD65C4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4C06-2770-4A33-9DFC-D772D391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5093-7466-4740-B6D5-EECB9593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F6AD-49B7-4325-BA71-968C9D2C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E917B-2E07-490A-8F63-480E324C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7EFD-0AA2-4632-8A61-EB1E333A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2C8E-488B-482F-8E00-C257B8DF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4D09-9D11-40A9-B0AC-215DD4A0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E25D-BA4D-4EC3-8C48-A83AD164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BD71-7811-476C-90A5-9F66DBD9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6ED-F99D-4500-98F2-04C40E78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EB3C-E9A8-4604-B248-1F102D1E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428F-0B21-40DE-8B8C-FBDAD745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9932A-A6BF-466B-BC6C-9CC3C804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AE41-9141-48EA-BCCB-2FCA1C2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90A3-14AF-4575-8C6A-7F37B603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7898-4C1E-4E12-AF4D-A3EE19F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79C7-30FE-491D-A293-DCB32363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1D34B-1D87-4D5E-8712-58EF9E19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E667-EDCC-4945-8650-97F96E4B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DA13D-C4CD-4EB9-9B6C-A01A3147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CB5-E3FC-4A25-968F-5958406C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C4319-43C3-42C2-B76E-7EDA26C1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0DA69-1161-4E4C-9B9A-7F73CB48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A6F3-7E7D-4E7F-B085-778B64BC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10CC2-C499-4E1B-8E07-9A889BEF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6ED0-EDCC-4877-BFCD-8CB694A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D6BE1-5399-41CE-9922-702F87B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0C4AD-1B3D-4F9C-B42D-B9049D0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52E3-46D5-44A9-913C-65300AA4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C1FA-194C-405D-92AC-FA1DBDD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CABF7-D777-4A85-A051-EDAA293F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803-F341-4CC8-AC0D-BAAF3C59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9BFB0-41C1-4DF1-BF3B-49D13073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B28A2-0E52-4636-BE84-317F5668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7425E-4982-4DBD-A22A-33FE346A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539B3-BB46-44C5-920E-50894005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62AFD-F0B7-482B-9B31-4E61CBED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AFEF7-24BA-497E-ACE8-C64F4CF1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B4F0F-76FA-4452-9807-54EABC59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8B88-8A9B-4D33-8383-F97211CA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8DEDD-B5C7-410F-8522-D8180AB3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6353D-47C2-4803-B430-57F2D233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F3B-1523-4914-94F6-A1348A79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307A8-FCE3-4D13-BD22-F40E9E45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58D0-6401-4B30-9ADC-6D55D2B1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C8CA9-A327-435C-A3DB-FDD22301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37BC-137D-4B5A-AC68-A76A1FAA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7BA68-37A7-4685-9F15-BE7081CA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E36BB-908E-45E1-A909-E925A21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B16AA-E6E5-4CC7-97EB-9C58CC54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E636E-461C-4CD2-A487-70F8F58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B2E38-840B-4E20-B023-B43423F7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9F044-A33C-4526-B756-6E21AFC6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E5F-C932-4942-98F7-A54DB6D6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25CBA-6B9B-45A4-8967-FFD54C3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2291F-7A46-4777-87C2-76BE2B6B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7671-C2A8-4B6F-9719-10B33318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C5BC5-2643-4EF9-8B08-AE9A7547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29A83-8A78-4156-9162-5FBDD884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B7E-390A-4832-BC28-BA7E3F5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A7ED-F8DA-4E8C-9885-17BF7F459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690A-E157-4DDB-B56E-B3E06BF77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1DE3-5A67-417B-97FA-3950F3C26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5727-74A2-4866-8F6D-5C68BB338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FD4C-8ACC-430F-B55D-BBF5F010D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5FDE-EE64-496D-A7E2-BF5FA078C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7C53-5335-45BD-96F8-641473FD3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30T14:30:23Z</dcterms:modified>
  <cp:revision>40</cp:revision>
  <dc:subject/>
  <dc:title>Dante’s Inferno</dc:title>
</cp:coreProperties>
</file>