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43EEB-161E-46C5-BFD7-19C0C2DA6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5CC37-BE5F-4F3A-844F-414F6614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794C4-D4E9-4525-A319-522DAD68D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4A113-E372-4150-86C3-CA0CFB1A2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9BAF5-6263-4800-A946-3BADEA1A5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3325D-1ABD-44C8-BBD4-6A493BF8B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E4B76-8681-4E5D-B8D4-54BA4C150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AB3CC-1348-42B7-9DAE-CE3B957BD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EE829-4767-424E-AD76-377A49E7A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A3C64-2528-420F-8BDE-0B2532833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93E6D-ACB3-4480-9934-CD06D80AF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DB189-1275-41C0-87CB-4907B1EC0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A235-ED28-4944-AF4D-B70E21AD6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0263-99E4-42E9-BB1F-0DCBA427C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611E-C50C-469A-8D57-523B7C9FC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A9F46-DCEA-4B7C-8A93-A31DDBC81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11921-0A67-4D49-88D6-B7019CFAB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2EA97-11CA-4E40-A5E2-AC7CD57351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31293-D41F-4315-8812-65EDD68CF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E2B66-A927-4214-98D3-107105C93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6BC23-E168-4D07-9CE5-BE67D0ABE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95578-BA0D-48C2-9B56-19B02EF3B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054C-A0E0-470C-A0FF-92F1792B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DD94D-C04A-431C-99E2-2DFAA4055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8BBA5-0895-4A47-86DC-9AE26A696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69B7E-BFC3-456B-B58B-149A31460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FAAE0-B557-437E-8C63-A66245F8E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B7777-FFB6-4AB7-9BA8-6A748B81A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EBD92-2439-42E0-8619-8B78AAAD77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16240-4A9E-4ECB-9164-2676F28643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3A8890-B947-4523-B435-B034E6D8F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EAC21-6757-4683-9358-51942A211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AF42C2-DB85-4F9D-8AE8-01B2ABF9D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1B84A-AC19-4E33-8FD7-AC41D3544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B9769-AD51-4F2D-B9CB-C65962D5A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0E90D-616E-443F-81F5-0794AB1C3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E2B9B-8A3A-4CCE-A678-223457183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FA04D-C7EB-4A87-8E86-EFD48E9A6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C628B-7D05-4860-84B5-F058CEA81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5E643-E34A-400C-B30F-908648698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CD32E-E582-4B0B-A4EC-7DC7281F1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0F1C64-B8DF-4136-A77E-6BEC9FD70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30C96E-96AE-417E-91E2-7EBEBCF82A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B44193-DE13-4125-8CBD-AEEA8E4C5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76A9D-FB0B-4024-8263-5CB3D6771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8562E-061F-4F3D-9FC9-AFE7CBC38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3723F-DEE6-49A8-89B7-8E7192927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25020-505A-482E-B090-FA27B2485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B2C8E-6379-4440-B81C-07CF3394C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6CA654-54DF-4CCA-9C8B-9FA90E948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7B1E9-8D3C-4AC1-A788-944DE8C80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A0B72-A7DB-467E-8C2A-84E3F4E7E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81952-4911-420D-A4A0-2E60D658A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8E090-BD34-41CA-93CA-A0C88C680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AE33BB-ACF6-40CB-8031-6691E07B81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5CCC-45DF-4A73-9B68-2F43EB93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41168-C6E3-4503-A5FA-1FCED5D14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303821-7CF7-4599-AE00-9EB21DBF9B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D5615-428D-4868-A034-AD456F4532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8D134-50EF-4061-B5AD-03949FCC6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1F378-7B53-4CA5-89B6-60AEE4C7C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75A38-44D2-458E-BFBF-28A26B0BB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7D117-955B-40DE-9818-0AEAE40AC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BDCB6-B669-4908-B64B-6F747FFF1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FAA7C-A4BB-4135-A041-7AC840176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398C3-793E-426F-B09F-DB5957207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2243-28AF-4081-9A14-CA069B137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20CAC-0EA5-41F6-BDD8-CCF6A8297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AEAE0B-492E-4C35-86BE-E7ECE91EAD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06F3B7-7880-46C2-BB9D-063643E1F8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0F1592-00C8-4156-BD71-893EA364A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356D3-AC58-40C7-AED0-FE4F8E7ED7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BEB97B-EB57-489A-B5E9-FC51BAEC0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9522F-DD41-4A70-8305-E1834D1F7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E681CD-B09A-4C88-949E-0E3103EB0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FC9B57-A51B-49C6-9626-8F0FA4AE3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FA88D-58B6-4EA3-98BB-E812E3FFF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1EF5-7722-4071-AA5B-13BED93EB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5A415-4C5B-4CA1-96D4-E793EC858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B320A-F264-4A24-A14D-EC41A52FD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3912A9-B34D-4051-A683-C021142C2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1EE242-450B-4267-8949-DE2E748D6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C55048-789F-44A9-B6D4-F794D0B65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8233-0230-499C-B953-066F69C22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11F2-237C-4468-813F-12C58F02FA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10B0-CA81-43CA-B8B0-74413399B5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63E3-C87C-4717-A9AC-A83D5B4D3E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E3A2-8FE9-4A03-83F0-A171D070DA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5FED-7442-4C4C-86D3-A56499753A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22EB-A6DA-4B46-800D-4003FE9624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108E-0304-40BB-BE4F-AE388EACA6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19520" y="1676520"/>
            <a:ext cx="5943600" cy="4343400"/>
          </a:xfrm>
          <a:prstGeom prst="rect">
            <a:avLst/>
          </a:prstGeom>
          <a:ln w="0">
            <a:noFill/>
          </a:ln>
        </p:spPr>
      </p:pic>
      <p:sp>
        <p:nvSpPr>
          <p:cNvPr id="414" name="PlaceHolder 1"/>
          <p:cNvSpPr>
            <a:spLocks noGrp="1"/>
          </p:cNvSpPr>
          <p:nvPr>
            <p:ph/>
          </p:nvPr>
        </p:nvSpPr>
        <p:spPr>
          <a:xfrm>
            <a:off x="2743200" y="1600200"/>
            <a:ext cx="601992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ke Thompson</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12408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9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1344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4df"/>
                </a:solidFill>
                <a:latin typeface="Arial"/>
              </a:rPr>
              <a:t>If you like fired then you will be sent to the 2</a:t>
            </a:r>
            <a:r>
              <a:rPr b="0" lang="en-US" sz="3200" spc="-1" strike="noStrike" baseline="30000">
                <a:solidFill>
                  <a:srgbClr val="1344df"/>
                </a:solidFill>
                <a:latin typeface="Arial"/>
              </a:rPr>
              <a:t>nd</a:t>
            </a:r>
            <a:r>
              <a:rPr b="0" lang="en-US" sz="3200" spc="-1" strike="noStrike">
                <a:solidFill>
                  <a:srgbClr val="1344df"/>
                </a:solidFill>
                <a:latin typeface="Arial"/>
              </a:rPr>
              <a:t> level of hell the </a:t>
            </a:r>
            <a:r>
              <a:rPr b="1" lang="en-US" sz="3200" spc="-1" strike="noStrike">
                <a:solidFill>
                  <a:srgbClr val="1344df"/>
                </a:solidFill>
                <a:latin typeface="Arial"/>
              </a:rPr>
              <a:t>HOTTEST. For the punishment a lot of your things will burn then eventually you will be burned.</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is I like this punishment. The burning of the body is harsh but they could of killed someone by burning the persons house.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a:off x="3581280" y="1676520"/>
            <a:ext cx="4572000" cy="3429000"/>
          </a:xfrm>
          <a:prstGeom prst="rect">
            <a:avLst/>
          </a:prstGeom>
          <a:ln w="0">
            <a:noFill/>
          </a:ln>
        </p:spPr>
      </p:pic>
      <p:pic>
        <p:nvPicPr>
          <p:cNvPr id="468" name="" descr=""/>
          <p:cNvPicPr/>
          <p:nvPr/>
        </p:nvPicPr>
        <p:blipFill>
          <a:blip r:embed="rId2"/>
          <a:stretch/>
        </p:blipFill>
        <p:spPr>
          <a:xfrm>
            <a:off x="3048120" y="525780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422"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you use a gun against some one then you will be sent to the worst layer of hel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drug deal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robb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Justin Stoler</a:t>
            </a:r>
            <a:endParaRPr b="0" lang="en-US" sz="3200" spc="-1" strike="noStrike">
              <a:solidFill>
                <a:srgbClr val="000000"/>
              </a:solidFill>
              <a:latin typeface="Arial"/>
            </a:endParaRPr>
          </a:p>
        </p:txBody>
      </p:sp>
      <p:sp>
        <p:nvSpPr>
          <p:cNvPr id="471"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2"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forced to shoot an target that is a mile away. And if you don’t hit the target then you will DIE. You will never be seen on the face of the earth again.</a:t>
            </a:r>
            <a:endParaRPr b="0" lang="en-US" sz="3200" spc="-1" strike="noStrike">
              <a:solidFill>
                <a:srgbClr val="000000"/>
              </a:solidFill>
              <a:latin typeface="Arial"/>
            </a:endParaRPr>
          </a:p>
        </p:txBody>
      </p:sp>
      <p:sp>
        <p:nvSpPr>
          <p:cNvPr id="476"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7"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8"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y reaction to the punishment of leaving the world is I agree that they should be gone. They killed someone so why should they be in hell when they should just be gon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81"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RE IS NO WAY OUT AHAHAHAH!!!!</a:t>
            </a: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pic>
        <p:nvPicPr>
          <p:cNvPr id="486" name="" descr=""/>
          <p:cNvPicPr/>
          <p:nvPr/>
        </p:nvPicPr>
        <p:blipFill>
          <a:blip r:embed="rId1"/>
          <a:stretch/>
        </p:blipFill>
        <p:spPr>
          <a:xfrm>
            <a:off x="2800440" y="3048120"/>
            <a:ext cx="6343560" cy="3171600"/>
          </a:xfrm>
          <a:prstGeom prst="rect">
            <a:avLst/>
          </a:prstGeom>
          <a:ln w="0">
            <a:noFill/>
          </a:ln>
        </p:spPr>
      </p:pic>
      <p:pic>
        <p:nvPicPr>
          <p:cNvPr id="487" name="" descr=""/>
          <p:cNvPicPr/>
          <p:nvPr/>
        </p:nvPicPr>
        <p:blipFill>
          <a:blip r:embed="rId2"/>
          <a:stretch/>
        </p:blipFill>
        <p:spPr>
          <a:xfrm>
            <a:off x="2819520" y="5867280"/>
            <a:ext cx="30456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90" fill="hold"/>
                                        <p:tgtEl>
                                          <p:spTgt spid="4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666880" y="1447920"/>
            <a:ext cx="6477120" cy="480060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tiger wo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ger woods is my guide. He is not married any more.. He has 33 girl friends 15 kids. Also he has a lot of money but he cheated on his wife so that’s why he is in hell.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19160" y="1447920"/>
            <a:ext cx="6019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ey my name is mike. I am a sophomore at North Penn high school. I play football, hunt, bike and chill with friend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7" name="" descr=""/>
          <p:cNvPicPr/>
          <p:nvPr/>
        </p:nvPicPr>
        <p:blipFill>
          <a:blip r:embed="rId3"/>
          <a:stretch/>
        </p:blipFill>
        <p:spPr>
          <a:xfrm>
            <a:off x="4114800" y="2057400"/>
            <a:ext cx="2857680" cy="2771640"/>
          </a:xfrm>
          <a:prstGeom prst="rect">
            <a:avLst/>
          </a:prstGeom>
          <a:ln w="0">
            <a:noFill/>
          </a:ln>
        </p:spPr>
      </p:pic>
      <p:pic>
        <p:nvPicPr>
          <p:cNvPr id="428" name="" descr=""/>
          <p:cNvPicPr/>
          <p:nvPr/>
        </p:nvPicPr>
        <p:blipFill>
          <a:blip r:embed="rId4"/>
          <a:stretch/>
        </p:blipFill>
        <p:spPr>
          <a:xfrm>
            <a:off x="30481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90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895480" y="1447920"/>
            <a:ext cx="5486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If you eat fat foods you will be on this level of hell. People that are a tab overweight would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1)Joe Wind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2) Biggie Sma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3) An elephan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to eat all healthy food. No fat food like burgers, fries, ice cream, and pies. All they can have is fruit,  fat free ice cream no sugar, everything fat free</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wouldn’t like this way because I like some fat food. Now I will only eat some fat food. But also I think this might be good for over size people because they need to be healthy and not over weight.</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3581280" y="1981080"/>
            <a:ext cx="4381560" cy="3286080"/>
          </a:xfrm>
          <a:prstGeom prst="rect">
            <a:avLst/>
          </a:prstGeom>
          <a:ln w="0">
            <a:noFill/>
          </a:ln>
        </p:spPr>
      </p:pic>
      <p:pic>
        <p:nvPicPr>
          <p:cNvPr id="448" name="" descr=""/>
          <p:cNvPicPr/>
          <p:nvPr/>
        </p:nvPicPr>
        <p:blipFill>
          <a:blip r:embed="rId4"/>
          <a:stretch/>
        </p:blipFill>
        <p:spPr>
          <a:xfrm>
            <a:off x="3048120" y="5257800"/>
            <a:ext cx="30456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74"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set fires to peoples houses or to other peoples thing you will be sent to the 2nd level of hell.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Mike Fink</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Carl Carve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Tyler Greenleaf</a:t>
            </a:r>
            <a:endParaRPr b="0" lang="en-US" sz="32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5:36:15Z</dcterms:modified>
  <cp:revision>46</cp:revision>
  <dc:subject/>
  <dc:title>Dante’s Inferno</dc:title>
</cp:coreProperties>
</file>