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1095F-2C9C-4529-A033-638913EFD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1B61-4D49-48D1-92EC-CC647A4D9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34BA-39FB-479D-BC7D-671305161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97FC-8C38-489A-9EE8-A71CE15D5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246FE-869E-4314-A67B-F3FCE6FFA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52517-A521-4735-9EF9-23D88C535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EF1FC-5B0A-4A0C-BF76-3CF62D7E2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1A2A6-2301-4DC4-A5A0-C71C16899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A8C2-CBE7-4352-B1E7-536CFEE09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02765-114D-4012-AAC5-9C60A116C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108A9-3A51-4AC2-B73A-BA2A110E0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59AC-1344-42B3-B923-4A8F3D22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B88E6-0EB3-475A-A67F-F06DADD77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AAFCA-CEFD-49EC-ADEA-710F33B2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3662E-1D0B-4DD7-849E-F5F119D79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40352-B594-4CB8-8463-80FBA1C2D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E9601-7133-4C08-8DCE-86AB59FC5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030FB7-E282-49F8-85B1-D843A8AC62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9941D-F982-47D6-B34D-EE23BAA09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DC2BB-01C2-4B28-AA20-A01E28B5A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B9AABD-27B3-43B6-97C5-B821D6ABE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A2D7D-DFF6-4A21-B211-90B9152F7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36432-0982-4AB7-9C06-93F1A62B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0F49EC-F116-459E-95F3-668616B10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2FB9C-3143-45F7-9B77-CCF54DB62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C15EE-609F-48E9-AADD-903A74BDB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0F9D2-A338-4865-B621-8017763D4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535D3-7318-4B38-9DC9-29278CBE0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3F0AF5-8E8F-42C1-AE0E-3471A5A447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B76277-B66C-4FB2-B150-F951C1270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1F982B-13BA-4101-B9A2-77A2D8FC3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E59E9-E7A1-4CA7-BFDA-5B0C6C194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CE718D-6F37-4EF5-8195-1CE76D0F7B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79DB-E388-4737-85A7-190E4CDE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E86E9-40AD-4FBC-A595-4A7CA6DBB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89B01-C0AC-49EB-9000-C9989D5FC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65393-6789-4510-AC61-75C0467AD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CB5C7-64AF-40D1-9D4A-31BF75AA1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50FC2-C864-4BAE-BF0E-0AA4F649F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B7623-0C31-4831-B06F-711E96BB7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94F97-9162-44FD-A235-3D2E3E13F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5FB298-2E75-4117-8836-ADC49F92FF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8913EF-1D97-425A-8B1B-834F57774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AFE4B1-F43D-4BE5-9DDC-3DCADD5A4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73B21-F4C6-4AF1-B3DF-B3544187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B3EDE-F481-4A5E-8637-9C9441337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DE0DA2-11CD-4AA2-8278-E9F4843AB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ACCF1-2EA1-4CD4-AAE9-6FB5A9EE6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745F21-06A8-4648-9CB6-3FAA17332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960FC-10BF-4F5F-A250-A697CF5B9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DE626-0938-4EC6-B982-768DDD636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1E606F-CC32-4169-8CAC-2E0CC7B21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2425A-8F47-421F-A4BB-3F5433E35B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3D280-CBF2-444C-9719-2CA9ADE85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90BFDA-8D9D-45F2-9F91-71C95517DE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A9C6-1C00-45DC-9FEF-811F90CD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BCC2E2-F05C-474D-AF73-DF700D56FB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A9CDEC-8C82-449A-99C7-0841C23D4D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B8B85-7C9D-4F74-8A46-96FACDC353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18FA8-7A0D-4279-B792-01636E3D6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5E4B52-D2C6-479E-B053-C34217293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40F23A-2235-4414-B48C-F91DA75151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7CD48-5FEC-4550-8FCA-4C6ABA05A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022AFF-624B-42C5-ABAA-8082DF7DE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FDE60-7604-4B1F-B468-97AFED6DC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F8FDD-894C-4765-9155-D825B17DF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7A0F-8D58-478F-A298-2C0FC35C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0082E7-46A4-4CF7-B622-787D9F0C4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69FA47-15A9-46A8-93AC-2AB1351ED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34BC2-5667-451E-8B2F-BA05FD4D47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41237A-6194-48A6-B1F1-42FBA3CBE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AFC255-3FBC-4767-96EB-3D24F8F6B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AE63C-69D6-4AD0-A6B3-939A64691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DC1885-7701-4796-AF8E-C7B06A5DC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F2AB6-646B-4CE1-9768-7406040AB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729575-7FD0-4A4F-9E81-1C7C0D2BCE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5B3D5-D2C2-4A79-81C4-D1348938D9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575C-8CDF-4655-8074-D7DA2F656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42B15-A217-4072-A6FC-E1584AF427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A30F6A-7AC2-4181-BEF8-EA5E9F135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CAFB8-56F1-4A48-92FE-495EFA07B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8C8C13-DF79-4225-9488-C90C21AA5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9E166-BD29-4CDD-8320-DB9080A901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3D11-E9FB-4312-A966-50329D7EA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AC8E-2C5F-4A98-AC55-5B8EE0A803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0C7A-A4F9-4A01-8996-DD751D3599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82F6-757D-409A-ADB6-8AA676DC71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D3C4-ED3C-4791-8BD4-593BCDF1C2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F0DF-8EE6-4153-8457-196474E9B4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0996-A6F8-4BFE-8D70-709A55012B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EDAB-609F-41A2-BD0F-F2324A6D14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819520" y="1676520"/>
            <a:ext cx="5943600" cy="4343400"/>
          </a:xfrm>
          <a:prstGeom prst="rect">
            <a:avLst/>
          </a:prstGeom>
          <a:ln w="0">
            <a:noFill/>
          </a:ln>
        </p:spPr>
      </p:pic>
      <p:sp>
        <p:nvSpPr>
          <p:cNvPr id="414" name="PlaceHolder 1"/>
          <p:cNvSpPr>
            <a:spLocks noGrp="1"/>
          </p:cNvSpPr>
          <p:nvPr>
            <p:ph/>
          </p:nvPr>
        </p:nvSpPr>
        <p:spPr>
          <a:xfrm>
            <a:off x="2743200" y="1600200"/>
            <a:ext cx="601992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ke Thompson</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124080" y="56386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90"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1344d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44df"/>
                </a:solidFill>
                <a:latin typeface="Arial"/>
              </a:rPr>
              <a:t>If you like fired then you will be sent to the 2</a:t>
            </a:r>
            <a:r>
              <a:rPr b="0" lang="en-US" sz="3200" spc="-1" strike="noStrike" baseline="30000">
                <a:solidFill>
                  <a:srgbClr val="1344df"/>
                </a:solidFill>
                <a:latin typeface="Arial"/>
              </a:rPr>
              <a:t>nd</a:t>
            </a:r>
            <a:r>
              <a:rPr b="0" lang="en-US" sz="3200" spc="-1" strike="noStrike">
                <a:solidFill>
                  <a:srgbClr val="1344df"/>
                </a:solidFill>
                <a:latin typeface="Arial"/>
              </a:rPr>
              <a:t> level of hell the </a:t>
            </a:r>
            <a:r>
              <a:rPr b="1" lang="en-US" sz="3200" spc="-1" strike="noStrike">
                <a:solidFill>
                  <a:srgbClr val="1344df"/>
                </a:solidFill>
                <a:latin typeface="Arial"/>
              </a:rPr>
              <a:t>HOTTEST. For the punishment a lot of your things will burn then eventually you will be burned.</a:t>
            </a:r>
            <a:endParaRPr b="0" lang="en-US" sz="3200" spc="-1" strike="noStrike">
              <a:solidFill>
                <a:srgbClr val="000000"/>
              </a:solidFill>
              <a:latin typeface="Arial"/>
            </a:endParaRPr>
          </a:p>
        </p:txBody>
      </p:sp>
      <p:sp>
        <p:nvSpPr>
          <p:cNvPr id="456"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7"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8"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is I like this punishment. The burning of the body is harsh but they could of killed someone by burning the persons house. </a:t>
            </a:r>
            <a:endParaRPr b="0" lang="en-US" sz="3200" spc="-1" strike="noStrike">
              <a:solidFill>
                <a:srgbClr val="000000"/>
              </a:solidFill>
              <a:latin typeface="Arial"/>
            </a:endParaRPr>
          </a:p>
        </p:txBody>
      </p:sp>
      <p:sp>
        <p:nvSpPr>
          <p:cNvPr id="461"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5"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6"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7" name="" descr=""/>
          <p:cNvPicPr/>
          <p:nvPr/>
        </p:nvPicPr>
        <p:blipFill>
          <a:blip r:embed="rId1"/>
          <a:stretch/>
        </p:blipFill>
        <p:spPr>
          <a:xfrm>
            <a:off x="3581280" y="1676520"/>
            <a:ext cx="4572000" cy="3429000"/>
          </a:xfrm>
          <a:prstGeom prst="rect">
            <a:avLst/>
          </a:prstGeom>
          <a:ln w="0">
            <a:noFill/>
          </a:ln>
        </p:spPr>
      </p:pic>
      <p:pic>
        <p:nvPicPr>
          <p:cNvPr id="468" name="" descr=""/>
          <p:cNvPicPr/>
          <p:nvPr/>
        </p:nvPicPr>
        <p:blipFill>
          <a:blip r:embed="rId2"/>
          <a:stretch/>
        </p:blipFill>
        <p:spPr>
          <a:xfrm>
            <a:off x="3048120" y="5257800"/>
            <a:ext cx="30456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422" fill="hold"/>
                                        <p:tgtEl>
                                          <p:spTgt spid="4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 you use a gun against some one then you will be sent to the worst layer of hell.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 drug deal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 robbe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 Justin Stoler</a:t>
            </a:r>
            <a:endParaRPr b="0" lang="en-US" sz="3200" spc="-1" strike="noStrike">
              <a:solidFill>
                <a:srgbClr val="000000"/>
              </a:solidFill>
              <a:latin typeface="Arial"/>
            </a:endParaRPr>
          </a:p>
        </p:txBody>
      </p:sp>
      <p:sp>
        <p:nvSpPr>
          <p:cNvPr id="471"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2"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3"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be forced to shoot an target that is a mile away. And if you don’t hit the target then you will DIE. You will never be seen on the face of the earth again.</a:t>
            </a:r>
            <a:endParaRPr b="0" lang="en-US" sz="3200" spc="-1" strike="noStrike">
              <a:solidFill>
                <a:srgbClr val="000000"/>
              </a:solidFill>
              <a:latin typeface="Arial"/>
            </a:endParaRPr>
          </a:p>
        </p:txBody>
      </p:sp>
      <p:sp>
        <p:nvSpPr>
          <p:cNvPr id="476"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7"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8"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My reaction to the punishment of leaving the world is I agree that they should be gone. They killed someone so why should they be in hell when they should just be gone</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81"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66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RE IS NO WAY OUT AHAHAHAH!!!!</a:t>
            </a: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pic>
        <p:nvPicPr>
          <p:cNvPr id="486" name="" descr=""/>
          <p:cNvPicPr/>
          <p:nvPr/>
        </p:nvPicPr>
        <p:blipFill>
          <a:blip r:embed="rId1"/>
          <a:stretch/>
        </p:blipFill>
        <p:spPr>
          <a:xfrm>
            <a:off x="2800440" y="3048120"/>
            <a:ext cx="6343560" cy="3171600"/>
          </a:xfrm>
          <a:prstGeom prst="rect">
            <a:avLst/>
          </a:prstGeom>
          <a:ln w="0">
            <a:noFill/>
          </a:ln>
        </p:spPr>
      </p:pic>
      <p:pic>
        <p:nvPicPr>
          <p:cNvPr id="487" name="" descr=""/>
          <p:cNvPicPr/>
          <p:nvPr/>
        </p:nvPicPr>
        <p:blipFill>
          <a:blip r:embed="rId2"/>
          <a:stretch/>
        </p:blipFill>
        <p:spPr>
          <a:xfrm>
            <a:off x="2819520" y="5867280"/>
            <a:ext cx="30456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990" fill="hold"/>
                                        <p:tgtEl>
                                          <p:spTgt spid="4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666880" y="1447920"/>
            <a:ext cx="6477120" cy="480060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tiger woo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ger woods is my guide. He is not married any more.. He has 33 girl friends 15 kids. Also he has a lot of money but he cheated on his wife so that’s why he is in hell.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19160" y="1447920"/>
            <a:ext cx="60195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ey my name is mike. I am a sophomore at North Penn high school. I play football, hunt, bike and chill with friend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5"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6"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7" name="" descr=""/>
          <p:cNvPicPr/>
          <p:nvPr/>
        </p:nvPicPr>
        <p:blipFill>
          <a:blip r:embed="rId3"/>
          <a:stretch/>
        </p:blipFill>
        <p:spPr>
          <a:xfrm>
            <a:off x="4114800" y="2057400"/>
            <a:ext cx="2857680" cy="2771640"/>
          </a:xfrm>
          <a:prstGeom prst="rect">
            <a:avLst/>
          </a:prstGeom>
          <a:ln w="0">
            <a:noFill/>
          </a:ln>
        </p:spPr>
      </p:pic>
      <p:pic>
        <p:nvPicPr>
          <p:cNvPr id="428" name="" descr=""/>
          <p:cNvPicPr/>
          <p:nvPr/>
        </p:nvPicPr>
        <p:blipFill>
          <a:blip r:embed="rId4"/>
          <a:stretch/>
        </p:blipFill>
        <p:spPr>
          <a:xfrm>
            <a:off x="30481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01" fill="hold"/>
                                        <p:tgtEl>
                                          <p:spTgt spid="4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895480" y="1447920"/>
            <a:ext cx="5486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If you eat fat foods you will be on this level of hell. People that are a tab overweight would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1)Joe Windo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2) Biggie Sma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44df"/>
                </a:solidFill>
                <a:latin typeface="Arial"/>
              </a:rPr>
              <a:t>3) An elephan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ave to eat all healthy food. No fat food like burgers, fries, ice cream, and pies. All they can have is fruit,  fat free ice cream no sugar, everything fat free</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wouldn’t like this way because I like some fat food. Now I will only eat some fat food. But also I think this might be good for over size people because they need to be healthy and not over weight.</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3581280" y="1981080"/>
            <a:ext cx="4381560" cy="3286080"/>
          </a:xfrm>
          <a:prstGeom prst="rect">
            <a:avLst/>
          </a:prstGeom>
          <a:ln w="0">
            <a:noFill/>
          </a:ln>
        </p:spPr>
      </p:pic>
      <p:pic>
        <p:nvPicPr>
          <p:cNvPr id="448" name="" descr=""/>
          <p:cNvPicPr/>
          <p:nvPr/>
        </p:nvPicPr>
        <p:blipFill>
          <a:blip r:embed="rId4"/>
          <a:stretch/>
        </p:blipFill>
        <p:spPr>
          <a:xfrm>
            <a:off x="3048120" y="5257800"/>
            <a:ext cx="30456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74"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you set fires to peoples houses or to other peoples thing you will be sent to the 2nd level of hell. </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 Mike Fink</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Carl Carve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Tyler Greenleaf</a:t>
            </a:r>
            <a:endParaRPr b="0" lang="en-US" sz="3200" spc="-1" strike="noStrike">
              <a:solidFill>
                <a:srgbClr val="000000"/>
              </a:solidFill>
              <a:latin typeface="Arial"/>
            </a:endParaRPr>
          </a:p>
        </p:txBody>
      </p:sp>
      <p:sp>
        <p:nvSpPr>
          <p:cNvPr id="451"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2"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3"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5:36:15Z</dcterms:modified>
  <cp:revision>46</cp:revision>
  <dc:subject/>
  <dc:title>Dante’s Inferno</dc:title>
</cp:coreProperties>
</file>