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EA58-E0AE-4112-B3B2-F58683996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0FDE4-FF90-461A-9E21-9230CDC82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270B1-11B2-4B59-B46C-FC35BBF1E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ADB22-45C3-4717-A01F-F91781B8D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8698C-E704-46C7-BE3B-B08D477DC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28BB7-9271-4D6B-A027-B9FB3574D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6F95C-4AA8-403D-BE2E-D8BCE8A62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93995-ECBC-47FA-9E65-224DE4C93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51B3C-706D-4B4A-BBA5-B2012B402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46C37-9BD3-4C2E-8C9F-C772A4C9F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735FD-5CD2-45C4-9C08-4F7564AFB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70CBA-E267-4B6B-B23E-F5619691D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CE78D-0160-4A5C-AE23-FDFD187FB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9EA77-3862-49DE-AE13-1DEF08164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607FE-3FA5-4A1C-9801-7DDC4D30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D4604-5257-4E53-94FD-D9B82E766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2D1C8-0B20-44E9-95DC-6CA521872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06A29-BBBF-4870-B9B1-0BFBF79CA0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C7D79-64C8-4A22-9608-F7341303C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A64B4-5F90-4031-8848-2F6ACECAB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0C8CC-A58F-4389-976A-3D625D5B23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14E9D-5FA8-491A-87BB-3D88254B1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7031-DDDB-445A-8811-D269AB5AC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E9E16-46B3-4A82-BEE3-453C0273C6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DF255-C4D7-44FE-8854-7CB5A891E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78AD5-0244-41FF-9E17-0F8E0693B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6C8B5-571C-47F8-B2A5-95BD0A0A1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99772-DF42-4126-96B7-615AD896B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E229C0-FBE2-415F-AF3C-A9614D4FE4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B8E34B-0722-4612-AE1C-C7656FB86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9CEBBA-1F84-4F42-8A12-FB653A1E7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3FC63-2774-4A0A-B136-D2DECD4FB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C2672-64AC-4490-B253-1AD85BB4E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8EE7-D0BF-40BC-A7A4-FF9B02E3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6557D-9151-41ED-8711-FB5C2C9BF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3CA23-F18B-4A06-85E2-114C6C143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593FC-6511-413A-918A-275FD381F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02F3A3-33B1-4655-BB7A-B0B9CBB23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B8896-202C-4A4D-A78D-7EE0A322F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D5169-6110-4C48-9AF2-CB010B267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2DCA9-30BC-4B0E-AC6B-6E11997D2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04B0BD-75A3-47E6-9804-EA87CA5C9B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DB7F8D-EB79-41DE-A99A-EE4564ABA7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380D6C-15BF-451D-BDEC-78AE95096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C952A-46F2-4A34-BDC2-F3B4783E2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3BB06D-D1C8-4EFA-9EAE-19A8E4BC40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3142C-3692-4628-8458-FE7E6B1C2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8588E6-C655-484E-98E0-B0B7A0066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32FC0-E1FA-4636-BF9D-D63FA2B5E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E4FE5-033D-4CB3-87C1-0AC369BC2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A6BC6-F650-4904-B952-904E5B65E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A9C43E-8D78-4F94-A171-0EE824A71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04B22-5C2C-4DE8-B7F1-990A40D97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2F6CE-09F8-461C-A989-DB0D5E97F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909710-CCFE-4F34-8663-271D80BD09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E2B4-1460-4E87-8D4E-C0CC2353B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0CF077-04C0-41E6-A5D4-B8C043A6A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590F39-6CE7-4D3D-B786-013BAB35F9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13F55F-2F82-4DDC-93C3-AB9AC2E25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73FE0-F6AF-4543-BE04-FBBDEEFA6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5D7FF-796D-4496-B284-937D87E7B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9CD87-4D83-4F25-8355-DD66FE3C01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04ADC-3DFD-4D33-92B7-A6ABA7CC2C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E55E4-E841-4967-A885-0AE24FBB6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A88DA-898C-4E02-B7EA-289D9C8D3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40411-E8B3-47D9-BC46-A4D6004AE2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1B22-8E7D-4E89-9139-9D534318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94154-E46B-441D-83AA-5EE86B43F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A89964-F956-43B7-AD8D-B489FA9F69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62BDD6-277B-4DB9-BE26-03946D121D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C705F-F13D-4635-9143-71B3A9FD6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505D0-3040-4C96-A5CB-FE8B313F9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5377F-C329-4F7A-A80F-762C80520B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8401CC-6A14-4260-AEA9-D1E8D2B68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4B635-8FE4-4A09-8B40-7F6E0E96B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26B92A-BB73-427A-87EC-A3353D999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EE7FC-DDE3-47FE-8666-74968981F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4BBF-4ECF-4BD3-B80A-14DAE6A01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9C763-F9E0-455E-8BB6-AE99E31D3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E3C73-ED15-4C87-A7C7-890BF49C2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96CA9-C1C1-44C3-9477-15700FE17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DCE8CD-3670-4998-8E6C-B1EAB4C060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3C0D5A-9ABC-4DEC-9862-66D0AE3EEA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8DBBE-E043-43A6-B93B-D5640192C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37D7-44EB-4733-8E31-38BF4C489F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C025-2A8E-4767-93DF-4ED30814E9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536F-F8C8-470C-9BC0-3DB6D3634C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9D4E-2ECC-43D7-B105-00F18A681D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E068-4F48-4296-A71E-0C7A3085D6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AE0C-47E2-4CDF-99D2-292D787AF2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58B7-ED57-474A-BC81-71D585168F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19520" y="1676520"/>
            <a:ext cx="5943600" cy="4343400"/>
          </a:xfrm>
          <a:prstGeom prst="rect">
            <a:avLst/>
          </a:prstGeom>
          <a:ln w="0">
            <a:noFill/>
          </a:ln>
        </p:spPr>
      </p:pic>
      <p:sp>
        <p:nvSpPr>
          <p:cNvPr id="414" name="PlaceHolder 1"/>
          <p:cNvSpPr>
            <a:spLocks noGrp="1"/>
          </p:cNvSpPr>
          <p:nvPr>
            <p:ph/>
          </p:nvPr>
        </p:nvSpPr>
        <p:spPr>
          <a:xfrm>
            <a:off x="2743200" y="1600200"/>
            <a:ext cx="601992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ke Thompson</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12408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9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1344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4df"/>
                </a:solidFill>
                <a:latin typeface="Arial"/>
              </a:rPr>
              <a:t>If you like fired then you will be sent to the 2</a:t>
            </a:r>
            <a:r>
              <a:rPr b="0" lang="en-US" sz="3200" spc="-1" strike="noStrike" baseline="30000">
                <a:solidFill>
                  <a:srgbClr val="1344df"/>
                </a:solidFill>
                <a:latin typeface="Arial"/>
              </a:rPr>
              <a:t>nd</a:t>
            </a:r>
            <a:r>
              <a:rPr b="0" lang="en-US" sz="3200" spc="-1" strike="noStrike">
                <a:solidFill>
                  <a:srgbClr val="1344df"/>
                </a:solidFill>
                <a:latin typeface="Arial"/>
              </a:rPr>
              <a:t> level of hell the </a:t>
            </a:r>
            <a:r>
              <a:rPr b="1" lang="en-US" sz="3200" spc="-1" strike="noStrike">
                <a:solidFill>
                  <a:srgbClr val="1344df"/>
                </a:solidFill>
                <a:latin typeface="Arial"/>
              </a:rPr>
              <a:t>HOTTEST. For the punishment a lot of your things will burn then eventually you will be burned.</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is I like this punishment. The burning of the body is harsh but they could of killed someone by burning the persons house.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a:off x="3581280" y="1676520"/>
            <a:ext cx="4572000" cy="3429000"/>
          </a:xfrm>
          <a:prstGeom prst="rect">
            <a:avLst/>
          </a:prstGeom>
          <a:ln w="0">
            <a:noFill/>
          </a:ln>
        </p:spPr>
      </p:pic>
      <p:pic>
        <p:nvPicPr>
          <p:cNvPr id="468" name="" descr=""/>
          <p:cNvPicPr/>
          <p:nvPr/>
        </p:nvPicPr>
        <p:blipFill>
          <a:blip r:embed="rId2"/>
          <a:stretch/>
        </p:blipFill>
        <p:spPr>
          <a:xfrm>
            <a:off x="3048120" y="525780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422"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you use a gun against some one then you will be sent to the worst layer of hel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drug deal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robb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Justin Stoler</a:t>
            </a:r>
            <a:endParaRPr b="0" lang="en-US" sz="3200" spc="-1" strike="noStrike">
              <a:solidFill>
                <a:srgbClr val="000000"/>
              </a:solidFill>
              <a:latin typeface="Arial"/>
            </a:endParaRPr>
          </a:p>
        </p:txBody>
      </p:sp>
      <p:sp>
        <p:nvSpPr>
          <p:cNvPr id="471"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2"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forced to shoot an target that is a mile away. And if you don’t hit the target then you will DIE. You will never be seen on the face of the earth again.</a:t>
            </a:r>
            <a:endParaRPr b="0" lang="en-US" sz="3200" spc="-1" strike="noStrike">
              <a:solidFill>
                <a:srgbClr val="000000"/>
              </a:solidFill>
              <a:latin typeface="Arial"/>
            </a:endParaRPr>
          </a:p>
        </p:txBody>
      </p:sp>
      <p:sp>
        <p:nvSpPr>
          <p:cNvPr id="476"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7"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8"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y reaction to the punishment of leaving the world is I agree that they should be gone. They killed someone so why should they be in hell when they should just be gon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81"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RE IS NO WAY OUT AHAHAHAH!!!!</a:t>
            </a: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pic>
        <p:nvPicPr>
          <p:cNvPr id="486" name="" descr=""/>
          <p:cNvPicPr/>
          <p:nvPr/>
        </p:nvPicPr>
        <p:blipFill>
          <a:blip r:embed="rId1"/>
          <a:stretch/>
        </p:blipFill>
        <p:spPr>
          <a:xfrm>
            <a:off x="2800440" y="3048120"/>
            <a:ext cx="6343560" cy="3171600"/>
          </a:xfrm>
          <a:prstGeom prst="rect">
            <a:avLst/>
          </a:prstGeom>
          <a:ln w="0">
            <a:noFill/>
          </a:ln>
        </p:spPr>
      </p:pic>
      <p:pic>
        <p:nvPicPr>
          <p:cNvPr id="487" name="" descr=""/>
          <p:cNvPicPr/>
          <p:nvPr/>
        </p:nvPicPr>
        <p:blipFill>
          <a:blip r:embed="rId2"/>
          <a:stretch/>
        </p:blipFill>
        <p:spPr>
          <a:xfrm>
            <a:off x="2819520" y="5867280"/>
            <a:ext cx="30456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90" fill="hold"/>
                                        <p:tgtEl>
                                          <p:spTgt spid="4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666880" y="1447920"/>
            <a:ext cx="6477120" cy="480060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tiger w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ger woods is my guide. He is not married any more.. He has 33 girl friends 15 kids. Also he has a lot of money but he cheated on his wife so that’s why he is in hell.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19160" y="1447920"/>
            <a:ext cx="6019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ey my name is mike. I am a sophomore at North Penn high school. I play football, hunt, bike and chill with friend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7" name="" descr=""/>
          <p:cNvPicPr/>
          <p:nvPr/>
        </p:nvPicPr>
        <p:blipFill>
          <a:blip r:embed="rId3"/>
          <a:stretch/>
        </p:blipFill>
        <p:spPr>
          <a:xfrm>
            <a:off x="4114800" y="2057400"/>
            <a:ext cx="2857680" cy="2771640"/>
          </a:xfrm>
          <a:prstGeom prst="rect">
            <a:avLst/>
          </a:prstGeom>
          <a:ln w="0">
            <a:noFill/>
          </a:ln>
        </p:spPr>
      </p:pic>
      <p:pic>
        <p:nvPicPr>
          <p:cNvPr id="428" name="" descr=""/>
          <p:cNvPicPr/>
          <p:nvPr/>
        </p:nvPicPr>
        <p:blipFill>
          <a:blip r:embed="rId4"/>
          <a:stretch/>
        </p:blipFill>
        <p:spPr>
          <a:xfrm>
            <a:off x="30481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0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895480" y="1447920"/>
            <a:ext cx="5486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If you eat fat foods you will be on this level of hell. People that are a tab overweight w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1)Joe Wind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2) Biggie Sm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3) An elephan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o eat all healthy food. No fat food like burgers, fries, ice cream, and pies. All they can have is fruit,  fat free ice cream no sugar, everything fat free</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wouldn’t like this way because I like some fat food. Now I will only eat some fat food. But also I think this might be good for over size people because they need to be healthy and not over weight.</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3581280" y="1981080"/>
            <a:ext cx="4381560" cy="3286080"/>
          </a:xfrm>
          <a:prstGeom prst="rect">
            <a:avLst/>
          </a:prstGeom>
          <a:ln w="0">
            <a:noFill/>
          </a:ln>
        </p:spPr>
      </p:pic>
      <p:pic>
        <p:nvPicPr>
          <p:cNvPr id="448" name="" descr=""/>
          <p:cNvPicPr/>
          <p:nvPr/>
        </p:nvPicPr>
        <p:blipFill>
          <a:blip r:embed="rId4"/>
          <a:stretch/>
        </p:blipFill>
        <p:spPr>
          <a:xfrm>
            <a:off x="3048120" y="5257800"/>
            <a:ext cx="30456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74"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set fires to peoples houses or to other peoples thing you will be sent to the 2nd level of hell.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Mike Fink</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Carl Carve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ler Greenleaf</a:t>
            </a:r>
            <a:endParaRPr b="0" lang="en-US" sz="32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5:36:15Z</dcterms:modified>
  <cp:revision>46</cp:revision>
  <dc:subject/>
  <dc:title>Dante’s Inferno</dc:title>
</cp:coreProperties>
</file>