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579B-56BD-4C19-8C5B-0247DA025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7FCC-0FC3-4B9D-83F0-35C90AB2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65A9B-708E-475B-AF99-1429FB76E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536E6-012E-4BC4-AA32-F5AF6D1C4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49207-2564-4797-9C3F-D787DED54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06556-8DBB-4589-B3AB-13BB2F0AA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AF3C2-6994-49FC-9333-3ABEF4F64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A9212-219D-4450-BF7E-AD0FCF057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0196F-B321-4586-BEE0-8D4A78E1B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E1F1-3203-46FA-8369-A5503399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DAC4E-8002-427F-8DA4-931C6BDE9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17C97-0A42-4587-B498-C41BDC603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0D1F-77C9-4D5A-9A14-189B0159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48B26-E5F6-4F2E-ADE2-E94D6A4CA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526B6-D5F5-4340-890A-2A95BE05A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E9A86-7117-45AC-BC43-8C203D2D1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E83B6-8E23-41D4-844F-F65A4EA1F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0BFD38-A72F-4E39-8E4A-E3A83EEF0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C0B37-CEDC-4BCD-B8A3-FA985E220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937B7-7C42-4A1B-988B-77CE5AF6A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88BEC-2394-4C6E-AFD4-711C45C15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9CF85-DBE6-4DDA-B819-702370DF6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E4F8-A72B-4FE3-B8C9-662A3179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CA974-D3F1-447A-8AB0-92D0B2B8F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054C0-5794-4D5A-81C7-F64449B29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38960-0FBA-4ED3-BE29-39316FC73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B61A1-0CEE-4A07-9779-3F19F85A3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55C14-1E9B-4654-84E9-4FA02F4F2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F4C4E7-0215-4CBA-8509-D57AA402F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D44008-0087-4606-B3E9-D750A61CE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C7473F-E5D5-42CF-B867-78BD67A61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40E34-DF0D-41AB-82DD-52CFC8A88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FEC4E-ABF4-4549-82D9-A65E9527B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84863-3B58-47B0-B37A-B1EDAB3A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C4105-D320-42CB-AF8F-481D261A5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67E6F-6CFA-48EC-90E0-BF0EFB232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4DA51-F698-4120-93E6-A93E1CB9F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3FFEB-5FD9-46B2-AA3B-42A2BBF17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4ECF-9B4B-493E-843E-206895293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2201D-884F-4094-8452-F26CE092D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22A82-6F53-4160-B0A2-FA3B005A3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11AF8E-8104-4CCF-93F3-516ECB3CF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034739-1927-4BB6-956C-3337A7F65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227E21-E682-405E-972F-F76C93C14F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9BE67-A25C-4B74-B686-5E1CB6B0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A42AD4-C382-441F-9657-706AE8ABC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F2E82-0E2F-4DA7-8405-B8ADDC221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96380-9498-43EA-BD7A-2C148815E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AC02E5-780A-4CDC-977E-B9980C0E7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925D6-5415-4117-86EF-8DEE40359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19C53-CC92-4CCF-9ADB-72445202C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700F5-427F-45EF-A602-32A721169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5F863-7DC8-49C3-B495-4F5A96676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517BF-E7F3-48AA-A5A6-C36896B03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350BA5-4CCE-4BB9-AC06-418F4B972F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9606-6C20-4C99-9542-EBE15E817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ADAE5-70AA-4458-BDA5-FA98B99EB0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CCA88-6DDC-4DC9-8ACF-64E419787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87327-3C9A-480B-96E1-F6D97AE4F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F334F-7139-4BBE-B646-4DBA837F3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C17CF-4876-47AD-8469-799601F65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94F0E-359C-4D3F-9476-CE79638A9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D5FE6-F09A-45C2-9BD5-F6AFFFCADF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35445-10BD-4D0C-BBD4-BF92DA900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81E5C-CBD4-4F5C-985B-CC323728C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BC799-C0A2-43EA-9C3B-D67EDABF1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1A53-108D-48CF-B1AE-30C0D80F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759BA3-CBF3-4DA5-957D-71871F4D1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39200-D328-4157-B725-F9386049A3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A95FF4-5976-4D0A-90E9-D21DE14F74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A0AA14-E5F3-4057-968A-F23B15DEC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5E7D4B-E359-44E3-B633-9BF3FA4ED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DB50F-10DF-4135-A43A-F578042BC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426FC-A342-4ADF-B770-73A97FA27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8A313-7504-48B3-B554-B53086521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D23A2-9BE4-48FA-9888-267671FBF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E1883-B9BF-4E31-B200-8E87D39BF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202E3-052F-4875-ADB0-5F49460F5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1AEDA-FC7A-4FCA-A420-99C133458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63B9B-837A-4A57-A23A-8B7689C9D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F2695-2D5C-4000-BD97-84E2BDF810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273418-753C-4C83-A4FE-14207A0C3E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498175-B47A-4398-A857-3CB10FD52E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73D05-148C-4163-9A23-226E6089C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52B3-0503-4860-ACD5-D48BBC7400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87BC-0179-4879-B766-B8DA7831D6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3795-E791-444D-AE07-5FE472569A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E793-D0C8-4100-9689-B0CAC4FBE4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6B9A-10E6-4838-844D-F767FF9988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100A-8664-4E36-8B2F-55F5DDF143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6681-FE87-4E22-B394-E8E24184B1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19520" y="1676520"/>
            <a:ext cx="5943600" cy="4343400"/>
          </a:xfrm>
          <a:prstGeom prst="rect">
            <a:avLst/>
          </a:prstGeom>
          <a:ln w="0">
            <a:noFill/>
          </a:ln>
        </p:spPr>
      </p:pic>
      <p:sp>
        <p:nvSpPr>
          <p:cNvPr id="414" name="PlaceHolder 1"/>
          <p:cNvSpPr>
            <a:spLocks noGrp="1"/>
          </p:cNvSpPr>
          <p:nvPr>
            <p:ph/>
          </p:nvPr>
        </p:nvSpPr>
        <p:spPr>
          <a:xfrm>
            <a:off x="2743200" y="1600200"/>
            <a:ext cx="601992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ke Thompson</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12408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9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1344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4df"/>
                </a:solidFill>
                <a:latin typeface="Arial"/>
              </a:rPr>
              <a:t>If you like fired then you will be sent to the 2</a:t>
            </a:r>
            <a:r>
              <a:rPr b="0" lang="en-US" sz="3200" spc="-1" strike="noStrike" baseline="30000">
                <a:solidFill>
                  <a:srgbClr val="1344df"/>
                </a:solidFill>
                <a:latin typeface="Arial"/>
              </a:rPr>
              <a:t>nd</a:t>
            </a:r>
            <a:r>
              <a:rPr b="0" lang="en-US" sz="3200" spc="-1" strike="noStrike">
                <a:solidFill>
                  <a:srgbClr val="1344df"/>
                </a:solidFill>
                <a:latin typeface="Arial"/>
              </a:rPr>
              <a:t> level of hell the </a:t>
            </a:r>
            <a:r>
              <a:rPr b="1" lang="en-US" sz="3200" spc="-1" strike="noStrike">
                <a:solidFill>
                  <a:srgbClr val="1344df"/>
                </a:solidFill>
                <a:latin typeface="Arial"/>
              </a:rPr>
              <a:t>HOTTEST. For the punishment a lot of your things will burn then eventually you will be burned.</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is I like this punishment. The burning of the body is harsh but they could of killed someone by burning the persons house.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a:off x="3581280" y="1676520"/>
            <a:ext cx="4572000" cy="3429000"/>
          </a:xfrm>
          <a:prstGeom prst="rect">
            <a:avLst/>
          </a:prstGeom>
          <a:ln w="0">
            <a:noFill/>
          </a:ln>
        </p:spPr>
      </p:pic>
      <p:pic>
        <p:nvPicPr>
          <p:cNvPr id="468" name="" descr=""/>
          <p:cNvPicPr/>
          <p:nvPr/>
        </p:nvPicPr>
        <p:blipFill>
          <a:blip r:embed="rId2"/>
          <a:stretch/>
        </p:blipFill>
        <p:spPr>
          <a:xfrm>
            <a:off x="3048120" y="525780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422"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you use a gun against some one then you will be sent to the worst layer of hel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drug deal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robb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Justin Stoler</a:t>
            </a:r>
            <a:endParaRPr b="0" lang="en-US" sz="3200" spc="-1" strike="noStrike">
              <a:solidFill>
                <a:srgbClr val="000000"/>
              </a:solidFill>
              <a:latin typeface="Arial"/>
            </a:endParaRPr>
          </a:p>
        </p:txBody>
      </p:sp>
      <p:sp>
        <p:nvSpPr>
          <p:cNvPr id="471"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2"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forced to shoot an target that is a mile away. And if you don’t hit the target then you will DIE. You will never be seen on the face of the earth again.</a:t>
            </a:r>
            <a:endParaRPr b="0" lang="en-US" sz="3200" spc="-1" strike="noStrike">
              <a:solidFill>
                <a:srgbClr val="000000"/>
              </a:solidFill>
              <a:latin typeface="Arial"/>
            </a:endParaRPr>
          </a:p>
        </p:txBody>
      </p:sp>
      <p:sp>
        <p:nvSpPr>
          <p:cNvPr id="476"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7"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8"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y reaction to the punishment of leaving the world is I agree that they should be gone. They killed someone so why should they be in hell when they should just be gon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81"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RE IS NO WAY OUT AHAHAHAH!!!!</a:t>
            </a: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pic>
        <p:nvPicPr>
          <p:cNvPr id="486" name="" descr=""/>
          <p:cNvPicPr/>
          <p:nvPr/>
        </p:nvPicPr>
        <p:blipFill>
          <a:blip r:embed="rId1"/>
          <a:stretch/>
        </p:blipFill>
        <p:spPr>
          <a:xfrm>
            <a:off x="2800440" y="3048120"/>
            <a:ext cx="6343560" cy="3171600"/>
          </a:xfrm>
          <a:prstGeom prst="rect">
            <a:avLst/>
          </a:prstGeom>
          <a:ln w="0">
            <a:noFill/>
          </a:ln>
        </p:spPr>
      </p:pic>
      <p:pic>
        <p:nvPicPr>
          <p:cNvPr id="487" name="" descr=""/>
          <p:cNvPicPr/>
          <p:nvPr/>
        </p:nvPicPr>
        <p:blipFill>
          <a:blip r:embed="rId2"/>
          <a:stretch/>
        </p:blipFill>
        <p:spPr>
          <a:xfrm>
            <a:off x="2819520" y="5867280"/>
            <a:ext cx="30456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90" fill="hold"/>
                                        <p:tgtEl>
                                          <p:spTgt spid="4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666880" y="1447920"/>
            <a:ext cx="6477120" cy="480060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tiger w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ger woods is my guide. He is not married any more.. He has 33 girl friends 15 kids. Also he has a lot of money but he cheated on his wife so that’s why he is in hell.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19160" y="1447920"/>
            <a:ext cx="6019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ey my name is mike. I am a sophomore at North Penn high school. I play football, hunt, bike and chill with friend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7" name="" descr=""/>
          <p:cNvPicPr/>
          <p:nvPr/>
        </p:nvPicPr>
        <p:blipFill>
          <a:blip r:embed="rId3"/>
          <a:stretch/>
        </p:blipFill>
        <p:spPr>
          <a:xfrm>
            <a:off x="4114800" y="2057400"/>
            <a:ext cx="2857680" cy="2771640"/>
          </a:xfrm>
          <a:prstGeom prst="rect">
            <a:avLst/>
          </a:prstGeom>
          <a:ln w="0">
            <a:noFill/>
          </a:ln>
        </p:spPr>
      </p:pic>
      <p:pic>
        <p:nvPicPr>
          <p:cNvPr id="428" name="" descr=""/>
          <p:cNvPicPr/>
          <p:nvPr/>
        </p:nvPicPr>
        <p:blipFill>
          <a:blip r:embed="rId4"/>
          <a:stretch/>
        </p:blipFill>
        <p:spPr>
          <a:xfrm>
            <a:off x="30481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0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895480" y="1447920"/>
            <a:ext cx="5486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If you eat fat foods you will be on this level of hell. People that are a tab overweight w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1)Joe Wind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2) Biggie Sm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3) An elephan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o eat all healthy food. No fat food like burgers, fries, ice cream, and pies. All they can have is fruit,  fat free ice cream no sugar, everything fat free</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wouldn’t like this way because I like some fat food. Now I will only eat some fat food. But also I think this might be good for over size people because they need to be healthy and not over weight.</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3581280" y="1981080"/>
            <a:ext cx="4381560" cy="3286080"/>
          </a:xfrm>
          <a:prstGeom prst="rect">
            <a:avLst/>
          </a:prstGeom>
          <a:ln w="0">
            <a:noFill/>
          </a:ln>
        </p:spPr>
      </p:pic>
      <p:pic>
        <p:nvPicPr>
          <p:cNvPr id="448" name="" descr=""/>
          <p:cNvPicPr/>
          <p:nvPr/>
        </p:nvPicPr>
        <p:blipFill>
          <a:blip r:embed="rId4"/>
          <a:stretch/>
        </p:blipFill>
        <p:spPr>
          <a:xfrm>
            <a:off x="3048120" y="5257800"/>
            <a:ext cx="30456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74"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set fires to peoples houses or to other peoples thing you will be sent to the 2nd level of hell.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Mike Fink</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Carl Carve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ler Greenleaf</a:t>
            </a:r>
            <a:endParaRPr b="0" lang="en-US" sz="32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5:36:15Z</dcterms:modified>
  <cp:revision>46</cp:revision>
  <dc:subject/>
  <dc:title>Dante’s Inferno</dc:title>
</cp:coreProperties>
</file>