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439-6FBD-44F6-B50C-CBE08D7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C52-0973-49CF-BAD6-9D72944C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883-2AC0-4996-AD85-0E07451B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122-E2EB-46D4-B734-7879E64D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CEA5-AD9C-4786-822B-6D0FAB18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BDFE-1645-4217-806B-C564DA76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C51-BADC-40EA-ACB3-6435C9FE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5398-A183-4CAC-8902-536DD99F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3A4D-597E-4816-9F6B-9C83152C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900E-DE6A-45CA-B749-3C35A7C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FCD-AAA3-4A00-A5E3-0C59B0BE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BD5-39DD-4260-9BA5-6D35A03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C879-4110-47A3-B336-A437827B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B1D-8B7A-4979-8A0C-AF0D5BF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8EFA-3F8A-42C6-9EE2-08DABF77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2AE-3FB5-498C-8007-AF674F54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7E6F-225B-4DDB-9AA9-51E79873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5AC8-653C-49C2-9EC8-FF364B06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91F9-2D5E-409D-B49F-2112875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C859-94AD-487C-BE66-14CF1A69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4B74-26A2-42F6-955E-D8F9080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E244-DAD9-4649-BB97-FF4AFC7B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7D9-82C6-41FE-9AA2-96DA5A9A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1886-A3CC-4F6C-A50B-4BDCF8CE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A926-1989-4EC3-8260-13C15108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815D-B41E-42F9-BBEA-633DCD1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080E-3AEB-425F-AAD8-58952BF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C965-5BD6-44AC-B9E4-A069AEA9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84EA-E892-4347-B201-F346F780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908F-1845-4544-9D8C-8455756C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30BA-03E9-463A-958A-A9BA3BF1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BCDE-2CF6-4897-9420-E25B37D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5182-BDCE-4E9C-A919-5EF1679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994-072C-43A5-938F-0252E81E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1435-81AA-4465-B371-EECAF84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79AD-500D-4711-AACA-8410F184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68A8-C9DB-47AA-B75F-7B070CD3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5A6B-7AC1-4CCF-A435-9CF90AE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4717-FE61-42ED-BC40-8B89DE9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505F-C56F-4532-863B-AB934B1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9C51-FC7E-4D2A-AB12-77DEA82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8590-B1AE-4749-8A14-79B79F16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22CF-3BB6-4533-9898-A7F3E22D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8D85-DC6E-4482-A825-E8FB8376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CB1-0A84-46DD-A1D2-35257347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2E1D-C1C0-4219-8DAA-D777EFEE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65D3-AB8E-4CEA-BACE-AF738791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1417-88CD-401A-92ED-A373D4D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BAB04-A3DF-4105-85D8-8BC173E4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9612-88D1-4EDA-8EFC-E8CDDB76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088AE-E671-439A-9F94-DB00B46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10D9-38C4-45F4-8F23-0A34CA7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E357-B43C-4F84-A0BD-5471C12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C028-1C9D-4D2B-A51E-0DE6EFEE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10B9-8DC4-4A35-8E26-563CD075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4D2-478D-46EA-B471-D872B45D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FB83-BBE9-4ABC-A744-9A7F803A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DF67A-7BC5-415B-B3ED-22DD5FC5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EFDB-771E-41A7-9551-7433908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9496-5251-4073-9E0E-9F1454F3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DB14-406F-449A-8BD9-E0B4FCA0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A7DE-B6F4-443D-94CB-C2991CBC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09A66-3C9A-4C94-8749-7A53CE8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D961-2078-460E-8C4C-3968760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6798-B410-441C-A8D9-E38909F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FAE4-7783-4853-9606-F756C87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F11-0EB2-402F-9930-EF550CB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39C5-9198-4CF0-9AB7-B5AC2BE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2245-4AA3-4E13-835C-05F2BA0B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50F5-A1C5-4C57-8903-A1206AF3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72AB-17FE-4CAF-A3EC-146944C0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D49D-1D25-4F59-BF38-B77EBE86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3491-7C7B-4BA6-86C3-669DF5E1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F862-9CC5-4EC8-B369-EB5DF96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D8BC6-6290-484D-9BA9-5D59D04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2875-5BC9-43EF-A73C-045B86A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A256-2A88-412C-A017-12070C2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BCD-D188-4CC5-9D9A-08A6F9E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52DA-8EB2-4A74-B7DF-6265418B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AB4C7-9185-4512-94B6-3CADC1E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2ACD-733C-433B-80AB-B1ABD81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FD86-5818-403A-A4CC-25C1A51A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DBE07-BC96-4413-B488-89565427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877-9BC9-455A-8AC3-C132981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944-B163-4D9D-B03E-31FBE5556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20E-C836-4E75-9416-52AF5EBDA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9FA-965B-44C7-80D9-B09B900EB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EBB-BBB0-4336-85A9-03B44203F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648-85B1-44F1-86E5-1026AFE98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7BBB-BAFD-40FB-8A9E-FF2BB52B3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3EA-7B32-473E-BE61-B5C1333BE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thony Rivel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6019920" cy="39621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0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y have to watch all their money ,homes, and cars slowly burn in front of them and they can not do anything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what they deserve because they have taken so much from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2438280"/>
            <a:ext cx="60199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s is for people how teaches people to hat a person because of how they are. Some of the people her are hitler, mussolini, T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are repeatedly told their wrongs and suffer excruciating pain. The reason for this is the are feeling the pain they cussed for thous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t is grate that they are hear suffering for what they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I learned that eating to much all the time can get you sent down to the underworld as weal as make you unhealthy. It is a good thing I do not eat a lot of food. The second level of hell is steeling money from the poor. To prevent this I will not become part of the government. The last level is influencing people to do bad things. I would never d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first James Bond 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 your guide on this long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ngerous path thru hell. H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en trained by her majesties sec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vice. The reason he is hear is 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d not belong to the Christian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509840" cy="2133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9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go to North Penn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ool. I’m in the Air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ROTC.  Plane to go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nn Stat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1911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53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809880" y="1752480"/>
            <a:ext cx="4191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1447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ating more then your share of food for as long as you live. Some of the people hear are Fat Bustard, World heaviest man, worlds heaviest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are always hungry But can never eat any of the food that is around them. It is fitting because the always ate more the they should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good and it is also irony that those how always ate more then their share now can not eat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eeling money from the poor. Some people that would be hear are congress, state representatives, and government in i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29Z</dcterms:modified>
  <cp:revision>42</cp:revision>
  <dc:subject/>
  <dc:title>Dante’s Inferno</dc:title>
</cp:coreProperties>
</file>