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E60-7CD6-4161-B7DC-AA543829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D40-ACE9-4059-B1C5-5DCEA89F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54F-CFF7-4319-BA4C-5B325E70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2CF-D1B2-4D3D-91E3-485286C4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BC43-2B02-445F-935B-C03DA586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2883-FB17-46CA-B085-0BD107CB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0383-A84C-4238-AC6E-7BEA75A1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81D6-C0E3-46A7-9424-5157288D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7F63-D7AC-43FA-9A9E-7D101A4C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2282-C700-4F39-9639-0978F603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D213-7F62-4568-9E34-D1F95023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CB2-CBC6-4231-A1E1-B2DB82B5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E858-9377-4A96-910C-10F76373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32A2-6CDA-4125-A3F4-DEFF2135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B182-04DD-44DD-A676-7688CE51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CEAD-54AE-4157-83BF-DD6187AF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69E4-5F66-4CAD-865A-9B7EEBA0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23A79-B3B8-421E-9BD5-12566632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2B209-BDEE-4E35-BB0B-89927DE6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D29C7-0CCB-4325-90F8-B35F4019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F4E5E-E96B-4ABC-9B2C-41C45E5D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DB86B-B59D-4656-A4DA-2B41B343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188-2A1D-454B-BBA6-DCC7130B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AA6CC-935F-406E-ACDF-5694EC96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306C6-D9AF-40DE-9DE0-A65DAA0A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F385-28C7-4AC7-9A2A-E187B97E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BB7BC-8ACD-4BD9-A0C6-406D2480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8D897-3209-46BB-A47B-AD2820E5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AD85F-943E-41FF-BB50-5E59B620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41332-2EB1-41BD-BB99-C2D25A8F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776E8-C38B-4F5F-9F89-CAE665CF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716D8-D53C-4472-A793-25C5D2AC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B4FD3-9844-4268-A9C1-000F0D5E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848-01DE-4ADE-8E8C-F7D9A6C4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54ACB-D420-4728-96C0-3816C7D9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ABC41-6759-46DA-8353-97453F72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2EE96-F0EE-4900-B32F-1FDD236A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CF009-D3DA-4CCE-903E-D5A7073D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5E210-9BDC-4BF4-A4DE-AB01D4DA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7186F-C064-4987-8572-F3C208A7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B26B3-1038-4C7A-99C2-EDFB5516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B8378-8E17-48C0-A9DB-2611365A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DCE3F-E40F-4E73-9C32-C54E7FEB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B4C90-965E-4EBA-874E-B74A58ED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3CD-1B7B-482D-9A82-28AA8E4E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427B0-5233-4293-A329-63CC1FC3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3B4C3-84AC-4B82-A384-EF20DC63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B2EBC-E325-4D0A-B613-9BC147A0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1CE4A-CBA1-4560-B2DC-12B2FC33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B00C2-9AF5-4CC6-9902-8A3FDB92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48EDD-5CAE-4BBB-8179-E2A9A336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2D741-3BA7-4E81-95D7-F3B94FD8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D7E9C-8619-45F3-8239-A098ABC2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31807-F7C2-4904-9475-DC892801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A9DDD-0125-4FA7-B3A1-8BCD13E0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870-B8B2-4D6E-AA23-B448FE62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389CF-4261-4BDE-8200-FD0BD995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69187-B4B1-47F5-AB5E-294EA820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4C647-AA30-4E86-8841-363CCEC7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9E592-3D42-4B6A-8E7D-5B29B694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E55CE-1014-4306-BD64-D8412B6B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AE42E-4689-4B3E-BE1A-CB7FD303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B50EB-5138-4AAC-AF16-BBE07E7A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02A6A-445F-4F14-9AA3-4E58E92F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BD565-6940-4BC8-AB6D-2515C5FC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C09FB-CE87-4F5D-80BC-A5D8F3AA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BF1-84D4-4D88-8DF1-CCA99929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F661A-8196-47CD-AFD5-80798E65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B039B-DD4A-4FB9-9567-BB00F0D8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C1BCC-54A4-4A21-A46A-7B6CA7D7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BE07F-1325-4FEB-ADCE-A2C667EE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3BEC3-F835-4EFB-AA7D-AAF0AECD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C7D3B-FFFC-48F1-AC89-138E2318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191B1-20E9-43EE-97AF-7A5D2667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F57B9-7FAD-463C-9D62-8B60C81A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62D51-241A-4FAD-AB03-ABDEDE40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EC912-6E3D-43A0-BA28-3204E764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694-7E1E-4719-9347-D4C65154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15617-A7C6-4227-B1C2-83DB0098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AE4FF-19B4-4E91-88E8-C6458FAF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87B64-846D-4BBB-BE36-1E1AD6E7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87182-6F08-47D5-9717-77CF632A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AA6FE-17E3-455D-AEA7-23375133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60A-F172-49F1-A8D6-A260CB50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D58D-DA6F-4CDF-9074-2ACF89A9D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97A9-AA55-4177-821A-054021B1A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3C79-AC51-4A8E-A53F-6B1D2B78F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FCA2-30CD-4BC1-9C48-E1DDE5D09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4563-5133-4B68-85D0-FAB54B595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E5D1-03C3-446C-B167-7CF9FE171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07F7-4D60-4E08-A522-DD9B3B0D4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thony Rivell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6019920" cy="39621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1911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90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ey have to watch all their money ,homes, and cars slowly burn in front of them and they can not do anything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s is what they deserve because they have taken so much from oth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95480" y="2438280"/>
            <a:ext cx="60199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is is for people how teaches people to hat a person because of how they are. Some of the people her are hitler, mussolini, T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e are repeatedly told their wrongs and suffer excruciating pain. The reason for this is the are feeling the pain they cussed for thous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t is grate that they are hear suffering for what they ha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I learned that eating to much all the time can get you sent down to the underworld as weal as make you unhealthy. It is a good thing I do not eat a lot of food. The second level of hell is steeling money from the poor. To prevent this I will not become part of the government. The last level is influencing people to do bad things. I would never do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first James Bond  wi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 your guide on this long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angerous path thru hell. He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en trained by her majesties secr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rvice. The reason he is hear is 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d not belong to the Christian chu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1509840" cy="21337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43434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99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go to North Penn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hool. I’m in the Air Fo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ROTC.  Plane to go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nn State Univer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1981440" cy="22860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1911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53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3809880" y="1752480"/>
            <a:ext cx="4191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14479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ating more then your share of food for as long as you live. Some of the people hear are Fat Bustard, World heaviest man, worlds heaviest wo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are always hungry But can never eat any of the food that is around them. It is fitting because the always ate more the they should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s is good and it is also irony that those how always ate more then their share now can not eat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3352680" y="17524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eeling money from the poor. Some people that would be hear are congress, state representatives, and government in in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7T14:44:29Z</dcterms:modified>
  <cp:revision>42</cp:revision>
  <dc:subject/>
  <dc:title>Dante’s Inferno</dc:title>
</cp:coreProperties>
</file>