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386-CE80-44DF-ABF5-D1657E96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CFD-B0AB-4ACF-B7EA-B16C2376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BD9-DC8A-4F5A-BBBE-A3F35F6F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E69-AF96-4035-B33D-937178A9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3BC9-214D-4047-AF4C-4C2B5D2B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5E2B-E896-4FEA-B612-17475828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06EF-FB51-47E0-86C6-CFF1D14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507E-F4A0-4009-80C7-069BAE8B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4F52-5DDC-49AE-96A1-E51FDD5F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C357-27D2-4296-84E4-0C49908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A972-84BE-488D-B61D-4167D921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2F1-AD96-4127-BC65-A64ECA00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F2FC-B4D8-4322-A364-4C2E65C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AA0F-AA9E-499D-92C5-FEBCD0C4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A36-E9DD-452E-BE3F-A47448AD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9C95-FFDA-485B-9258-51D85CC4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F6F7-DCF4-4200-A669-4C1F2BF1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C05E-C1E0-445C-AFA7-5C0D1DEC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67DA-B926-40EF-8A80-BDAE8FEE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B37E-0522-48AE-987B-967F04D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C55A-111B-498E-8D0B-0058A42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338F-AFE6-4944-82A4-663B6B1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BAD-5F5F-468F-8D0F-EC376841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199F-EF46-4D3F-A9E9-444D957F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2D95-C475-4AB8-BE46-2325CF19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ED06-0522-4AB4-A365-80FA231C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155A-425E-48A2-A17F-DB9BD3F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C810-1D12-4561-8B62-16D4D9E5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29F3-5033-4C1F-8775-794863FB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3102-10B6-4353-9F61-063A5CB0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BB71-3D57-4C7A-9169-BC1410C9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2FEB-6D6D-425C-B154-6C52B27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C427-4915-430E-BC38-4B4036B2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18F-4B2D-4B19-8F8A-71BE0AAF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4BF9-A7EF-47B4-BD8C-1BE096F4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4324-91CE-420A-936B-53A69AB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4545-B1A8-4C9D-9F98-139B90E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8045-0579-436C-B492-4B8F0AF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C835-A1B9-40C8-8CD3-3EEEFA3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F8A9-DFBA-4D6B-9D6B-CBA443E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7A91-CE14-4AA9-9CE8-DD1103B2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55D1-286A-43C1-93F8-CF148483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7075-3695-43D4-A43C-7F56ACC6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FB40-1248-41A6-AB71-382A57B6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B3E-0008-4376-B659-FED64F89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4B5DB-0631-46A7-AE21-AC68D1EA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D909-545B-4D67-8A87-B68990DE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34FC5-2641-4452-A70F-FD9AE69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79CB0-39F1-4357-A6B8-282474C4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9AF77-425C-49E6-8170-C99EAFB3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48F3-770C-402B-B602-5A7524F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E9BE8-634E-4270-8659-5DB5D706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4CF2-4C00-40AE-9E54-C857FCD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FBA7-F43C-409F-BE5F-283AC2B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C282-E08F-4207-B6D6-ABDFEE0E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F1E-2E77-4AE5-B322-D3FBB59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17D7-86DE-468C-A96C-87A69F10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4A49E-3DCC-4D37-BEAF-E84083B6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6987-A9EB-44FB-8223-6EC19DF6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0E0F1-D193-4AC5-8F1B-8B65AEDF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1BF3-3DFB-4144-B9FF-2C88DCE5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8BC6-94D0-4566-A5B9-0F2EFE9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CA0E5-EFB9-4F45-81CB-6B24C98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E1F2-7F54-428D-B674-C191577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90DBE-1909-4A18-B4B0-0F0C879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13167-0E74-40E5-9486-1E77DE4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3AC-46F8-40C1-A20A-16E6163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00743-9BF7-48B4-838D-D2291CC7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70981-4A5D-4987-9F6F-93D0B624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6AFEE-C8D5-4108-B5FE-5C885CA0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2A2C-4B05-4BD8-88E7-3F683F2A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01D6-8831-4C8C-AFE1-52272E38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0737A-CC0C-4EC3-B9C6-7B3086AF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A623-CA1F-438D-81F5-7623EBEC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E68EB-0947-4E88-B3E5-D8082D85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84317-F689-4715-8704-AECD7CEA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5872-6E6F-4BF9-90D4-1499F56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6D3-1AE8-48A8-BA31-65A12DE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2A694-8460-4A42-BB01-329A9E0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39664-34A9-4EF5-966B-08A4411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F681C-B12C-4631-B88D-403AEFCF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08B3-D052-4D3A-A463-FF88CD8B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D2D91-93E1-4B1D-99AD-B0E3E1FD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A6E-376E-4E9D-A291-99FB4F22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6F9C-1725-4F8D-8CC9-077D6EC5A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82A1-98C9-444A-8196-6D44975CF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30C9-EB7F-4163-BE5C-62BC939D4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8D81-AEC0-4686-B4A5-6D550609E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FA6-6693-474B-A4BC-4F5E496B4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837-3970-4079-9F07-07D593126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551-3C54-419A-AC45-F85223AD7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thony Rivell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6019920" cy="39621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90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y have to watch all their money ,homes, and cars slowly burn in front of them and they can not do anything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what they deserve because they have taken so much from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2438280"/>
            <a:ext cx="60199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s is for people how teaches people to hat a person because of how they are. Some of the people her are hitler, mussolini, T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are repeatedly told their wrongs and suffer excruciating pain. The reason for this is the are feeling the pain they cussed for thous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t is grate that they are hear suffering for what they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I learned that eating to much all the time can get you sent down to the underworld as weal as make you unhealthy. It is a good thing I do not eat a lot of food. The second level of hell is steeling money from the poor. To prevent this I will not become part of the government. The last level is influencing people to do bad things. I would never d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first James Bond 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 your guide on this long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ngerous path thru hell. H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en trained by her majesties secr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vice. The reason he is hear is 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d not belong to the Christian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509840" cy="2133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343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9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go to North Penn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ool. I’m in the Air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ROTC.  Plane to go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nn Stat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981440" cy="2286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1911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53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809880" y="1752480"/>
            <a:ext cx="4191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1447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ating more then your share of food for as long as you live. Some of the people hear are Fat Bustard, World heaviest man, worlds heaviest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are always hungry But can never eat any of the food that is around them. It is fitting because the always ate more the they should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good and it is also irony that those how always ate more then their share now can not eat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eeling money from the poor. Some people that would be hear are congress, state representatives, and government in i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29Z</dcterms:modified>
  <cp:revision>42</cp:revision>
  <dc:subject/>
  <dc:title>Dante’s Inferno</dc:title>
</cp:coreProperties>
</file>