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FB1-0EE2-4441-BA77-3ADBC0FD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ECC-04DE-4974-8CBE-6CA8009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244-58B2-4454-9FDD-9050AC5B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20A-F9D7-44C9-BA87-AC6E1662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DE2A-AEA2-4497-B648-E4BD5C57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1AB0-7A14-459B-97EA-DE84488A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43C3-D185-4C35-A337-EEA9A072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C1D8-E7D5-4E38-8901-5B65850D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775A-8C8A-4E54-9514-48FDDB5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05AD-B16E-4E78-9F74-44F9ED7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139-1FC1-45E3-8574-61CE7D9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05D-4F88-4088-B509-ACF7568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AB8F-9DB4-440D-B61F-38B77BF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C71-93DB-4D29-9EFA-FCB6ACC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7C64-279F-4CF9-A135-2C7FA53E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754-00DD-44ED-A38A-4BF84006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2B0C-9B9A-47CD-897B-FD27C526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9263-0B0C-4031-9B70-9FEA1942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FA13-52A8-4AC1-9199-A6F8048E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4727-19EC-404A-9F9D-0FBB10C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528F-79B1-4B34-BD66-64E68A65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4C81-EA6A-4C49-BA71-2783506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4A5-0828-4ED8-BB01-9908F32F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74FB-02B7-4A7B-969D-C9EE6E4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8B0D-EDD8-4B3E-AB02-241C14B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DEA3-12AC-4250-A88E-0C60A05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4367-ED2E-4BC0-BC8C-EED43DC1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F92C-F042-4992-A6BA-A7A5A917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114F-1298-46BF-853F-80417CA5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156CA-5023-44C3-84B9-A999D0AE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E1FC-55F6-4BBE-9CDB-A3C2E68E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6AEE-706D-4695-B766-430D7DE9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E1D9-B5EF-4B0A-98EF-6927A583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8CC-4703-4800-A5AF-08DE179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587E-32B9-4271-950E-03212702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BFFD-B16B-4687-883B-B5E9D3A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A44A-9A12-435F-B389-AB96F18B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96E2-FC8D-4D32-9430-7C2E07D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9ADD-229A-4CDE-8851-1915112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5A71-25A2-485C-B926-B5F88F1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946A-6099-4A1D-88B9-4D8F26A8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3281-75E8-455F-B288-FA6D27D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5741-B6D8-41EB-8CCC-DA1C480D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D1460-7C64-4743-BD20-11547019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A03-ABBF-4446-9625-A8AF803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7FD7F-BA42-4094-8D9D-27D95A48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28A2-BEA4-41FE-BE4E-5ED77E1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37D71-B94E-4C3E-A38B-C2039356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D75BE-FA31-4593-AD23-D25EE91B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D4DC-C51F-42AB-84F9-B03B46A9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F83C-D178-46B3-A1B2-89ACE7C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0D918-43F9-4FB5-B96F-1064529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51F1A-0495-4F4E-9525-111B0F7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D413-0EE7-4179-84C8-B651A8E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512BD-53F1-47C4-9E9C-9513D808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3A1-1835-4DAF-8047-A80C3220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F17D-1289-486C-A5F9-4AA6B978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233A4-FA2C-4532-A1BC-C25AE317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7D164-92D6-46F4-8BC3-6E193C6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C3D14-70BC-4A74-A36E-E7A9FCA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E3F7-C217-4443-B10E-60757F42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0D2E-470E-4878-9376-2ECBA94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292B1-63CB-408E-AAA4-7D19A3A9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8559A-FA35-495F-8C1E-6550783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D63E2-24B2-4B83-B2FE-3C2F821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54782-7175-4FFE-BDC7-A4EC193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548-8B20-4D18-B5A7-A635A90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A8F3-5E3E-4B84-A2DB-A0DD0E2A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363E4-B50C-4CB4-8DA7-84DDC834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78E9-0A70-43A3-AEF8-362052BD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D46A3-AF92-4BC9-B170-D62306E1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A143-218F-48EF-9B4A-B8ADA1D7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AE9C5-72D6-47C2-8A64-1830FE3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6ED49-7F28-461B-9C67-01F8C8CF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27FC-502A-4AE3-A7B3-D867BC67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9738-9191-47D4-90EA-72536C4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CCB36-48F4-45F0-99F6-CC16C88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636-5BB2-4824-8F9E-42E78A0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C9DF7-DA20-4E6C-A259-7BB9DEEF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BEE33-B100-4584-AEB0-B2459DD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4B2D9-9BBC-4103-AC24-9E8F15CC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D759D-6D42-43C0-88F6-3FF377CD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3171-657C-469C-9B58-05A0F075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16E-4488-4113-B65A-49E753E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5EA-D848-4E1E-9FF6-B8F216015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EF8D-5F32-40AA-94D9-68A9E6647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28C6-3B54-414F-86F0-6C36435C3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17C-2AA7-45BA-8E77-9143E7C92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72A9-A93E-4BA1-B478-4F040AB68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38A-6636-4DE7-9D3C-3BA1AB040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3FB-AA69-489C-B4FC-7152DEFB9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thony Rivel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6019920" cy="39621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1911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90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y have to watch all their money ,homes, and cars slowly burn in front of them and they can not do anything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what they deserve because they have taken so much from oth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2438280"/>
            <a:ext cx="60199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is is for people how teaches people to hat a person because of how they are. Some of the people her are hitler, mussolini, T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are repeatedly told their wrongs and suffer excruciating pain. The reason for this is the are feeling the pain they cussed for thous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t is grate that they are hear suffering for what they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I learned that eating to much all the time can get you sent down to the underworld as weal as make you unhealthy. It is a good thing I do not eat a lot of food. The second level of hell is steeling money from the poor. To prevent this I will not become part of the government. The last level is influencing people to do bad things. I would never do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first James Bond 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 your guide on this long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angerous path thru hell. He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en trained by her majesties secr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rvice. The reason he is hear is 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d not belong to the Christian 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509840" cy="2133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343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99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 go to North Penn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ool. I’m in the Air Fo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ROTC.  Plane to go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nn State Univer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1981440" cy="2286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1911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53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809880" y="1752480"/>
            <a:ext cx="4191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144792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ating more then your share of food for as long as you live. Some of the people hear are Fat Bustard, World heaviest man, worlds heaviest w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are always hungry But can never eat any of the food that is around them. It is fitting because the always ate more the they should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s is good and it is also irony that those how always ate more then their share now can not eat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352680" y="17524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eeling money from the poor. Some people that would be hear are congress, state representatives, and government in i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29Z</dcterms:modified>
  <cp:revision>42</cp:revision>
  <dc:subject/>
  <dc:title>Dante’s Inferno</dc:title>
</cp:coreProperties>
</file>