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41B-2BAF-4F9C-9E5D-28AC7837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266-CEEE-4388-BB5B-D0B20FE9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513-5917-47B4-8D0B-20933BE1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777-7832-492E-B686-C47A6195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CA44-B43A-4B8B-B10C-715A2021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BC73-FD32-4671-9B0D-4ED498CC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0B73-D849-4FA2-A768-AD58EE44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2B2F-C764-492F-B69C-375E46E6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D8EC-81D5-41B1-8CAC-67E744A7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16B3-0295-4BC2-BD14-71B5B10B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8F16-5BA9-4864-A512-D90B34F9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32D-96B3-4D51-9AB9-C1E37BE1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39B8-F972-49D2-9E69-FD0B02BF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4818-51EA-4CC2-8108-7DB45DC2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AC14-6EB1-4825-ADCB-7EC345C0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E6F2-31EB-4D72-8745-50D8036D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9630-2BC7-47B0-A56E-51261F29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8BF8-19B5-4CFF-AFCB-5D1613C3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CCC70-3965-4F4A-A38F-8A0B4C17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E978-85B8-435A-84E9-83CC8229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FC15-4376-4428-9F37-F009FCF1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A10D5-013E-4B5B-832F-050BC65C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ACF-7F0F-4F04-AB48-956C64F8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BB55D-2ED5-481D-A19E-172D2158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98E3B-F95D-41D1-A45F-61CDDD29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90AF5-68F1-4EE1-8D74-5F808180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FA10-1927-423D-9625-C5A49D2B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71E38-627F-4A93-B4C1-1047D4A3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C51B4-0764-4E2E-9119-D85DB737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03C4B-CB64-4872-BA9A-C0EE1964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1D652-773E-4996-8409-FC9AFC94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F1B26-E56A-4F59-8DDF-5CE76173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3EE73-2720-4CF0-AB56-CEA04427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15C-135C-4E97-9F7B-3FE034D1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135EA-642E-4715-81BB-94DCAA5F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CD034-00C1-482C-A6A3-79921445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F2F23-42D7-4F62-A650-3AF57EF7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F4085-57BD-44CF-911D-688C15A1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40761-98CA-4FE3-8D8E-B1A6F781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3C22E-F391-4783-B21F-04D62CB8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B867C-4EC3-4D3F-85CC-2C8CDA9D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D4D26-D988-472F-86BE-1C610224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EFDBE-2727-4F8E-80B5-CB593262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D6281-BAEF-4575-ADBB-B8247DE2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DD3-A49F-4200-B161-BDEE7D6C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280C7-0CD4-4207-9A92-65BF1779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ADD0C-FB9E-4318-A4D5-94C8E471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D677F-CB2C-4202-9FB3-554C8F6B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5161C-B997-4F6B-8EB9-EE1FE9F1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8AD10-5BE2-4C10-9324-3F40515D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645B0-786B-461B-9C79-FFB28331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3D251-3552-418A-98E9-6EA6FC66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11960-4C25-47A2-93D6-D1DE709E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789EB-F80B-493C-9788-61F69E57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94814-2003-4073-9CC4-1CE59B08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580-DBBA-441A-89B6-C730344E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7A6E9-0905-41F4-9A16-58B4F59C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B6D9A-E024-4DDE-A716-507F0AB1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F1F86-9A6E-4D06-80E7-D3E6B289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58BA7-6958-4BEA-A826-6D06B589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6231A-D6BF-455A-99BF-6CD45B28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23467-FBC7-4984-AF97-866232C2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1B1F7-7E53-4539-B7D1-407010A5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ABEF3-5C32-4561-9383-37563B75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C5EF8-0680-45B6-8B54-8E22C9F5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918F6-7434-4A49-812A-652943D1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0A2-E31C-4E36-AEA3-FAAF683E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3FF87-7E42-49E4-A9E8-F1B8BBB9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40F1D-823C-4669-93CC-B655FB67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458C4-9B3D-4946-BBD8-52B2A6F9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AA180-268F-4DB2-B1A2-2C251D3E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5CA8B-D616-4210-89C5-AE5457DF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2D6C2-CDE4-434B-BA5E-FF3038C9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A10B7-E3FC-4853-8E8D-880BDAE7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79392-30D0-4F25-B70F-4188E518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074F6-F8EF-41AD-A84B-5C5EF49A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C0783-FBF8-4216-8183-4504313D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F7B-5174-400C-9843-0CA2C6B6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3E94F-37B3-4088-973A-D739C40A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BF5CB-C8AC-45CF-A261-888481EA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D3994-0744-4793-BA82-B7278CD9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1F7B0-F9E2-46EB-A6B3-A42D56C4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5FF95-B8EA-43AA-9980-7196AF13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95A-951C-44C8-AE87-70F3CFAE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E27E-8212-4388-8A35-6B1AD64E1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F7E2-5980-4454-8804-A76067B5D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6D70-5035-4943-9803-502F61D98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3569-321C-4087-822D-CDCAD3DC0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054D-8E8E-4C29-AA7D-988641DB4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DFE8-11BC-41BD-8AA0-4DA34E538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682E-A1C7-4AB8-9E72-4E88893F9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3-26T17:51:43Z</dcterms:modified>
  <cp:revision>39</cp:revision>
  <dc:subject/>
  <dc:title>Dante’s Inferno</dc:title>
</cp:coreProperties>
</file>