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D76-2467-4BDE-8F2E-CD209027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7D6-5712-437E-B4B6-3D42828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58D-FA42-49BE-933B-E81C2D1D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215-25B3-440E-AD32-191E1AB9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B2F5-F774-4F8E-8F05-24575C0F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959C-C6E5-40CF-9643-35DD602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343B-D4DB-47F7-9824-B2342762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1039-F466-4497-AEB9-7EF009F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963D-4094-4287-B24B-78935CF9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4164-EA11-4A92-99FD-4C4131AA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E592-6CA9-4219-927D-B34B721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E59-338A-43CA-948E-E2BF312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C8AD-0FC1-4FEC-B809-2536764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666C-5F20-4BDC-AA7F-C756413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8B26-5EBE-4641-BB4A-C9F5E506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551E-4B0B-4A12-A620-79F15869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A774-4E69-4000-82C2-A79807AF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A1B1-ECC3-419D-BFBB-74635BFF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0668-CF99-4285-9B83-6C50E9DA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6EB8-9AA8-4D66-955E-D691362B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36F6-53EF-465E-B445-15DBBAE3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8E0A-709F-49B6-BE50-3DF62E7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8EA-6934-4F19-B7EC-8F0054E8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E9BB-50E3-4C24-AC79-F6CCE7F8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BC40-0733-459B-BEDC-7DB7886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B8BC-5B3C-4967-87D5-D981BA4C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20F7-A73D-4FD1-93C1-38D27E1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AB9E-F266-4395-812E-EC0CB8DF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F614-CDC5-4972-8399-B17FCA47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9F8A-F7CC-4881-BEC6-8E2A67E2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D6C09-0F6D-4150-8798-0BDF7E1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88AF-6B50-467D-8C59-73DB0FCB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0661-238E-49CF-9781-96B46ED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6BB-0022-45FC-8F71-76A55452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CD08-C92B-4D5D-95D5-5E05D401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2CC8-48EB-4A43-99CA-A522EE5B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1B7A7-AB0E-4EAF-97D1-8541CEF9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4671-1480-41E7-A5EF-A056666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C314-B5E5-4121-8CB2-6D8E8FF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B451-EFD6-43F3-8B85-7B97A7FC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DA72-2E53-4B6A-B562-780CECA3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BD67-6E3E-486A-9D24-875011A1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91DB-7D02-4240-BD14-761F24ED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E6B6-3542-45A5-A75E-75E65EFF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875-C07D-4364-A2DD-6A6EEF7B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F45C4-5A74-4CE6-AD80-CC21879E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FBE9-D997-4614-A400-B678170F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6172-CF16-400C-8C00-F380836C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89B4-C261-4952-9FE5-74868B4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4628-17D1-457D-A99F-FFB2D09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8EC0-7E63-4398-88CB-8253170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0D85-99BF-4AD0-90D9-8708713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8B6B-2AE6-4D93-B8AC-6E62BC7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7DAC-BB31-413A-B769-17B7EC58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9ACB-DA9C-4880-943A-B7B68C2C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611-41B1-468D-9C35-A9A35586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664C-2A96-45BC-BC9E-35F694DA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D2003-DE21-4699-B8A4-D06409BA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F8E9-AF38-4DB7-A531-2D855522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34238-2DEC-415D-A76E-A0067F06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38A6B-AD7D-483C-8767-E2E74707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E2C0-DFEE-434D-9A75-D350F0E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D9954-C9E2-42AA-B108-0245A3DE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7639-C5AD-49D8-AF81-9021E77A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91376-F852-4E64-8830-1154901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F43C-3FB1-41D2-AD13-518B070F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360-3779-4BA8-961C-37CBC87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A1781-6693-4CF1-937F-4FA10417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5478-82A2-4BC4-921D-6F158BF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D081E-DFFC-41D7-A127-9D820118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E740-0A3C-4629-AA52-0B4D023E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BADCF-4900-4D18-81E2-834FE37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171F9-23E8-433B-B19D-86A16940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B755-93EB-49BF-970B-7661C0A6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CA93-6FF7-410E-9666-E21358D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B06A6-4146-494A-9ECD-8D340F2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8D79-A0F7-4469-A05B-D3B993D2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7B8-1343-4FC1-8832-BE2DDF3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FA9D6-D431-405C-91D6-279216B6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B31DD-6C01-4614-A364-BC42E20D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8A02-E33A-4E32-9D1E-58CE9DAD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1EC4-D641-4C0C-A0DE-06E9BECD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C503E-825B-43F2-9C3A-527E05DC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67B-9D81-416E-9E97-BB1F580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42F-E1A0-4EA1-AD1B-7B5A9BDF4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6680-7575-451E-BC7B-5DD28A6DA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EC9-ED00-4E20-89EA-D3F92D130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4E43-6C3E-41DF-8A8A-88B30A545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1F51-FFAF-4455-BD92-F8BDF19D7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8CEB-F0A3-4DED-B16C-990E38A8C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653A-2DDD-43EE-B3B6-92316C32D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26T17:51:43Z</dcterms:modified>
  <cp:revision>39</cp:revision>
  <dc:subject/>
  <dc:title>Dante’s Inferno</dc:title>
</cp:coreProperties>
</file>