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31B-F194-494B-B608-C7E272E7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ACF-1563-46E7-9202-CD9643DE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42A-361D-4E4B-8D56-1424FFDA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105-A247-439A-89E6-F44B31E4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046D-CDA8-4AA5-A13C-D46982B2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3590-BD5B-42D2-A64A-0EDCD0DC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6F68-76F5-4C49-B8BB-DD973C4B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0695-32B6-44C7-9DB0-E8BFC6AB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D970-DB49-46DE-A621-08A1ACAE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FF45-B758-471A-BADB-15F40C06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97D4-A9E2-4FE1-8028-F5A4E988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5DD-5CFB-44F0-9A9D-90820E4D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A306-1DD3-46EF-B1A7-057274E9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1A54-044E-44AE-B5B3-7E51887E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9E73-6F75-42B4-807C-244D8966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72A9-6CC7-4647-B932-BDD6B6C8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20DF-3BA6-4761-A145-6D21BF79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6FF7-2C5D-4727-B542-A7E61DDC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0BF9-1526-4D88-9102-F5501D1E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4B52-0E30-4546-9A18-931BCF80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5BCD-1084-4A5F-B882-8EBB4F33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C915-29FB-4D0D-968F-A9931310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6C1-C5BA-47F1-816D-162E5E07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CD82-8D27-48D7-94C0-7A7B29C1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E57B-3CE3-4BF5-BE83-A5D95A55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49876-6BA7-47C8-8441-3AB2DAD7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D51B-A213-4A09-8039-4A83D9EB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8D86-50FC-43C8-B390-8098528B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8E9A6-BBE6-4314-B62C-AFA580E8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CDAA-5F3A-4FA5-8D36-F2DF8FB9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95192-6DB3-41FE-9341-E23CF29B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7885-3106-4F0F-AC7C-DD356259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FC9A-8C3A-4C3E-BE15-709F84CA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837-DB09-4365-81AB-2EE1699B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ABBB-89F9-4C13-818F-82A9DD7C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BC3D-848D-4612-905B-38E3DFEE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8EE36-B70F-40E2-93E5-D2324F8E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A401-D823-44B5-B617-82D5D6AC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5346-BEAC-462D-8641-3A45417F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BB16-E72A-4884-8290-4A3E910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024ED-3E18-413D-A891-8F3B6D7A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B7C3-60D8-4666-B4AC-F2087740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9E404-72A6-4F91-B99D-06E7BBEB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75C09-888B-4017-B3CD-E3118973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EFF-BA2D-4814-83DF-E74CA3B9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BB8EE-0CBB-493E-A302-206194B2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9541F-F928-4842-ABDA-D09B8F30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4435-8A3E-43E1-BEF6-FDC3DEB0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3BD25-3C4D-40DF-BFD0-C7C23BB3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DC2AC-0DDC-4010-B802-D43D3B6D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1FC74-0FB4-4B65-8CAE-0524CB1D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54CC0-2DCB-47AB-AD66-2292663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8427-562A-4266-8F80-930B3917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F71A2-08D1-4BD9-B380-21ABC4B5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DDF74-B6D6-42DC-87C6-4F29F09A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5DD-B2D7-43C6-A26A-DD72879E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B295B-AFAB-41AE-82B4-A6BFDF62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482AA-C033-45CD-A0F8-3BC9D6DD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B05AB-1832-41E3-8D3B-7FAAA09C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F4FBE-F80C-4B57-97B1-941C7EEB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550E4-0903-4D7F-966A-70F00D15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F0B5-284C-4903-BC19-A7B231E9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E0A46-29D9-425A-AD7D-E4FB82E6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80FF8-0009-4D1E-A806-31790703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EFD89-1B05-44F1-AB1E-3B31BAFC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F455D-0669-4ED5-A3D3-8546DADF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90E-110E-48CD-AC2A-C02804E7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2CA9C-FF69-4A0C-B26F-982C80F9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8EEB1-D03B-485C-B111-57C77B35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C17E0-F1D8-467B-A9A0-6E28540D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DC28B-B2EC-4B32-B11A-DD943479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62F9-ED61-49C5-8FB9-E0A322E2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0D941-816B-4E13-AED3-1D95D3DB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995D3-4753-400F-A81D-DDBB271E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8FC5F-E088-4DA5-8413-9A611F02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4B8E0-1F3C-42D6-AAF9-9F16EC9C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93AD3-7917-47FB-8B7B-83DC5096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830-68E4-4C24-AACE-83E1DF30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B48D3-7F3C-4A72-BFEC-F35513C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FBC64-C08B-4163-980A-0FFFDAD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46378-7F41-48FB-9876-8E9167C8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19EF4-4CDA-4AEC-8878-792696BA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9DCE9-580B-4DA2-B16C-2B67CF3B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5B5-3478-48C8-8AEC-7B85BE4C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5E6E-3A11-4C83-9D73-8A223B8D3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BA89-EA95-4B8C-85AB-63D0A9E45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3D90-3CBA-4B64-8D29-F5156EBFB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5972-13B0-476E-B903-A737D2765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B790-2F7B-4682-B001-45F06F77F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6699-623E-4BA4-844D-697293EF4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C448-71B3-4E54-BE6C-91C95BCCB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3-26T17:51:43Z</dcterms:modified>
  <cp:revision>39</cp:revision>
  <dc:subject/>
  <dc:title>Dante’s Inferno</dc:title>
</cp:coreProperties>
</file>