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023-1536-4082-B5D7-9F0DEFD4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9FB-5EEF-4E84-B5D3-3C662900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9E2-82F2-4354-98C5-77F8FB2D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BD0-33AA-49B1-B9B8-3DDC2EC2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A5BC-9B71-41E1-ABA9-06A9B179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2BA8-72E4-493F-B532-FF633A9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B08D-44A8-4CF9-B4F1-A7321210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ED90-3DAB-452D-B59B-74520436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D2F2-BA82-4DB5-B432-01B40C55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1E13-8775-4EE0-ABC4-99024EFB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010F-7B02-4D51-9E9C-75EC6D6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1B7-0A45-424B-A0EB-CC8D7490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0D9-B6BB-4C0B-8986-234511A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3D07-A6DC-41AE-A3D6-CF95A8A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0BC-E29D-4185-B544-537DC04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BCFB-0564-4E97-8BB4-DFB05F5E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25D5-1C4D-4AF5-81EE-4C8F610F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6785-E15C-499D-AD00-688FB486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DD9F-503D-4D27-AAE3-8F266793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0E086-9F42-4455-A824-78ED004E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ED05-8823-4B1D-800C-FBE1E3F2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AE79-09CB-4610-97E3-D6CCA9AF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240-D964-4716-9801-13B7A6BA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0081-6CBC-4210-B884-2E3B9750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65EB-5D5D-4B74-B420-19788FE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87AA-3354-4E5C-BDA4-C4B464E5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88EB-A8D8-4F70-A743-CBE9EDB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67FD-77A5-4474-9099-F07B01BA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4C06-837E-4DC0-B08A-016AA8C5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2737-6AA8-40C7-8606-48820FCA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04848-7594-4180-8790-E7765CC9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321E-7A16-4D98-88E2-94591CB9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35AF-C3B7-4B1B-B640-A257C9D8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099-20AB-4322-B88B-8DAC6BA8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43ED-8E53-46DA-8118-22FFECC2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4DDA-96D0-4460-A658-AB7E1399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95C4-E8BD-4AB8-A24E-23D34CE1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56D59-CE98-47F3-B9F4-A7B22BF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17F8-BAD1-4B19-AAE0-E920429E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FBCC-A8D6-4343-99FB-FF58B941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ECF8-5FB0-4423-9E9F-1A772490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4E408-C89D-4B68-85D2-F8730567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5492-4A23-4DB4-879A-D28E175A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E1CC-EC6C-4A6C-8FD6-1E933629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AAD-59B1-43CC-8FB5-4C55911A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77D0-E35F-4B5C-82BE-055DF7F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2EEF5-1C18-4806-A22D-5E45F0A1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EFDD-FBD5-4BD1-B295-ADA7A25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A721-F86D-4182-9D05-B651960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CBCA-E1F6-45F1-9EF0-76FA17B8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B20E-E7B5-48BE-9EFA-7ED732B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A0A8C-2D70-493D-B757-5D3BC14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E3DE-8C7D-4F4C-94B9-613B44AE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8D8C3-6278-44B8-B1C1-57401BA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1DB3D-9D29-41D1-9459-F285B573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56B-890D-4DC2-B01D-3A43757B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AF4FC-51D4-464C-A9FA-ABE78DCA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7A4E4-23C1-4137-9C4E-AF89DB0F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7BF2D-61C2-43A1-9E83-E0A1D2D1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43714-947E-4C13-A1AC-D0898E9F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A1E9-933E-4798-BD24-E7F8FFF2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C38F6-D8CE-4902-95FB-D583A9E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5BD56-9FCD-403A-8583-0BC08161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B767C-BFB4-4AE8-88EF-A52565FF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7B2E-1AF1-4FE5-964E-44B91177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8A809-CB98-467F-B416-3CA9E6A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BBB-FC78-4211-8599-6B92EE4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4977-4BC0-45DF-AD76-93E2FBAE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017DD-2AE2-46B6-A7E0-02D86779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E820-82A6-459F-A4FC-0F7E3F2F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D66F4-A294-4395-B544-AE39346C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D7C16-B12F-4BAC-9086-7F8A38D7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C6E4-688D-4737-9973-07ECE88B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228DD-2990-4497-9C69-D85DC13B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C7308-E904-4052-BC51-3CD29717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F33F-CBB9-47B0-BE81-6CB50916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1302-D370-4A3B-9A98-AB1A92E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498-F0CF-46E8-9E13-2BD5D06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397E8-E511-4EF0-9719-27C4B50D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5A39D-870B-496A-808F-D808A7D6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C324C-1038-4D59-9203-4A033842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15F9-BF32-4822-AE50-060136AF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7377-ADA8-432E-93E7-04CE04E8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4D7-7C0D-4B06-B2F1-67C35C25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CB7-FC51-47E0-AC26-8BF6211A5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4FE6-E438-40C4-866E-4F752B6FE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3E8-C70E-4FBE-A393-459DF671F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59A7-6414-46EC-9D76-07F483731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342-106B-4CA0-BDF7-5FFA96298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2EA5-752F-448A-93DB-4B33DBF84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D632-C4E6-4243-AB11-A018C7F54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30T14:30:23Z</dcterms:modified>
  <cp:revision>40</cp:revision>
  <dc:subject/>
  <dc:title>Dante’s Inferno</dc:title>
</cp:coreProperties>
</file>