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DD7-B20D-4E87-B447-3D5FD689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879-E8AF-450C-80D9-4DEC78E5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D0C-293C-4637-98AE-74255325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135-329A-4FAA-A56F-FF3C31FB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A7E6-62DF-4104-A62E-B7BF6F1C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678E-FE12-4F77-ADFC-8D44832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536-5038-4B13-8832-AE14CF8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236-E207-48ED-B750-9A5325F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6587-850E-4AD7-A6B7-2BB0665C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57D-B95E-486A-97AE-B306279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6B9-E63C-45B4-B829-EF3E0DF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848-69ED-4817-ABAD-E138DC0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6CF-0ACC-46C1-8EBE-CCDBF5F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C546-783A-4BE3-8DEA-7D247E79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AF8-EDD4-4D7C-9F92-9458055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D08-4BCA-403E-A5BF-118E0240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4503-7262-49D3-885E-3B95529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921E-2830-4CDA-9E00-BE69DA36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3032-5459-4E2A-9E8C-910BFE0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8A88-53F0-485C-A4B4-4B9AE1F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494C-5D9F-4AA5-9D44-4B60F5E2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6366-ED58-43B7-A445-24D10E89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16B-9ADA-4940-8E10-2D378E20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6414-45C9-4E80-BDB5-7786327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90CC-7A09-44BC-8A62-B9E4C95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1799-C8D1-49A3-87C8-E368D77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8955-7B0B-4A15-B51D-7B1D240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5B7E-6455-4D4E-95E5-024FC4DF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5114-C266-44EC-A000-649AF8EA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68EE-E595-4B97-A357-0B9F01CC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1D00-55EA-4CDF-8D91-13D3AEF8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2D38-FFA2-4E8A-91F2-BBEF62B9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0FFA-9BF4-4272-8ED5-94F94EBF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6CF-63A7-4173-9321-08371686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67FC-D152-4BBE-A9D2-B99ABF5F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AA78-2488-4976-9F31-A7D4A04C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623C-3B33-4B3E-A0F5-21AB8B2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73B7-F451-4735-B499-295ABBD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EE4A-FC25-407B-9137-E0922C0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96E9-D1FC-4FE1-ABD8-C741924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3DAF-F088-42D9-AC8B-D404B87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C40F5-EAE6-4E60-805B-6C7FD4EA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D9FD-62C2-4514-8D25-0FFFB27F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4F66-E057-4EE6-A99B-8AC461B0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CE3-0765-4C6A-B85E-4648A12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CF80-404B-4835-8B42-92834DC0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637A-BC55-48EA-BFD9-6F07BBE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CE23E-CD85-480C-A8F0-ED224F7D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0FB4-9D9F-4D7B-8504-A047C387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843FD-B5A8-4A47-917A-30B0FC34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80F4-153D-4305-8993-E519EC2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F092-6F78-4897-B801-C2ADE16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8BF0-3F32-48EF-8AC6-A4BD92A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D23A-76C5-4C4F-B1F4-09CE05CE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251F6-BC80-4AB2-9DFF-1D7C7BDB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2AC-A9C5-4682-8A15-4370F392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D048-9D6C-4852-ABA2-E66BD3FB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C505-2A28-4699-9EA4-F5484471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37D77-95DC-4BA7-B16B-2D021E2F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B48C-B846-4926-A9F5-6C92B4FB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779C1-0176-41E9-AD7B-6AA4FDD7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9798-AF3B-4E7E-BEE4-D1F24B3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11B9F-9C44-4D00-A896-6EC31FC4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30E9-CA56-4ABF-8B92-B892C02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3D82-41A7-491C-9A8F-0D0D0B00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B344-B40E-4FE9-925D-2D268C8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141-D85B-42FA-94A5-0F3E1B0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0EF6-B5DE-4A75-A665-BCB6FC86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C62D6-3F23-4320-86FE-9AF56DC0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50D1-F756-43EA-BC70-0AE07C01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B6357-C1B6-4626-A30F-20DE7A61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B4CB-5969-4C93-AA76-BEE7ADD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98E8-E02B-4477-A594-61068B8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FEA9-FA9D-48B2-A730-2351A58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599D-1FC9-4294-8483-A7804D50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067C-820D-4BCB-A3F5-23F85C4C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DA46-0E1A-4D8E-8A50-55448CF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988-2A56-495A-8901-A9809E8C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1058-1B3E-4DDF-826E-B2C973B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EBC63-FCF5-46D0-B40B-D2EF2601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E2455-7F80-45AC-B51C-B3D0B17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AC67-FB7E-4387-828A-F9F05CE8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43E1-3174-4594-B9CA-5CDB9312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2EE-FB23-4483-88B7-7E942C3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37E6-3097-4607-BD3F-544E8C758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0B29-5AFF-48C6-BA8A-F3C378246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639-7317-44C1-9C3F-A43590A0C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599C-7089-4214-8393-8EB50889D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6241-3A5F-4558-A925-83960445C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B41-F265-4DC9-BEB1-24E3882BF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C46-4547-41D6-9D9E-D112A8040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30T14:30:23Z</dcterms:modified>
  <cp:revision>40</cp:revision>
  <dc:subject/>
  <dc:title>Dante’s Inferno</dc:title>
</cp:coreProperties>
</file>