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B4B-830D-4645-8161-864FF196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545-D59B-477A-A094-4D98F63D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7BC-FB42-4603-925B-39E09F07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D29-F597-42AE-A4B1-F9CE895B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5F01-F852-453B-B63A-965AD88A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456C-2C57-4E6E-9F93-65941E6A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2264-A4DF-49B3-AB0E-E14076A1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3461-8377-4978-8F4A-3FFF1EAD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E66C-6AF1-4142-8D90-B7B5BE1D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CBC9-F500-4903-8779-8663746D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5921-0EBE-4500-8117-42BD8C20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20D-7FF8-41CC-918A-D75661F1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C156-DA11-4D55-9C91-D7631075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4617-7E8F-4733-86DD-CE8C10C2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0B05-4DD3-4ECA-92AC-8BBC242E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A48B-D126-4EA1-999B-26E71AF9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648D-4CA7-4E53-9FC6-DB80919A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6B68-F77A-4D50-B435-115EAE3D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DCFA-26B4-4324-BE75-1FC7010F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27EB-4158-4664-854E-7C376E43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D491-31FF-4374-BF9D-35E623F5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075C-DD0E-4BC2-AF9B-E3D2C7F7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122-632B-41ED-B332-E383B35C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5778-B26C-4AAF-A575-A5705C51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20AC-D818-49A4-B28C-77252218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110B5-58A6-4684-BFAC-FD804CB4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7E5C-0B1D-47B5-9BB1-8F2CE824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ED4B-97BA-40BC-BD24-8883B00D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D5D4-F5D4-4951-BC7E-4B67B491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002B-1D64-4627-9357-2D39C828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1367-1722-4F0D-ADEC-14B1553D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4EB07-4618-4F71-B392-8CD07D88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F146-C807-4626-9EB0-22818FE1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B72-CE10-4438-9FE9-A06B8C8B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81803-7EFC-4640-8FC1-04765314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9B6C-EE6A-4B2B-BD2E-6E843B9F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D35F-CA79-4540-AE7B-8EED4664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7573D-C74B-48BB-9762-B60663D3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E604-999A-4298-8E18-C52625EB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7DE09-99E2-442E-8B7F-08C546C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7F5B-AB57-43E0-82AD-0EB78FD8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C6D2-3F70-43A5-97D2-DD8F5776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F7AE2-3E09-4234-BDB4-488A9A4C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084A1-50B4-4BCA-833F-75FEED28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1EE-D1A0-4F50-BEC1-F51CF2EF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6CD43-DB22-4802-9F4E-0C870852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D5A07-85DB-4BCE-B860-1E477A3F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46172-D660-46B5-913B-9A81E70A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9DA02-4C98-429B-8FFE-6D234A6D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8BF41-0A69-4310-B47A-FF3166B2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A4BA0-012B-40A2-8105-5B719E07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86E06-36E5-48D6-9929-E606E548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30E0A-7841-4B2E-8DC6-980557F8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9C33-6ADE-4964-8CF6-8D2E4199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95758-5EB1-4F37-BC66-E0626F09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6C5-DD76-47E4-A11C-DAF6D517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7551A-4E1B-42F5-8DAC-E356FE79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566F4-3831-4013-9453-4C424338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1DDC2-6DC7-4C49-9470-B461C8F3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62008-D914-46B1-8F1C-675AFCE6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3EEAF-1C52-4821-B244-7698EE15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C6A43-B2B9-4EF3-BBB2-0EA89077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6CD09-BB8B-45F7-A657-3A2751CF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B3ABE-380C-49F8-95F0-3D6C352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8EE2D-8D64-4879-A392-D470082F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A85C1-BF06-4971-AB25-CF872C16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F09-0217-4106-AD23-3F973728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AF463-C128-4876-A301-753E1D0B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18AF8-9608-4B52-B18D-323DC274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E29CA-AF1A-4884-A181-319BAD7F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7E150-C2A3-42C8-9B5B-3494F4D3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DBDF7-033C-4159-8BA0-6214F7D0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10727-5283-478C-9C47-44824351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8B9C7-927C-447C-ACF1-6AC59C1C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14789-515F-4913-BB3E-B09E90EA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58349-6691-4482-9418-F75DF4AC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28A33-F0F0-4C31-97E5-CC78A1FB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178-E76F-4295-99FE-E785F714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F27E2-ED78-4B74-B484-A1B4428D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C7111-DF34-498D-89C5-E4399D4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19EDD-B3DC-428A-ADD7-C684C6BE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44329-56C8-4C41-A53E-E5014ED9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6DEB5-21C6-4837-8A38-E4516CE2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AE9-A22E-48CE-A8B9-E9945729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E81-344F-452C-85BD-09DA16CE5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F512-DF43-4E49-9122-ECB17AC45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A812-1FBF-4623-B1DB-572D71C1D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629F-AF20-4C71-8DEA-1CC8CCDCD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6385-491E-42AD-9F9F-BD0A0EE6C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3736-6CDF-46DC-B900-D240894F6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591C-A936-4728-8D38-0E5016BFD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581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55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3-30T14:30:23Z</dcterms:modified>
  <cp:revision>40</cp:revision>
  <dc:subject/>
  <dc:title>Dante’s Inferno</dc:title>
</cp:coreProperties>
</file>