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02602A-441D-4009-8652-43CDB2963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490CB-B6BD-4209-8349-0F7D92DDF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87EED-50AE-450A-94C2-5E064887C6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928FD0-0065-4A7E-8D68-2191401DA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374110-9D52-440E-BE05-F3017E7B5D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D79F01-3FF0-4FDB-8BC8-A7A48922E9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05D2F-0D18-4798-A78D-67A50CF34B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CBFDA2-6962-474A-9B33-62BA3BE69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58284B-9B63-4587-8B4C-5947A045E7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70B225-2C24-4701-9EB8-7981B5DD8C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3208D-21D0-46A0-9CB3-5C8733893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5200D-F427-4FEA-ABA2-F5B885BE6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629D6-0A2D-49D4-BBE9-BAC247864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77315-3F01-4FD2-B228-63EF73E39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D796A6-BCFF-4C76-914E-F67087242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38B356-93F1-4AA8-9B81-041D16CA61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516235-6393-44BA-8626-B244B2951F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480F7B-7C2E-4FAB-BAD9-DC0CC33A51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4CAB87-DC78-4C2F-9FB4-AA0899AAF5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BC0699-D21C-46B2-9F9D-6F891A26A1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264513-59A2-4A74-A4C6-CE6ECE5DC0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085361-42B4-47E9-9476-02F182EA75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A484C-412B-4DE7-9CB0-5D604765F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0D7204-8931-4C76-B916-8E426C2E56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D17998-CA15-43FF-9E19-6A3AED9060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335738-93A7-49D7-8609-2CAEA08D9F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C7AED0-59BF-454D-9CB4-1A499D5B5A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5E8A58-7C8E-42D6-ACF6-FF099133FB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F53F7C-6044-4521-8259-CD421A9562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DCFD39-3272-4A34-914C-29A002F5D7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1FC221-5202-442B-A0F9-F72DA4DA66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4301F2-2EF3-40D7-8E7C-6B48D30DDF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B9F4E5-76D5-4176-8754-AE8A6FFA8E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4CFEC-36DD-4F3A-A98F-52FDEFB8E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C0030E-1B64-4171-915E-33240F89DF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FBCACF-9F88-467A-9A28-2C99EBA472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E52B91-95A1-4BCA-88C4-F04DCA9414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B43236-9CD3-4969-A7EA-7E4EA957AD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9D187B-5290-4A39-9AEA-646170E6E9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3A4D4E-33CF-4C9A-B2F5-0715144BAC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532C77-6758-44C3-BDFE-0675480CCC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3522A5-FD7C-40D9-98A9-2EFE4674EC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07C07C-2355-4FA1-A456-6C6918A52C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1AEE4B-0D87-46BB-ABDB-8B66990AD2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13FD7-B166-4D65-A930-A28251059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6C61FE-0A5D-4EA2-A861-1175A7AABE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21BDF3-8C1A-4CAF-BF28-5B57F8A117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98F5FC-3D9B-40AE-B18F-D5BFE388D2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541EFE-7CB6-48A2-B4F5-83FC54AC86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7DF205-ADF8-4A8C-8872-444EC9EA0D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2C18A6-9633-4990-8769-1762A87638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1DCEF6-96EE-4009-B873-307CEB2618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77B842-5698-4F68-B32B-3AED6443C6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F88871-2C2C-4F52-AF30-09F342BECF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1308BC-7F84-4FA1-8FA4-98406E414F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BF463-728B-4335-B919-500863C5D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95D7D4-BAC0-442E-A1C0-A155E31C0A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2CB2B9-3D3A-4000-AF24-92EFDB01FA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CD654B-753F-4FCA-94CD-B2A9344552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EB2321-652A-4BCC-B76B-657DE6B0CD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DA16F5-43BA-479B-9063-25DF065347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EE01B8-72DA-4A6F-9B59-9782FB26DC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1F00D6-16D4-49D2-8E32-84E12928B2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FBA1B2-7957-4D95-B579-EF70BA49DB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8F09BC-7F60-4E7F-AD3F-4F1F64A5FF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309E3F-7D65-4335-B8B7-A4CE0F1EE2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A4419-B7AC-441D-B897-07F76D280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3F104A-95B7-49AB-9099-5A91826387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1C7418-4D00-4B47-AA98-BAEC711DB7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523CD0-A751-4D8D-AF29-E70657E821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3F6180-7294-424E-84FD-0C8D2FDB74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5184D4-77F6-40AC-B7E0-3C628A1B53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F28FBC-CDCC-40F4-857C-9A7A0782EF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0EDDED-6E13-456E-8B90-23DDE73DA4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008269-F2C2-4A2E-9A11-B5F78886D6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7C1616-80FA-453A-9A70-ADA793B59C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59EDDB-6539-4AD0-BA26-A0F71164C2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58E06-1DC1-4C66-AF1C-60643CCF7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C764F3-CD4B-48A2-A980-7E7041A046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97F967-88A9-4DB9-A905-FB7A4F1EB0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B8C080-642F-4737-8859-1D88AF5649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56DA48-A07A-48F0-B4DD-255EEF6FC4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B09829-92AB-4BC4-AAF3-25E69DC595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56ECC-FD77-4343-A243-1F6A2490E2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6E80C-80A6-4619-9603-77F022F907E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Rectangle 7"/>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AutoShape 9">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AutoShape 10">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AutoShape 11">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AutoShape 12">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AutoShape 14">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AutoShape 15">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AutoShape 16">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AutoShape 17">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95523-0BB1-4F5A-B03C-A7976D5CA56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Rectangle 7"/>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AutoShape 9">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10">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utoShape 11">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12">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AutoShape 13">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AutoShape 14">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AutoShape 15">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AutoShape 16">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AE76E-B0D5-424A-BA03-5F727E9F3EF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Rectangle 7"/>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8"/>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9">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10">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11">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12">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AutoShape 13">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AutoShape 14">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AutoShape 15">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AutoShape 16">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F4CF1-5685-4A26-BFE0-24632BF2DE5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Rectangle 7">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8"/>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9">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10">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11">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12">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AutoShape 13">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AutoShape 14">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AutoShape 15">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AutoShape 16">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AutoShape 17">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AutoShape 18">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Rectangle 19"/>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0"/>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21">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22">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23">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24">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AutoShape 25">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AutoShape 26">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AutoShape 27">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AutoShape 28">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AutoShape 29">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AutoShape 30">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833B2-C041-426A-97F9-0CD24EDFA2D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Rectangle 7">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8"/>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9">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AutoShape 10">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11">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12">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AutoShape 13">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AutoShape 14">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AutoShape 15">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AutoShape 16">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AutoShape 17">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AutoShape 18">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Rectangle 19"/>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20"/>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21">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AutoShape 22">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23">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24">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AutoShape 25">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AutoShape 26">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AutoShape 27">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AutoShape 28">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AutoShape 29">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AutoShape 30">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BB068-2CDA-4D5A-A550-CE231B96CEE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Rectangle 7">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8"/>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AutoShape 9">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10">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11">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AutoShape 12">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AutoShape 13">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AutoShape 14">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AutoShape 15">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AutoShape 16">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AutoShape 17">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AutoShape 18">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Rectangle 19"/>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20"/>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21">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22">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AutoShape 23">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AutoShape 24">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AutoShape 25">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AutoShape 26">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AutoShape 27">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AutoShape 28">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AutoShape 29">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AutoShape 30">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1F188-FD05-4A3A-8475-65E0DD66E90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Rectangle 7">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8"/>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AutoShape 9">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AutoShape 10">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11">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AutoShape 12">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AutoShape 13">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AutoShape 14">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AutoShape 15">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AutoShape 16">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AutoShape 17">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AutoShape 18">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Rectangle 19"/>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20"/>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utoShape 21">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AutoShape 22">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AutoShape 23">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24">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AutoShape 25">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AutoShape 26">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AutoShape 27">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AutoShape 28">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AutoShape 29">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AutoShape 30">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2.layoutsparks.com/1/239395/fire-flames-yellow-orange.jpg" TargetMode="External"/><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9.xml"/><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4.xml"/><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8.xml"/><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414" name="AutoShape 5"/>
          <p:cNvGrpSpPr/>
          <p:nvPr/>
        </p:nvGrpSpPr>
        <p:grpSpPr>
          <a:xfrm>
            <a:off x="2724120" y="133200"/>
            <a:ext cx="6211800" cy="1562400"/>
            <a:chOff x="2724120" y="133200"/>
            <a:chExt cx="6211800" cy="1562400"/>
          </a:xfrm>
        </p:grpSpPr>
        <p:pic>
          <p:nvPicPr>
            <p:cNvPr id="415" name="AutoShape 5" descr=""/>
            <p:cNvPicPr/>
            <p:nvPr/>
          </p:nvPicPr>
          <p:blipFill>
            <a:blip r:embed="rId1"/>
            <a:stretch/>
          </p:blipFill>
          <p:spPr>
            <a:xfrm>
              <a:off x="2724120" y="133200"/>
              <a:ext cx="6211800" cy="1562400"/>
            </a:xfrm>
            <a:prstGeom prst="rect">
              <a:avLst/>
            </a:prstGeom>
            <a:ln w="0">
              <a:noFill/>
            </a:ln>
          </p:spPr>
        </p:pic>
        <p:sp>
          <p:nvSpPr>
            <p:cNvPr id="416" name=""/>
            <p:cNvSpPr/>
            <p:nvPr/>
          </p:nvSpPr>
          <p:spPr>
            <a:xfrm>
              <a:off x="2933640" y="343080"/>
              <a:ext cx="588636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hiller"/>
                </a:rPr>
                <a:t>Abandon all hope! Ye who enter here.</a:t>
              </a:r>
              <a:endParaRPr b="0" lang="en-US" sz="4000" spc="-1" strike="noStrike">
                <a:solidFill>
                  <a:srgbClr val="000000"/>
                </a:solidFill>
                <a:latin typeface="Arial"/>
              </a:endParaRPr>
            </a:p>
          </p:txBody>
        </p:sp>
      </p:grpSp>
      <p:pic>
        <p:nvPicPr>
          <p:cNvPr id="417" name="Picture 10" descr="http://images2.layoutsparks.com/1/239395/fire-flames-yellow-orange.jpg">
            <a:hlinkClick r:id="rId2"/>
          </p:cNvPr>
          <p:cNvPicPr/>
          <p:nvPr/>
        </p:nvPicPr>
        <p:blipFill>
          <a:blip r:embed="rId3"/>
          <a:stretch/>
        </p:blipFill>
        <p:spPr>
          <a:xfrm>
            <a:off x="2971800" y="1600200"/>
            <a:ext cx="5791320" cy="4343400"/>
          </a:xfrm>
          <a:prstGeom prst="rect">
            <a:avLst/>
          </a:prstGeom>
          <a:ln w="0">
            <a:noFill/>
          </a:ln>
        </p:spPr>
      </p:pic>
      <p:sp>
        <p:nvSpPr>
          <p:cNvPr id="418" name="TextBox 7"/>
          <p:cNvSpPr/>
          <p:nvPr/>
        </p:nvSpPr>
        <p:spPr>
          <a:xfrm>
            <a:off x="3124080" y="2743200"/>
            <a:ext cx="60199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Impact"/>
              </a:rPr>
              <a:t>Pairee Bunrout</a:t>
            </a:r>
            <a:endParaRPr b="0" lang="en-US" sz="6000" spc="-1" strike="noStrike">
              <a:solidFill>
                <a:srgbClr val="000000"/>
              </a:solidFill>
              <a:latin typeface="Arial"/>
            </a:endParaRPr>
          </a:p>
        </p:txBody>
      </p:sp>
      <p:pic>
        <p:nvPicPr>
          <p:cNvPr id="419" name="Chamber_Decompressing-SoundBible.com-1075404493.mp3" descr=""/>
          <p:cNvPicPr/>
          <p:nvPr/>
        </p:nvPicPr>
        <p:blipFill>
          <a:blip r:embed="rId4"/>
          <a:stretch/>
        </p:blipFill>
        <p:spPr>
          <a:xfrm>
            <a:off x="3657600" y="6248520"/>
            <a:ext cx="304920" cy="380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19"/>
                    </p:tgtEl>
                  </p:cond>
                </p:stCondLst>
                <p:childTnLst>
                  <p:par>
                    <p:cTn id="3" fill="hold">
                      <p:stCondLst>
                        <p:cond evt="onClick">
                          <p:tgtEl>
                            <p:spTgt spid="419"/>
                          </p:tgtEl>
                        </p:cond>
                      </p:stCondLst>
                      <p:childTnLst>
                        <p:par>
                          <p:cTn id="4" fill="hold">
                            <p:stCondLst>
                              <p:cond delay="0"/>
                            </p:stCondLst>
                            <p:childTnLst>
                              <p:par>
                                <p:cTn id="5" nodeType="clickEffect" fill="hold" presetClass="mediacall" presetID="1">
                                  <p:stCondLst>
                                    <p:cond delay="0"/>
                                  </p:stCondLst>
                                  <p:childTnLst>
                                    <p:cmd type="call" cmd="playFrom(0.0)">
                                      <p:cBhvr>
                                        <p:cTn id="6" dur="3297" fill="hold"/>
                                        <p:tgtEl>
                                          <p:spTgt spid="4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7"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unishments that murders receive in this level of hell is horrible. The person who murdered someone  is going to feel the same pain of the person they killed. They will be killed the same way as the victim they killed too.</a:t>
            </a:r>
            <a:endParaRPr b="0" lang="en-US" sz="3200" spc="-1" strike="noStrike">
              <a:solidFill>
                <a:srgbClr val="000000"/>
              </a:solidFill>
              <a:latin typeface="Arial"/>
            </a:endParaRPr>
          </a:p>
        </p:txBody>
      </p:sp>
      <p:sp>
        <p:nvSpPr>
          <p:cNvPr id="458" name="AutoShape 4">
            <a:hlinkClick r:id="" action="ppaction://hlinkshowjump?jump=nextslide"/>
          </p:cNvPr>
          <p:cNvSpPr/>
          <p:nvPr/>
        </p:nvSpPr>
        <p:spPr>
          <a:xfrm>
            <a:off x="2971800" y="5638680"/>
            <a:ext cx="1523880" cy="381240"/>
          </a:xfrm>
          <a:custGeom>
            <a:avLst/>
            <a:gdLst>
              <a:gd name="textAreaLeft" fmla="*/ 24480 w 1523880"/>
              <a:gd name="textAreaRight" fmla="*/ 1499400 w 1523880"/>
              <a:gd name="textAreaTop" fmla="*/ 24480 h 381240"/>
              <a:gd name="textAreaBottom" fmla="*/ 35676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4878" y="1400"/>
                </a:lnTo>
                <a:lnTo>
                  <a:pt x="1400" y="1400"/>
                </a:lnTo>
                <a:close/>
              </a:path>
              <a:path fill="darken" w="86278" h="21600">
                <a:moveTo>
                  <a:pt x="86278" y="0"/>
                </a:moveTo>
                <a:lnTo>
                  <a:pt x="86278" y="21600"/>
                </a:lnTo>
                <a:lnTo>
                  <a:pt x="84878" y="20200"/>
                </a:lnTo>
                <a:lnTo>
                  <a:pt x="84878" y="1400"/>
                </a:lnTo>
                <a:close/>
              </a:path>
              <a:path fill="darkenLess" w="86278" h="21600">
                <a:moveTo>
                  <a:pt x="86278" y="21600"/>
                </a:moveTo>
                <a:lnTo>
                  <a:pt x="0" y="21600"/>
                </a:lnTo>
                <a:lnTo>
                  <a:pt x="1400" y="20200"/>
                </a:lnTo>
                <a:lnTo>
                  <a:pt x="84878" y="20200"/>
                </a:lnTo>
                <a:close/>
              </a:path>
              <a:path fill="lighten" w="86278"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9" name="AutoShape 6">
            <a:hlinkClick r:id="rId1" action="ppaction://hlinksldjump"/>
          </p:cNvPr>
          <p:cNvSpPr/>
          <p:nvPr/>
        </p:nvSpPr>
        <p:spPr>
          <a:xfrm>
            <a:off x="4724280" y="5638680"/>
            <a:ext cx="1828800" cy="381240"/>
          </a:xfrm>
          <a:custGeom>
            <a:avLst/>
            <a:gdLst>
              <a:gd name="textAreaLeft" fmla="*/ 24480 w 1828800"/>
              <a:gd name="textAreaRight" fmla="*/ 1804320 w 1828800"/>
              <a:gd name="textAreaTop" fmla="*/ 24480 h 381240"/>
              <a:gd name="textAreaBottom" fmla="*/ 35676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102137" y="1400"/>
                </a:lnTo>
                <a:lnTo>
                  <a:pt x="1400" y="1400"/>
                </a:lnTo>
                <a:close/>
              </a:path>
              <a:path fill="darken" w="103537" h="21600">
                <a:moveTo>
                  <a:pt x="103537" y="0"/>
                </a:moveTo>
                <a:lnTo>
                  <a:pt x="103537" y="21600"/>
                </a:lnTo>
                <a:lnTo>
                  <a:pt x="102137" y="20200"/>
                </a:lnTo>
                <a:lnTo>
                  <a:pt x="102137" y="1400"/>
                </a:lnTo>
                <a:close/>
              </a:path>
              <a:path fill="darkenLess" w="103537" h="21600">
                <a:moveTo>
                  <a:pt x="103537" y="21600"/>
                </a:moveTo>
                <a:lnTo>
                  <a:pt x="0" y="21600"/>
                </a:lnTo>
                <a:lnTo>
                  <a:pt x="1400" y="20200"/>
                </a:lnTo>
                <a:lnTo>
                  <a:pt x="102137" y="20200"/>
                </a:lnTo>
                <a:close/>
              </a:path>
              <a:path fill="lighten" w="103537"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60" name="AutoShape 7">
            <a:hlinkClick r:id="rId2" action="ppaction://hlinksldjump"/>
          </p:cNvPr>
          <p:cNvSpPr/>
          <p:nvPr/>
        </p:nvSpPr>
        <p:spPr>
          <a:xfrm>
            <a:off x="6934320" y="5638680"/>
            <a:ext cx="1676160" cy="381240"/>
          </a:xfrm>
          <a:custGeom>
            <a:avLst/>
            <a:gdLst>
              <a:gd name="textAreaLeft" fmla="*/ 24480 w 1676160"/>
              <a:gd name="textAreaRight" fmla="*/ 1651680 w 1676160"/>
              <a:gd name="textAreaTop" fmla="*/ 24480 h 381240"/>
              <a:gd name="textAreaBottom" fmla="*/ 35676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93497" y="1400"/>
                </a:lnTo>
                <a:lnTo>
                  <a:pt x="1400" y="1400"/>
                </a:lnTo>
                <a:close/>
              </a:path>
              <a:path fill="darken" w="94897" h="21600">
                <a:moveTo>
                  <a:pt x="94897" y="0"/>
                </a:moveTo>
                <a:lnTo>
                  <a:pt x="94897" y="21600"/>
                </a:lnTo>
                <a:lnTo>
                  <a:pt x="93497" y="20200"/>
                </a:lnTo>
                <a:lnTo>
                  <a:pt x="93497" y="1400"/>
                </a:lnTo>
                <a:close/>
              </a:path>
              <a:path fill="darkenLess" w="94897" h="21600">
                <a:moveTo>
                  <a:pt x="94897" y="21600"/>
                </a:moveTo>
                <a:lnTo>
                  <a:pt x="0" y="21600"/>
                </a:lnTo>
                <a:lnTo>
                  <a:pt x="1400" y="20200"/>
                </a:lnTo>
                <a:lnTo>
                  <a:pt x="93497" y="20200"/>
                </a:lnTo>
                <a:close/>
              </a:path>
              <a:path fill="lighten" w="94897"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62"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reaction to this level in hell is that I think it is horrible. I feel pity for the people in there. Although I feel that they belong in there and deserve the punishment.</a:t>
            </a:r>
            <a:endParaRPr b="0" lang="en-US" sz="3200" spc="-1" strike="noStrike">
              <a:solidFill>
                <a:srgbClr val="000000"/>
              </a:solidFill>
              <a:latin typeface="Arial"/>
            </a:endParaRPr>
          </a:p>
        </p:txBody>
      </p:sp>
      <p:sp>
        <p:nvSpPr>
          <p:cNvPr id="463" name="AutoShape 4">
            <a:hlinkClick r:id="" action="ppaction://hlinkshowjump?jump=nextslide"/>
          </p:cNvPr>
          <p:cNvSpPr/>
          <p:nvPr/>
        </p:nvSpPr>
        <p:spPr>
          <a:xfrm>
            <a:off x="2971800" y="5715000"/>
            <a:ext cx="1523880" cy="304920"/>
          </a:xfrm>
          <a:custGeom>
            <a:avLst/>
            <a:gdLst>
              <a:gd name="textAreaLeft" fmla="*/ 19440 w 1523880"/>
              <a:gd name="textAreaRight" fmla="*/ 1504440 w 1523880"/>
              <a:gd name="textAreaTop" fmla="*/ 19440 h 304920"/>
              <a:gd name="textAreaBottom" fmla="*/ 28548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6447" y="1400"/>
                </a:lnTo>
                <a:lnTo>
                  <a:pt x="1400" y="1400"/>
                </a:lnTo>
                <a:close/>
              </a:path>
              <a:path fill="darken" w="107847" h="21600">
                <a:moveTo>
                  <a:pt x="107847" y="0"/>
                </a:moveTo>
                <a:lnTo>
                  <a:pt x="107847" y="21600"/>
                </a:lnTo>
                <a:lnTo>
                  <a:pt x="106447" y="20200"/>
                </a:lnTo>
                <a:lnTo>
                  <a:pt x="106447" y="1400"/>
                </a:lnTo>
                <a:close/>
              </a:path>
              <a:path fill="darkenLess" w="107847" h="21600">
                <a:moveTo>
                  <a:pt x="107847" y="21600"/>
                </a:moveTo>
                <a:lnTo>
                  <a:pt x="0" y="21600"/>
                </a:lnTo>
                <a:lnTo>
                  <a:pt x="1400" y="20200"/>
                </a:lnTo>
                <a:lnTo>
                  <a:pt x="106447" y="20200"/>
                </a:lnTo>
                <a:close/>
              </a:path>
              <a:path fill="lighten" w="107847"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Picture 8" descr="http://blog.thebittingerteam.com/wp-content/uploads/image/fraud.gif"/>
          <p:cNvPicPr/>
          <p:nvPr/>
        </p:nvPicPr>
        <p:blipFill>
          <a:blip r:embed="rId1"/>
          <a:stretch/>
        </p:blipFill>
        <p:spPr>
          <a:xfrm>
            <a:off x="3581280" y="1219320"/>
            <a:ext cx="4724640" cy="4562280"/>
          </a:xfrm>
          <a:prstGeom prst="rect">
            <a:avLst/>
          </a:prstGeom>
          <a:ln w="0">
            <a:noFill/>
          </a:ln>
        </p:spPr>
      </p:pic>
      <p:sp>
        <p:nvSpPr>
          <p:cNvPr id="465"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FangSong"/>
                <a:ea typeface="FangSong"/>
              </a:rPr>
              <a:t>Level C</a:t>
            </a:r>
            <a:endParaRPr b="0" lang="en-US" sz="8800" spc="-1" strike="noStrike">
              <a:solidFill>
                <a:srgbClr val="ffffff"/>
              </a:solidFill>
              <a:latin typeface="Chiller"/>
            </a:endParaRPr>
          </a:p>
        </p:txBody>
      </p:sp>
      <p:sp>
        <p:nvSpPr>
          <p:cNvPr id="466" name="PlaceHolder 2"/>
          <p:cNvSpPr>
            <a:spLocks noGrp="1"/>
          </p:cNvSpPr>
          <p:nvPr>
            <p:ph/>
          </p:nvPr>
        </p:nvSpPr>
        <p:spPr>
          <a:xfrm>
            <a:off x="2971800" y="2332080"/>
            <a:ext cx="601992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Fraud</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67" name="AutoShape 4">
            <a:hlinkClick r:id="" action="ppaction://hlinkshowjump?jump=nextslide"/>
          </p:cNvPr>
          <p:cNvSpPr/>
          <p:nvPr/>
        </p:nvSpPr>
        <p:spPr>
          <a:xfrm>
            <a:off x="2895480" y="571500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8" name="AutoShape 5"/>
          <p:cNvSpPr/>
          <p:nvPr/>
        </p:nvSpPr>
        <p:spPr>
          <a:xfrm>
            <a:off x="4572000" y="5715000"/>
            <a:ext cx="1905120" cy="304920"/>
          </a:xfrm>
          <a:custGeom>
            <a:avLst/>
            <a:gdLst>
              <a:gd name="textAreaLeft" fmla="*/ 19440 w 1905120"/>
              <a:gd name="textAreaRight" fmla="*/ 1885680 w 1905120"/>
              <a:gd name="textAreaTop" fmla="*/ 19440 h 304920"/>
              <a:gd name="textAreaBottom" fmla="*/ 28548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3422" y="1400"/>
                </a:lnTo>
                <a:lnTo>
                  <a:pt x="1400" y="1400"/>
                </a:lnTo>
                <a:close/>
              </a:path>
              <a:path fill="darken" w="134822" h="21600">
                <a:moveTo>
                  <a:pt x="134822" y="0"/>
                </a:moveTo>
                <a:lnTo>
                  <a:pt x="134822" y="21600"/>
                </a:lnTo>
                <a:lnTo>
                  <a:pt x="133422" y="20200"/>
                </a:lnTo>
                <a:lnTo>
                  <a:pt x="133422" y="1400"/>
                </a:lnTo>
                <a:close/>
              </a:path>
              <a:path fill="darkenLess" w="134822" h="21600">
                <a:moveTo>
                  <a:pt x="134822" y="21600"/>
                </a:moveTo>
                <a:lnTo>
                  <a:pt x="0" y="21600"/>
                </a:lnTo>
                <a:lnTo>
                  <a:pt x="1400" y="20200"/>
                </a:lnTo>
                <a:lnTo>
                  <a:pt x="133422" y="20200"/>
                </a:lnTo>
                <a:close/>
              </a:path>
              <a:path fill="lighten" w="134822"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9" name="AutoShape 6"/>
          <p:cNvSpPr/>
          <p:nvPr/>
        </p:nvSpPr>
        <p:spPr>
          <a:xfrm>
            <a:off x="6858000" y="5715000"/>
            <a:ext cx="1905120" cy="304920"/>
          </a:xfrm>
          <a:custGeom>
            <a:avLst/>
            <a:gdLst>
              <a:gd name="textAreaLeft" fmla="*/ 19440 w 1905120"/>
              <a:gd name="textAreaRight" fmla="*/ 1885680 w 1905120"/>
              <a:gd name="textAreaTop" fmla="*/ 19440 h 304920"/>
              <a:gd name="textAreaBottom" fmla="*/ 28548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3422" y="1400"/>
                </a:lnTo>
                <a:lnTo>
                  <a:pt x="1400" y="1400"/>
                </a:lnTo>
                <a:close/>
              </a:path>
              <a:path fill="darken" w="134822" h="21600">
                <a:moveTo>
                  <a:pt x="134822" y="0"/>
                </a:moveTo>
                <a:lnTo>
                  <a:pt x="134822" y="21600"/>
                </a:lnTo>
                <a:lnTo>
                  <a:pt x="133422" y="20200"/>
                </a:lnTo>
                <a:lnTo>
                  <a:pt x="133422" y="1400"/>
                </a:lnTo>
                <a:close/>
              </a:path>
              <a:path fill="darkenLess" w="134822" h="21600">
                <a:moveTo>
                  <a:pt x="134822" y="21600"/>
                </a:moveTo>
                <a:lnTo>
                  <a:pt x="0" y="21600"/>
                </a:lnTo>
                <a:lnTo>
                  <a:pt x="1400" y="20200"/>
                </a:lnTo>
                <a:lnTo>
                  <a:pt x="133422" y="20200"/>
                </a:lnTo>
                <a:close/>
              </a:path>
              <a:path fill="lighten" w="134822"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71"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ud is when someone is lying, not being honest, or not doing the right thing and cheating people in any way. People who will be in this level are Brutus and Martha Stewart.</a:t>
            </a:r>
            <a:endParaRPr b="0" lang="en-US" sz="3200" spc="-1" strike="noStrike">
              <a:solidFill>
                <a:srgbClr val="000000"/>
              </a:solidFill>
              <a:latin typeface="Arial"/>
            </a:endParaRPr>
          </a:p>
        </p:txBody>
      </p:sp>
      <p:sp>
        <p:nvSpPr>
          <p:cNvPr id="472" name="AutoShape 4">
            <a:hlinkClick r:id="" action="ppaction://hlinkshowjump?jump=nextslide"/>
          </p:cNvPr>
          <p:cNvSpPr/>
          <p:nvPr/>
        </p:nvSpPr>
        <p:spPr>
          <a:xfrm>
            <a:off x="2971800" y="5715000"/>
            <a:ext cx="1523880" cy="380880"/>
          </a:xfrm>
          <a:custGeom>
            <a:avLst/>
            <a:gdLst>
              <a:gd name="textAreaLeft" fmla="*/ 24480 w 1523880"/>
              <a:gd name="textAreaRight" fmla="*/ 1499400 w 1523880"/>
              <a:gd name="textAreaTop" fmla="*/ 24480 h 380880"/>
              <a:gd name="textAreaBottom" fmla="*/ 3564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4959" y="1400"/>
                </a:lnTo>
                <a:lnTo>
                  <a:pt x="1400" y="1400"/>
                </a:lnTo>
                <a:close/>
              </a:path>
              <a:path fill="darken" w="86359" h="21600">
                <a:moveTo>
                  <a:pt x="86359" y="0"/>
                </a:moveTo>
                <a:lnTo>
                  <a:pt x="86359" y="21600"/>
                </a:lnTo>
                <a:lnTo>
                  <a:pt x="84959" y="20200"/>
                </a:lnTo>
                <a:lnTo>
                  <a:pt x="84959" y="1400"/>
                </a:lnTo>
                <a:close/>
              </a:path>
              <a:path fill="darkenLess" w="86359" h="21600">
                <a:moveTo>
                  <a:pt x="86359" y="21600"/>
                </a:moveTo>
                <a:lnTo>
                  <a:pt x="0" y="21600"/>
                </a:lnTo>
                <a:lnTo>
                  <a:pt x="1400" y="20200"/>
                </a:lnTo>
                <a:lnTo>
                  <a:pt x="84959" y="20200"/>
                </a:lnTo>
                <a:close/>
              </a:path>
              <a:path fill="lighten" w="86359"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3" name="AutoShape 5"/>
          <p:cNvSpPr/>
          <p:nvPr/>
        </p:nvSpPr>
        <p:spPr>
          <a:xfrm>
            <a:off x="4876920" y="5715000"/>
            <a:ext cx="1904760" cy="380880"/>
          </a:xfrm>
          <a:custGeom>
            <a:avLst/>
            <a:gdLst>
              <a:gd name="textAreaLeft" fmla="*/ 24480 w 1904760"/>
              <a:gd name="textAreaRight" fmla="*/ 1880280 w 1904760"/>
              <a:gd name="textAreaTop" fmla="*/ 24480 h 380880"/>
              <a:gd name="textAreaBottom" fmla="*/ 35640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6539" y="1400"/>
                </a:lnTo>
                <a:lnTo>
                  <a:pt x="1400" y="1400"/>
                </a:lnTo>
                <a:close/>
              </a:path>
              <a:path fill="darken" w="107939" h="21600">
                <a:moveTo>
                  <a:pt x="107939" y="0"/>
                </a:moveTo>
                <a:lnTo>
                  <a:pt x="107939" y="21600"/>
                </a:lnTo>
                <a:lnTo>
                  <a:pt x="106539" y="20200"/>
                </a:lnTo>
                <a:lnTo>
                  <a:pt x="106539" y="1400"/>
                </a:lnTo>
                <a:close/>
              </a:path>
              <a:path fill="darkenLess" w="107939" h="21600">
                <a:moveTo>
                  <a:pt x="107939" y="21600"/>
                </a:moveTo>
                <a:lnTo>
                  <a:pt x="0" y="21600"/>
                </a:lnTo>
                <a:lnTo>
                  <a:pt x="1400" y="20200"/>
                </a:lnTo>
                <a:lnTo>
                  <a:pt x="106539" y="20200"/>
                </a:lnTo>
                <a:close/>
              </a:path>
              <a:path fill="lighten" w="107939"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4" name="AutoShape 6"/>
          <p:cNvSpPr/>
          <p:nvPr/>
        </p:nvSpPr>
        <p:spPr>
          <a:xfrm>
            <a:off x="7010280" y="5715000"/>
            <a:ext cx="1828800" cy="380880"/>
          </a:xfrm>
          <a:custGeom>
            <a:avLst/>
            <a:gdLst>
              <a:gd name="textAreaLeft" fmla="*/ 24480 w 1828800"/>
              <a:gd name="textAreaRight" fmla="*/ 1804320 w 1828800"/>
              <a:gd name="textAreaTop" fmla="*/ 24480 h 380880"/>
              <a:gd name="textAreaBottom" fmla="*/ 35640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102235" y="1400"/>
                </a:lnTo>
                <a:lnTo>
                  <a:pt x="1400" y="1400"/>
                </a:lnTo>
                <a:close/>
              </a:path>
              <a:path fill="darken" w="103635" h="21600">
                <a:moveTo>
                  <a:pt x="103635" y="0"/>
                </a:moveTo>
                <a:lnTo>
                  <a:pt x="103635" y="21600"/>
                </a:lnTo>
                <a:lnTo>
                  <a:pt x="102235" y="20200"/>
                </a:lnTo>
                <a:lnTo>
                  <a:pt x="102235" y="1400"/>
                </a:lnTo>
                <a:close/>
              </a:path>
              <a:path fill="darkenLess" w="103635" h="21600">
                <a:moveTo>
                  <a:pt x="103635" y="21600"/>
                </a:moveTo>
                <a:lnTo>
                  <a:pt x="0" y="21600"/>
                </a:lnTo>
                <a:lnTo>
                  <a:pt x="1400" y="20200"/>
                </a:lnTo>
                <a:lnTo>
                  <a:pt x="102235" y="20200"/>
                </a:lnTo>
                <a:close/>
              </a:path>
              <a:path fill="lighten" w="103635"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6"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you commit the crime of fraud will be in a deform figure. They will have no legs or arms. They will not be able to do anything and they cant talk.</a:t>
            </a:r>
            <a:endParaRPr b="0" lang="en-US" sz="3200" spc="-1" strike="noStrike">
              <a:solidFill>
                <a:srgbClr val="000000"/>
              </a:solidFill>
              <a:latin typeface="Arial"/>
            </a:endParaRPr>
          </a:p>
        </p:txBody>
      </p:sp>
      <p:sp>
        <p:nvSpPr>
          <p:cNvPr id="477" name="AutoShape 4">
            <a:hlinkClick r:id="" action="ppaction://hlinkshowjump?jump=nextslide"/>
          </p:cNvPr>
          <p:cNvSpPr/>
          <p:nvPr/>
        </p:nvSpPr>
        <p:spPr>
          <a:xfrm>
            <a:off x="2971800" y="5562720"/>
            <a:ext cx="1523880" cy="457200"/>
          </a:xfrm>
          <a:custGeom>
            <a:avLst/>
            <a:gdLst>
              <a:gd name="textAreaLeft" fmla="*/ 29520 w 1523880"/>
              <a:gd name="textAreaRight" fmla="*/ 1494360 w 1523880"/>
              <a:gd name="textAreaTop" fmla="*/ 29520 h 457200"/>
              <a:gd name="textAreaBottom" fmla="*/ 42768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70555" y="1400"/>
                </a:lnTo>
                <a:lnTo>
                  <a:pt x="1400" y="1400"/>
                </a:lnTo>
                <a:close/>
              </a:path>
              <a:path fill="darken" w="71955" h="21600">
                <a:moveTo>
                  <a:pt x="71955" y="0"/>
                </a:moveTo>
                <a:lnTo>
                  <a:pt x="71955" y="21600"/>
                </a:lnTo>
                <a:lnTo>
                  <a:pt x="70555" y="20200"/>
                </a:lnTo>
                <a:lnTo>
                  <a:pt x="70555" y="1400"/>
                </a:lnTo>
                <a:close/>
              </a:path>
              <a:path fill="darkenLess" w="71955" h="21600">
                <a:moveTo>
                  <a:pt x="71955" y="21600"/>
                </a:moveTo>
                <a:lnTo>
                  <a:pt x="0" y="21600"/>
                </a:lnTo>
                <a:lnTo>
                  <a:pt x="1400" y="20200"/>
                </a:lnTo>
                <a:lnTo>
                  <a:pt x="70555" y="20200"/>
                </a:lnTo>
                <a:close/>
              </a:path>
              <a:path fill="lighten" w="71955"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8" name="AutoShape 5"/>
          <p:cNvSpPr/>
          <p:nvPr/>
        </p:nvSpPr>
        <p:spPr>
          <a:xfrm>
            <a:off x="4952880" y="5562720"/>
            <a:ext cx="1752840" cy="457200"/>
          </a:xfrm>
          <a:custGeom>
            <a:avLst/>
            <a:gdLst>
              <a:gd name="textAreaLeft" fmla="*/ 29520 w 1752840"/>
              <a:gd name="textAreaRight" fmla="*/ 1723320 w 1752840"/>
              <a:gd name="textAreaTop" fmla="*/ 29520 h 457200"/>
              <a:gd name="textAreaBottom" fmla="*/ 427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1363" y="1400"/>
                </a:lnTo>
                <a:lnTo>
                  <a:pt x="1400" y="1400"/>
                </a:lnTo>
                <a:close/>
              </a:path>
              <a:path fill="darken" w="82763" h="21600">
                <a:moveTo>
                  <a:pt x="82763" y="0"/>
                </a:moveTo>
                <a:lnTo>
                  <a:pt x="82763" y="21600"/>
                </a:lnTo>
                <a:lnTo>
                  <a:pt x="81363" y="20200"/>
                </a:lnTo>
                <a:lnTo>
                  <a:pt x="81363" y="1400"/>
                </a:lnTo>
                <a:close/>
              </a:path>
              <a:path fill="darkenLess" w="82763" h="21600">
                <a:moveTo>
                  <a:pt x="82763" y="21600"/>
                </a:moveTo>
                <a:lnTo>
                  <a:pt x="0" y="21600"/>
                </a:lnTo>
                <a:lnTo>
                  <a:pt x="1400" y="20200"/>
                </a:lnTo>
                <a:lnTo>
                  <a:pt x="81363" y="20200"/>
                </a:lnTo>
                <a:close/>
              </a:path>
              <a:path fill="lighten" w="82763"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79" name="AutoShape 6"/>
          <p:cNvSpPr/>
          <p:nvPr/>
        </p:nvSpPr>
        <p:spPr>
          <a:xfrm>
            <a:off x="7086600" y="5562720"/>
            <a:ext cx="1752480" cy="457200"/>
          </a:xfrm>
          <a:custGeom>
            <a:avLst/>
            <a:gdLst>
              <a:gd name="textAreaLeft" fmla="*/ 29520 w 1752480"/>
              <a:gd name="textAreaRight" fmla="*/ 1722960 w 1752480"/>
              <a:gd name="textAreaTop" fmla="*/ 29520 h 457200"/>
              <a:gd name="textAreaBottom" fmla="*/ 42768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81346" y="1400"/>
                </a:lnTo>
                <a:lnTo>
                  <a:pt x="1400" y="1400"/>
                </a:lnTo>
                <a:close/>
              </a:path>
              <a:path fill="darken" w="82746" h="21600">
                <a:moveTo>
                  <a:pt x="82746" y="0"/>
                </a:moveTo>
                <a:lnTo>
                  <a:pt x="82746" y="21600"/>
                </a:lnTo>
                <a:lnTo>
                  <a:pt x="81346" y="20200"/>
                </a:lnTo>
                <a:lnTo>
                  <a:pt x="81346" y="1400"/>
                </a:lnTo>
                <a:close/>
              </a:path>
              <a:path fill="darkenLess" w="82746" h="21600">
                <a:moveTo>
                  <a:pt x="82746" y="21600"/>
                </a:moveTo>
                <a:lnTo>
                  <a:pt x="0" y="21600"/>
                </a:lnTo>
                <a:lnTo>
                  <a:pt x="1400" y="20200"/>
                </a:lnTo>
                <a:lnTo>
                  <a:pt x="81346" y="20200"/>
                </a:lnTo>
                <a:close/>
              </a:path>
              <a:path fill="lighten" w="82746"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81"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I think that this level is a harsh but deserving way to punish the people. They are basically unable to do anything. I do feel sorry for these people but they were ones who committed the crime knowingly that they were not suppose to.</a:t>
            </a:r>
            <a:endParaRPr b="0" lang="en-US" sz="2800" spc="-1" strike="noStrike">
              <a:solidFill>
                <a:srgbClr val="000000"/>
              </a:solidFill>
              <a:latin typeface="Arial"/>
            </a:endParaRPr>
          </a:p>
        </p:txBody>
      </p:sp>
      <p:sp>
        <p:nvSpPr>
          <p:cNvPr id="482" name="AutoShape 4"/>
          <p:cNvSpPr/>
          <p:nvPr/>
        </p:nvSpPr>
        <p:spPr>
          <a:xfrm>
            <a:off x="2971800" y="57150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3" name="PlaceHolder 1"/>
          <p:cNvSpPr>
            <a:spLocks noGrp="1"/>
          </p:cNvSpPr>
          <p:nvPr>
            <p:ph/>
          </p:nvPr>
        </p:nvSpPr>
        <p:spPr>
          <a:xfrm>
            <a:off x="2895480" y="1600200"/>
            <a:ext cx="6019920" cy="4525920"/>
          </a:xfrm>
          <a:prstGeom prst="rect">
            <a:avLst/>
          </a:prstGeom>
          <a:solidFill>
            <a:srgbClr val="000000"/>
          </a:solidFill>
          <a:ln w="0">
            <a:noFill/>
          </a:ln>
        </p:spPr>
        <p:txBody>
          <a:bodyPr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Has been DENIED!</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You need to go back and complete your levels before entering here.</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Do not try this route again or you will be doom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AutoShape 4"/>
          <p:cNvSpPr/>
          <p:nvPr/>
        </p:nvSpPr>
        <p:spPr>
          <a:xfrm>
            <a:off x="2895480" y="0"/>
            <a:ext cx="6019920" cy="1523880"/>
          </a:xfrm>
          <a:prstGeom prst="horizontalScroll">
            <a:avLst>
              <a:gd name="adj" fmla="val 125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5" name="PlaceHolder 1"/>
          <p:cNvSpPr>
            <a:spLocks noGrp="1"/>
          </p:cNvSpPr>
          <p:nvPr>
            <p:ph/>
          </p:nvPr>
        </p:nvSpPr>
        <p:spPr>
          <a:xfrm>
            <a:off x="2895480" y="1600200"/>
            <a:ext cx="6019920" cy="4525920"/>
          </a:xfrm>
          <a:prstGeom prst="rect">
            <a:avLst/>
          </a:prstGeom>
          <a:solidFill>
            <a:srgbClr val="000000"/>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 </a:t>
            </a:r>
            <a:r>
              <a:rPr b="0" lang="en-US" sz="3200" spc="-1" strike="noStrike">
                <a:solidFill>
                  <a:srgbClr val="ffffff"/>
                </a:solidFill>
                <a:latin typeface="Chiller"/>
              </a:rPr>
              <a:t>After touring hell I am going to make sure I never go there. I learn that there are some crazy consequences. To make sure I don’t have to come back here, I am going to be as honest as I can be to everyone and be respectful. </a:t>
            </a:r>
            <a:endParaRPr b="0" lang="en-US" sz="3200" spc="-1" strike="noStrike">
              <a:solidFill>
                <a:srgbClr val="000000"/>
              </a:solidFill>
              <a:latin typeface="Arial"/>
            </a:endParaRPr>
          </a:p>
        </p:txBody>
      </p:sp>
      <p:sp>
        <p:nvSpPr>
          <p:cNvPr id="486" name="AutoShape 3"/>
          <p:cNvSpPr/>
          <p:nvPr/>
        </p:nvSpPr>
        <p:spPr>
          <a:xfrm>
            <a:off x="2895480" y="0"/>
            <a:ext cx="6019920" cy="1523880"/>
          </a:xfrm>
          <a:prstGeom prst="horizontalScroll">
            <a:avLst>
              <a:gd name="adj" fmla="val 125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7" descr="http://farm4.static.flickr.com/3326/3210399913_69393914de.jpg"/>
          <p:cNvPicPr/>
          <p:nvPr/>
        </p:nvPicPr>
        <p:blipFill>
          <a:blip r:embed="rId1"/>
          <a:stretch/>
        </p:blipFill>
        <p:spPr>
          <a:xfrm>
            <a:off x="5475240" y="1828800"/>
            <a:ext cx="3487680" cy="4305240"/>
          </a:xfrm>
          <a:prstGeom prst="rect">
            <a:avLst/>
          </a:prstGeom>
          <a:ln w="0">
            <a:noFill/>
          </a:ln>
        </p:spPr>
      </p:pic>
      <p:sp>
        <p:nvSpPr>
          <p:cNvPr id="421" name="PlaceHolder 1"/>
          <p:cNvSpPr>
            <a:spLocks noGrp="1"/>
          </p:cNvSpPr>
          <p:nvPr>
            <p:ph type="title"/>
          </p:nvPr>
        </p:nvSpPr>
        <p:spPr>
          <a:xfrm>
            <a:off x="2895480" y="2743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FangSong"/>
                <a:ea typeface="FangSong"/>
              </a:rPr>
              <a:t>Meet My Guide</a:t>
            </a:r>
            <a:endParaRPr b="0" lang="en-US" sz="7200" spc="-1" strike="noStrike">
              <a:solidFill>
                <a:srgbClr val="ffffff"/>
              </a:solidFill>
              <a:latin typeface="Chiller"/>
            </a:endParaRPr>
          </a:p>
        </p:txBody>
      </p:sp>
      <p:sp>
        <p:nvSpPr>
          <p:cNvPr id="422"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7f7f7f"/>
                </a:solidFill>
                <a:latin typeface="Arial"/>
              </a:rPr>
              <a:t>Clifford Joseph Harris Jr. was born on September 25, 1980 in Atlanta, Georgia. He is mainly known as T.I. T.I. is in the music industry. He is a well known rapper, especially in the south. T.I. was also an actor in the movie </a:t>
            </a:r>
            <a:r>
              <a:rPr b="0" lang="en-US" sz="2000" spc="-1" strike="noStrike" u="sng">
                <a:solidFill>
                  <a:srgbClr val="7f7f7f"/>
                </a:solidFill>
                <a:uFillTx/>
                <a:latin typeface="Arial"/>
              </a:rPr>
              <a:t>ATL</a:t>
            </a:r>
            <a:r>
              <a:rPr b="0" lang="en-US" sz="2000" spc="-1" strike="noStrike">
                <a:solidFill>
                  <a:srgbClr val="7f7f7f"/>
                </a:solidFill>
                <a:latin typeface="Arial"/>
              </a:rPr>
              <a:t> and </a:t>
            </a:r>
            <a:r>
              <a:rPr b="0" lang="en-US" sz="2000" spc="-1" strike="noStrike" u="sng">
                <a:solidFill>
                  <a:srgbClr val="7f7f7f"/>
                </a:solidFill>
                <a:uFillTx/>
                <a:latin typeface="Arial"/>
              </a:rPr>
              <a:t>American Gangster</a:t>
            </a:r>
            <a:r>
              <a:rPr b="0" lang="en-US" sz="2000" spc="-1" strike="noStrike">
                <a:solidFill>
                  <a:srgbClr val="7f7f7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FangSong"/>
                <a:ea typeface="FangSong"/>
              </a:rPr>
              <a:t>Meet Me</a:t>
            </a:r>
            <a:endParaRPr b="0" lang="en-US" sz="8800" spc="-1" strike="noStrike">
              <a:solidFill>
                <a:srgbClr val="ffffff"/>
              </a:solidFill>
              <a:latin typeface="Chiller"/>
            </a:endParaRPr>
          </a:p>
        </p:txBody>
      </p:sp>
      <p:sp>
        <p:nvSpPr>
          <p:cNvPr id="424"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400" spc="-1" strike="noStrike">
                <a:solidFill>
                  <a:srgbClr val="ffffff"/>
                </a:solidFill>
                <a:latin typeface="Arial"/>
              </a:rPr>
              <a:t>My name is Pairee Bunrout. I was born on February 21,1994. I am a sophomore at North Penn High School.  I am Thai, Laos, and Cambodian. My favorite color is green. I love money!</a:t>
            </a:r>
            <a:endParaRPr b="0" lang="en-US" sz="2400" spc="-1" strike="noStrike">
              <a:solidFill>
                <a:srgbClr val="000000"/>
              </a:solidFill>
              <a:latin typeface="Arial"/>
            </a:endParaRPr>
          </a:p>
        </p:txBody>
      </p:sp>
      <p:pic>
        <p:nvPicPr>
          <p:cNvPr id="425" name="Picture 5" descr="http://www.mbablogs.businessweek.com/pub/www/YoungFemaleEntrepreneur/Money_tree.jpg"/>
          <p:cNvPicPr/>
          <p:nvPr/>
        </p:nvPicPr>
        <p:blipFill>
          <a:blip r:embed="rId1"/>
          <a:stretch/>
        </p:blipFill>
        <p:spPr>
          <a:xfrm>
            <a:off x="6400800" y="3352680"/>
            <a:ext cx="2600280" cy="279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FangSong"/>
                <a:ea typeface="FangSong"/>
              </a:rPr>
              <a:t>Level A</a:t>
            </a:r>
            <a:endParaRPr b="0" lang="en-US" sz="8800" spc="-1" strike="noStrike">
              <a:solidFill>
                <a:srgbClr val="ffffff"/>
              </a:solidFill>
              <a:latin typeface="Chiller"/>
            </a:endParaRPr>
          </a:p>
        </p:txBody>
      </p:sp>
      <p:sp>
        <p:nvSpPr>
          <p:cNvPr id="427" name="PlaceHolder 2"/>
          <p:cNvSpPr>
            <a:spLocks noGrp="1"/>
          </p:cNvSpPr>
          <p:nvPr>
            <p:ph/>
          </p:nvPr>
        </p:nvSpPr>
        <p:spPr>
          <a:xfrm rot="16200000">
            <a:off x="1919880" y="1127880"/>
            <a:ext cx="6019920" cy="4525920"/>
          </a:xfrm>
          <a:prstGeom prst="rect">
            <a:avLst/>
          </a:prstGeom>
          <a:noFill/>
          <a:ln w="0">
            <a:noFill/>
          </a:ln>
        </p:spPr>
        <p:txBody>
          <a:bodyPr anchor="t">
            <a:normAutofit/>
          </a:bodyPr>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Disrespect </a:t>
            </a:r>
            <a:endParaRPr b="0" lang="en-US" sz="6600" spc="-1" strike="noStrike">
              <a:solidFill>
                <a:srgbClr val="000000"/>
              </a:solidFill>
              <a:latin typeface="Arial"/>
            </a:endParaRPr>
          </a:p>
        </p:txBody>
      </p:sp>
      <p:sp>
        <p:nvSpPr>
          <p:cNvPr id="428" name="AutoShape 4">
            <a:hlinkClick r:id="" action="ppaction://hlinkshowjump?jump=nextslide"/>
          </p:cNvPr>
          <p:cNvSpPr/>
          <p:nvPr/>
        </p:nvSpPr>
        <p:spPr>
          <a:xfrm>
            <a:off x="2895480" y="571500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9" name="AutoShape 8">
            <a:hlinkClick r:id="rId1" action="ppaction://hlinksldjump"/>
          </p:cNvPr>
          <p:cNvSpPr/>
          <p:nvPr/>
        </p:nvSpPr>
        <p:spPr>
          <a:xfrm>
            <a:off x="5181480" y="571500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0" name="AutoShape 9">
            <a:hlinkClick r:id="rId2" action="ppaction://hlinksldjump"/>
          </p:cNvPr>
          <p:cNvSpPr/>
          <p:nvPr/>
        </p:nvSpPr>
        <p:spPr>
          <a:xfrm>
            <a:off x="7543800" y="571500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31" name="Picture 11" descr="http://www.micheleborba.com/Media/ExtingishDisrespect.gif"/>
          <p:cNvPicPr/>
          <p:nvPr/>
        </p:nvPicPr>
        <p:blipFill>
          <a:blip r:embed="rId3"/>
          <a:stretch/>
        </p:blipFill>
        <p:spPr>
          <a:xfrm>
            <a:off x="4495680" y="1447920"/>
            <a:ext cx="3048120" cy="403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hiller"/>
              </a:rPr>
              <a:t>Level A, The Crime</a:t>
            </a:r>
            <a:endParaRPr b="0" lang="en-US" sz="4800" spc="-1" strike="noStrike">
              <a:solidFill>
                <a:srgbClr val="ffffff"/>
              </a:solidFill>
              <a:latin typeface="Chiller"/>
            </a:endParaRPr>
          </a:p>
        </p:txBody>
      </p:sp>
      <p:sp>
        <p:nvSpPr>
          <p:cNvPr id="433" name="AutoShape 4">
            <a:hlinkClick r:id="" action="ppaction://hlinkshowjump?jump=nextslide"/>
          </p:cNvPr>
          <p:cNvSpPr/>
          <p:nvPr/>
        </p:nvSpPr>
        <p:spPr>
          <a:xfrm>
            <a:off x="2743200" y="5562720"/>
            <a:ext cx="1447920" cy="457200"/>
          </a:xfrm>
          <a:custGeom>
            <a:avLst/>
            <a:gdLst>
              <a:gd name="textAreaLeft" fmla="*/ 29520 w 1447920"/>
              <a:gd name="textAreaRight" fmla="*/ 1418400 w 1447920"/>
              <a:gd name="textAreaTop" fmla="*/ 29520 h 457200"/>
              <a:gd name="textAreaBottom" fmla="*/ 42768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6969" y="1400"/>
                </a:lnTo>
                <a:lnTo>
                  <a:pt x="1400" y="1400"/>
                </a:lnTo>
                <a:close/>
              </a:path>
              <a:path fill="darken" w="68369" h="21600">
                <a:moveTo>
                  <a:pt x="68369" y="0"/>
                </a:moveTo>
                <a:lnTo>
                  <a:pt x="68369" y="21600"/>
                </a:lnTo>
                <a:lnTo>
                  <a:pt x="66969" y="20200"/>
                </a:lnTo>
                <a:lnTo>
                  <a:pt x="66969" y="1400"/>
                </a:lnTo>
                <a:close/>
              </a:path>
              <a:path fill="darkenLess" w="68369" h="21600">
                <a:moveTo>
                  <a:pt x="68369" y="21600"/>
                </a:moveTo>
                <a:lnTo>
                  <a:pt x="0" y="21600"/>
                </a:lnTo>
                <a:lnTo>
                  <a:pt x="1400" y="20200"/>
                </a:lnTo>
                <a:lnTo>
                  <a:pt x="66969" y="20200"/>
                </a:lnTo>
                <a:close/>
              </a:path>
              <a:path fill="lighten" w="68369"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4" name="AutoShape 7">
            <a:hlinkClick r:id="rId1" action="ppaction://hlinksldjump"/>
          </p:cNvPr>
          <p:cNvSpPr/>
          <p:nvPr/>
        </p:nvSpPr>
        <p:spPr>
          <a:xfrm>
            <a:off x="5029200" y="5562720"/>
            <a:ext cx="1523880" cy="457200"/>
          </a:xfrm>
          <a:custGeom>
            <a:avLst/>
            <a:gdLst>
              <a:gd name="textAreaLeft" fmla="*/ 29520 w 1523880"/>
              <a:gd name="textAreaRight" fmla="*/ 1494360 w 1523880"/>
              <a:gd name="textAreaTop" fmla="*/ 29520 h 457200"/>
              <a:gd name="textAreaBottom" fmla="*/ 42768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70555" y="1400"/>
                </a:lnTo>
                <a:lnTo>
                  <a:pt x="1400" y="1400"/>
                </a:lnTo>
                <a:close/>
              </a:path>
              <a:path fill="darken" w="71955" h="21600">
                <a:moveTo>
                  <a:pt x="71955" y="0"/>
                </a:moveTo>
                <a:lnTo>
                  <a:pt x="71955" y="21600"/>
                </a:lnTo>
                <a:lnTo>
                  <a:pt x="70555" y="20200"/>
                </a:lnTo>
                <a:lnTo>
                  <a:pt x="70555" y="1400"/>
                </a:lnTo>
                <a:close/>
              </a:path>
              <a:path fill="darkenLess" w="71955" h="21600">
                <a:moveTo>
                  <a:pt x="71955" y="21600"/>
                </a:moveTo>
                <a:lnTo>
                  <a:pt x="0" y="21600"/>
                </a:lnTo>
                <a:lnTo>
                  <a:pt x="1400" y="20200"/>
                </a:lnTo>
                <a:lnTo>
                  <a:pt x="70555" y="20200"/>
                </a:lnTo>
                <a:close/>
              </a:path>
              <a:path fill="lighten" w="71955"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5" name="AutoShape 8">
            <a:hlinkClick r:id="rId2" action="ppaction://hlinksldjump"/>
          </p:cNvPr>
          <p:cNvSpPr/>
          <p:nvPr/>
        </p:nvSpPr>
        <p:spPr>
          <a:xfrm>
            <a:off x="7238880" y="5562720"/>
            <a:ext cx="1676520" cy="457200"/>
          </a:xfrm>
          <a:custGeom>
            <a:avLst/>
            <a:gdLst>
              <a:gd name="textAreaLeft" fmla="*/ 29520 w 1676520"/>
              <a:gd name="textAreaRight" fmla="*/ 1647000 w 1676520"/>
              <a:gd name="textAreaTop" fmla="*/ 29520 h 457200"/>
              <a:gd name="textAreaBottom" fmla="*/ 42768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7760" y="1400"/>
                </a:lnTo>
                <a:lnTo>
                  <a:pt x="1400" y="1400"/>
                </a:lnTo>
                <a:close/>
              </a:path>
              <a:path fill="darken" w="79160" h="21600">
                <a:moveTo>
                  <a:pt x="79160" y="0"/>
                </a:moveTo>
                <a:lnTo>
                  <a:pt x="79160" y="21600"/>
                </a:lnTo>
                <a:lnTo>
                  <a:pt x="77760" y="20200"/>
                </a:lnTo>
                <a:lnTo>
                  <a:pt x="77760" y="1400"/>
                </a:lnTo>
                <a:close/>
              </a:path>
              <a:path fill="darkenLess" w="79160" h="21600">
                <a:moveTo>
                  <a:pt x="79160" y="21600"/>
                </a:moveTo>
                <a:lnTo>
                  <a:pt x="0" y="21600"/>
                </a:lnTo>
                <a:lnTo>
                  <a:pt x="1400" y="20200"/>
                </a:lnTo>
                <a:lnTo>
                  <a:pt x="77760" y="20200"/>
                </a:lnTo>
                <a:close/>
              </a:path>
              <a:path fill="lighten" w="79160"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6" name="TextBox 7"/>
          <p:cNvSpPr/>
          <p:nvPr/>
        </p:nvSpPr>
        <p:spPr>
          <a:xfrm>
            <a:off x="3048120" y="1523880"/>
            <a:ext cx="52578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rime of disrespect is done but not respecting other people. When you disrespect a person you are mainly taking back, talking about them, or getting involved with someone else business for no reason at all. People in this level would be Kanye West, Tiger Woods, and Emin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2743200" y="304560"/>
            <a:ext cx="6400800" cy="111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FangSong"/>
                <a:ea typeface="FangSong"/>
              </a:rPr>
              <a:t>Level A,</a:t>
            </a:r>
            <a:br>
              <a:rPr sz="4800"/>
            </a:br>
            <a:r>
              <a:rPr b="0" lang="en-US" sz="4800" spc="-1" strike="noStrike">
                <a:solidFill>
                  <a:srgbClr val="ffffff"/>
                </a:solidFill>
                <a:latin typeface="FangSong"/>
                <a:ea typeface="FangSong"/>
              </a:rPr>
              <a:t> The Punishment</a:t>
            </a:r>
            <a:endParaRPr b="0" lang="en-US" sz="4800" spc="-1" strike="noStrike">
              <a:solidFill>
                <a:srgbClr val="ffffff"/>
              </a:solidFill>
              <a:latin typeface="Chiller"/>
            </a:endParaRPr>
          </a:p>
        </p:txBody>
      </p:sp>
      <p:sp>
        <p:nvSpPr>
          <p:cNvPr id="438"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 this level of hell you will receive the punishment of annoyance. When you are in this level you will hear voices. These voices will be loud and obnoxious. Everyone will have there own voice following them. The voice that will follow you around will be the person you disrespected the most.  You will not me able to talk to anyone because the size of your month will be the size of a straw hole.</a:t>
            </a:r>
            <a:endParaRPr b="0" lang="en-US" sz="2000" spc="-1" strike="noStrike">
              <a:solidFill>
                <a:srgbClr val="000000"/>
              </a:solidFill>
              <a:latin typeface="Arial"/>
            </a:endParaRPr>
          </a:p>
        </p:txBody>
      </p:sp>
      <p:sp>
        <p:nvSpPr>
          <p:cNvPr id="439" name="AutoShape 4">
            <a:hlinkClick r:id="" action="ppaction://hlinkshowjump?jump=nextslide"/>
          </p:cNvPr>
          <p:cNvSpPr/>
          <p:nvPr/>
        </p:nvSpPr>
        <p:spPr>
          <a:xfrm>
            <a:off x="2895480" y="5638680"/>
            <a:ext cx="1752840" cy="457200"/>
          </a:xfrm>
          <a:custGeom>
            <a:avLst/>
            <a:gdLst>
              <a:gd name="textAreaLeft" fmla="*/ 29520 w 1752840"/>
              <a:gd name="textAreaRight" fmla="*/ 1723320 w 1752840"/>
              <a:gd name="textAreaTop" fmla="*/ 29520 h 457200"/>
              <a:gd name="textAreaBottom" fmla="*/ 427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1363" y="1400"/>
                </a:lnTo>
                <a:lnTo>
                  <a:pt x="1400" y="1400"/>
                </a:lnTo>
                <a:close/>
              </a:path>
              <a:path fill="darken" w="82763" h="21600">
                <a:moveTo>
                  <a:pt x="82763" y="0"/>
                </a:moveTo>
                <a:lnTo>
                  <a:pt x="82763" y="21600"/>
                </a:lnTo>
                <a:lnTo>
                  <a:pt x="81363" y="20200"/>
                </a:lnTo>
                <a:lnTo>
                  <a:pt x="81363" y="1400"/>
                </a:lnTo>
                <a:close/>
              </a:path>
              <a:path fill="darkenLess" w="82763" h="21600">
                <a:moveTo>
                  <a:pt x="82763" y="21600"/>
                </a:moveTo>
                <a:lnTo>
                  <a:pt x="0" y="21600"/>
                </a:lnTo>
                <a:lnTo>
                  <a:pt x="1400" y="20200"/>
                </a:lnTo>
                <a:lnTo>
                  <a:pt x="81363" y="20200"/>
                </a:lnTo>
                <a:close/>
              </a:path>
              <a:path fill="lighten" w="82763"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40" name="AutoShape 5">
            <a:hlinkClick r:id="rId1" action="ppaction://hlinksldjump"/>
          </p:cNvPr>
          <p:cNvSpPr/>
          <p:nvPr/>
        </p:nvSpPr>
        <p:spPr>
          <a:xfrm>
            <a:off x="5105520" y="5638680"/>
            <a:ext cx="1600200" cy="457200"/>
          </a:xfrm>
          <a:custGeom>
            <a:avLst/>
            <a:gdLst>
              <a:gd name="textAreaLeft" fmla="*/ 29520 w 1600200"/>
              <a:gd name="textAreaRight" fmla="*/ 1570680 w 1600200"/>
              <a:gd name="textAreaTop" fmla="*/ 29520 h 457200"/>
              <a:gd name="textAreaBottom" fmla="*/ 42768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4158" y="1400"/>
                </a:lnTo>
                <a:lnTo>
                  <a:pt x="1400" y="1400"/>
                </a:lnTo>
                <a:close/>
              </a:path>
              <a:path fill="darken" w="75558" h="21600">
                <a:moveTo>
                  <a:pt x="75558" y="0"/>
                </a:moveTo>
                <a:lnTo>
                  <a:pt x="75558" y="21600"/>
                </a:lnTo>
                <a:lnTo>
                  <a:pt x="74158" y="20200"/>
                </a:lnTo>
                <a:lnTo>
                  <a:pt x="74158" y="1400"/>
                </a:lnTo>
                <a:close/>
              </a:path>
              <a:path fill="darkenLess" w="75558" h="21600">
                <a:moveTo>
                  <a:pt x="75558" y="21600"/>
                </a:moveTo>
                <a:lnTo>
                  <a:pt x="0" y="21600"/>
                </a:lnTo>
                <a:lnTo>
                  <a:pt x="1400" y="20200"/>
                </a:lnTo>
                <a:lnTo>
                  <a:pt x="74158" y="20200"/>
                </a:lnTo>
                <a:close/>
              </a:path>
              <a:path fill="lighten" w="75558"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41" name="AutoShape 6">
            <a:hlinkClick r:id="rId2" action="ppaction://hlinksldjump"/>
          </p:cNvPr>
          <p:cNvSpPr/>
          <p:nvPr/>
        </p:nvSpPr>
        <p:spPr>
          <a:xfrm>
            <a:off x="7086600" y="5638680"/>
            <a:ext cx="1752480" cy="457200"/>
          </a:xfrm>
          <a:custGeom>
            <a:avLst/>
            <a:gdLst>
              <a:gd name="textAreaLeft" fmla="*/ 29520 w 1752480"/>
              <a:gd name="textAreaRight" fmla="*/ 1722960 w 1752480"/>
              <a:gd name="textAreaTop" fmla="*/ 29520 h 457200"/>
              <a:gd name="textAreaBottom" fmla="*/ 42768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81346" y="1400"/>
                </a:lnTo>
                <a:lnTo>
                  <a:pt x="1400" y="1400"/>
                </a:lnTo>
                <a:close/>
              </a:path>
              <a:path fill="darken" w="82746" h="21600">
                <a:moveTo>
                  <a:pt x="82746" y="0"/>
                </a:moveTo>
                <a:lnTo>
                  <a:pt x="82746" y="21600"/>
                </a:lnTo>
                <a:lnTo>
                  <a:pt x="81346" y="20200"/>
                </a:lnTo>
                <a:lnTo>
                  <a:pt x="81346" y="1400"/>
                </a:lnTo>
                <a:close/>
              </a:path>
              <a:path fill="darkenLess" w="82746" h="21600">
                <a:moveTo>
                  <a:pt x="82746" y="21600"/>
                </a:moveTo>
                <a:lnTo>
                  <a:pt x="0" y="21600"/>
                </a:lnTo>
                <a:lnTo>
                  <a:pt x="1400" y="20200"/>
                </a:lnTo>
                <a:lnTo>
                  <a:pt x="81346" y="20200"/>
                </a:lnTo>
                <a:close/>
              </a:path>
              <a:path fill="lighten" w="82746"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FangSong"/>
                <a:ea typeface="FangSong"/>
              </a:rPr>
              <a:t>Level A, My Reaction</a:t>
            </a:r>
            <a:endParaRPr b="0" lang="en-US" sz="6000" spc="-1" strike="noStrike">
              <a:solidFill>
                <a:srgbClr val="ffffff"/>
              </a:solidFill>
              <a:latin typeface="Chiller"/>
            </a:endParaRPr>
          </a:p>
        </p:txBody>
      </p:sp>
      <p:sp>
        <p:nvSpPr>
          <p:cNvPr id="443"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is level the people in there deserve the punishment. However I do feel sorry for them because the voices are really annoying. </a:t>
            </a:r>
            <a:endParaRPr b="0" lang="en-US" sz="3200" spc="-1" strike="noStrike">
              <a:solidFill>
                <a:srgbClr val="000000"/>
              </a:solidFill>
              <a:latin typeface="Arial"/>
            </a:endParaRPr>
          </a:p>
        </p:txBody>
      </p:sp>
      <p:sp>
        <p:nvSpPr>
          <p:cNvPr id="444" name="AutoShape 4">
            <a:hlinkClick r:id="" action="ppaction://hlinkshowjump?jump=nextslide"/>
          </p:cNvPr>
          <p:cNvSpPr/>
          <p:nvPr/>
        </p:nvSpPr>
        <p:spPr>
          <a:xfrm>
            <a:off x="2895480" y="56386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8" descr="http://www.wpclipart.com/working/murder_scene.png"/>
          <p:cNvPicPr/>
          <p:nvPr/>
        </p:nvPicPr>
        <p:blipFill>
          <a:blip r:embed="rId1"/>
          <a:stretch/>
        </p:blipFill>
        <p:spPr>
          <a:xfrm>
            <a:off x="3809880" y="2286000"/>
            <a:ext cx="4267440" cy="3205080"/>
          </a:xfrm>
          <a:prstGeom prst="rect">
            <a:avLst/>
          </a:prstGeom>
          <a:ln w="0">
            <a:noFill/>
          </a:ln>
        </p:spPr>
      </p:pic>
      <p:sp>
        <p:nvSpPr>
          <p:cNvPr id="446"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Chiller"/>
              </a:rPr>
              <a:t>Level B</a:t>
            </a:r>
            <a:endParaRPr b="0" lang="en-US" sz="8000" spc="-1" strike="noStrike">
              <a:solidFill>
                <a:srgbClr val="ffffff"/>
              </a:solidFill>
              <a:latin typeface="Chiller"/>
            </a:endParaRPr>
          </a:p>
        </p:txBody>
      </p:sp>
      <p:sp>
        <p:nvSpPr>
          <p:cNvPr id="447" name="PlaceHolder 2"/>
          <p:cNvSpPr>
            <a:spLocks noGrp="1"/>
          </p:cNvSpPr>
          <p:nvPr>
            <p:ph/>
          </p:nvPr>
        </p:nvSpPr>
        <p:spPr>
          <a:xfrm>
            <a:off x="3124080" y="1371600"/>
            <a:ext cx="6019920" cy="452592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Murder </a:t>
            </a:r>
            <a:endParaRPr b="0" lang="en-US" sz="5400" spc="-1" strike="noStrike">
              <a:solidFill>
                <a:srgbClr val="000000"/>
              </a:solidFill>
              <a:latin typeface="Arial"/>
            </a:endParaRPr>
          </a:p>
        </p:txBody>
      </p:sp>
      <p:sp>
        <p:nvSpPr>
          <p:cNvPr id="448" name="AutoShape 4">
            <a:hlinkClick r:id="" action="ppaction://hlinkshowjump?jump=nextslide"/>
          </p:cNvPr>
          <p:cNvSpPr/>
          <p:nvPr/>
        </p:nvSpPr>
        <p:spPr>
          <a:xfrm>
            <a:off x="2895480" y="5715000"/>
            <a:ext cx="1447920" cy="380880"/>
          </a:xfrm>
          <a:custGeom>
            <a:avLst/>
            <a:gdLst>
              <a:gd name="textAreaLeft" fmla="*/ 24480 w 1447920"/>
              <a:gd name="textAreaRight" fmla="*/ 1423440 w 1447920"/>
              <a:gd name="textAreaTop" fmla="*/ 24480 h 380880"/>
              <a:gd name="textAreaBottom" fmla="*/ 35640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80656" y="1400"/>
                </a:lnTo>
                <a:lnTo>
                  <a:pt x="1400" y="1400"/>
                </a:lnTo>
                <a:close/>
              </a:path>
              <a:path fill="darken" w="82056" h="21600">
                <a:moveTo>
                  <a:pt x="82056" y="0"/>
                </a:moveTo>
                <a:lnTo>
                  <a:pt x="82056" y="21600"/>
                </a:lnTo>
                <a:lnTo>
                  <a:pt x="80656" y="20200"/>
                </a:lnTo>
                <a:lnTo>
                  <a:pt x="80656" y="1400"/>
                </a:lnTo>
                <a:close/>
              </a:path>
              <a:path fill="darkenLess" w="82056" h="21600">
                <a:moveTo>
                  <a:pt x="82056" y="21600"/>
                </a:moveTo>
                <a:lnTo>
                  <a:pt x="0" y="21600"/>
                </a:lnTo>
                <a:lnTo>
                  <a:pt x="1400" y="20200"/>
                </a:lnTo>
                <a:lnTo>
                  <a:pt x="80656" y="20200"/>
                </a:lnTo>
                <a:close/>
              </a:path>
              <a:path fill="lighten" w="82056"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9" name="AutoShape 5">
            <a:hlinkClick r:id="rId2" action="ppaction://hlinksldjump"/>
          </p:cNvPr>
          <p:cNvSpPr/>
          <p:nvPr/>
        </p:nvSpPr>
        <p:spPr>
          <a:xfrm>
            <a:off x="5029200" y="5715000"/>
            <a:ext cx="1676520" cy="380880"/>
          </a:xfrm>
          <a:custGeom>
            <a:avLst/>
            <a:gdLst>
              <a:gd name="textAreaLeft" fmla="*/ 24480 w 1676520"/>
              <a:gd name="textAreaRight" fmla="*/ 1652040 w 1676520"/>
              <a:gd name="textAreaTop" fmla="*/ 24480 h 380880"/>
              <a:gd name="textAreaBottom" fmla="*/ 35640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3607" y="1400"/>
                </a:lnTo>
                <a:lnTo>
                  <a:pt x="1400" y="1400"/>
                </a:lnTo>
                <a:close/>
              </a:path>
              <a:path fill="darken" w="95007" h="21600">
                <a:moveTo>
                  <a:pt x="95007" y="0"/>
                </a:moveTo>
                <a:lnTo>
                  <a:pt x="95007" y="21600"/>
                </a:lnTo>
                <a:lnTo>
                  <a:pt x="93607" y="20200"/>
                </a:lnTo>
                <a:lnTo>
                  <a:pt x="93607" y="1400"/>
                </a:lnTo>
                <a:close/>
              </a:path>
              <a:path fill="darkenLess" w="95007" h="21600">
                <a:moveTo>
                  <a:pt x="95007" y="21600"/>
                </a:moveTo>
                <a:lnTo>
                  <a:pt x="0" y="21600"/>
                </a:lnTo>
                <a:lnTo>
                  <a:pt x="1400" y="20200"/>
                </a:lnTo>
                <a:lnTo>
                  <a:pt x="93607" y="20200"/>
                </a:lnTo>
                <a:close/>
              </a:path>
              <a:path fill="lighten" w="95007"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0" name="AutoShape 6">
            <a:hlinkClick r:id="rId3" action="ppaction://hlinksldjump"/>
          </p:cNvPr>
          <p:cNvSpPr/>
          <p:nvPr/>
        </p:nvSpPr>
        <p:spPr>
          <a:xfrm>
            <a:off x="7086600" y="5715000"/>
            <a:ext cx="1752480" cy="380880"/>
          </a:xfrm>
          <a:custGeom>
            <a:avLst/>
            <a:gdLst>
              <a:gd name="textAreaLeft" fmla="*/ 24480 w 1752480"/>
              <a:gd name="textAreaRight" fmla="*/ 1728000 w 1752480"/>
              <a:gd name="textAreaTop" fmla="*/ 24480 h 380880"/>
              <a:gd name="textAreaBottom" fmla="*/ 35640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7911" y="1400"/>
                </a:lnTo>
                <a:lnTo>
                  <a:pt x="1400" y="1400"/>
                </a:lnTo>
                <a:close/>
              </a:path>
              <a:path fill="darken" w="99311" h="21600">
                <a:moveTo>
                  <a:pt x="99311" y="0"/>
                </a:moveTo>
                <a:lnTo>
                  <a:pt x="99311" y="21600"/>
                </a:lnTo>
                <a:lnTo>
                  <a:pt x="97911" y="20200"/>
                </a:lnTo>
                <a:lnTo>
                  <a:pt x="97911" y="1400"/>
                </a:lnTo>
                <a:close/>
              </a:path>
              <a:path fill="darkenLess" w="99311" h="21600">
                <a:moveTo>
                  <a:pt x="99311" y="21600"/>
                </a:moveTo>
                <a:lnTo>
                  <a:pt x="0" y="21600"/>
                </a:lnTo>
                <a:lnTo>
                  <a:pt x="1400" y="20200"/>
                </a:lnTo>
                <a:lnTo>
                  <a:pt x="97911" y="20200"/>
                </a:lnTo>
                <a:close/>
              </a:path>
              <a:path fill="lighten" w="99311"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FangSong"/>
                <a:ea typeface="FangSong"/>
              </a:rPr>
              <a:t>Level B,</a:t>
            </a:r>
            <a:br>
              <a:rPr sz="6000"/>
            </a:br>
            <a:r>
              <a:rPr b="0" lang="en-US" sz="6000" spc="-1" strike="noStrike">
                <a:solidFill>
                  <a:srgbClr val="ffffff"/>
                </a:solidFill>
                <a:latin typeface="FangSong"/>
                <a:ea typeface="FangSong"/>
              </a:rPr>
              <a:t> The Crime</a:t>
            </a:r>
            <a:endParaRPr b="0" lang="en-US" sz="6000" spc="-1" strike="noStrike">
              <a:solidFill>
                <a:srgbClr val="ffffff"/>
              </a:solidFill>
              <a:latin typeface="Chiller"/>
            </a:endParaRPr>
          </a:p>
        </p:txBody>
      </p:sp>
      <p:sp>
        <p:nvSpPr>
          <p:cNvPr id="452" name="PlaceHolder 2"/>
          <p:cNvSpPr>
            <a:spLocks noGrp="1"/>
          </p:cNvSpPr>
          <p:nvPr>
            <p:ph/>
          </p:nvPr>
        </p:nvSpPr>
        <p:spPr>
          <a:xfrm>
            <a:off x="2895480" y="1600200"/>
            <a:ext cx="6019920" cy="4525920"/>
          </a:xfrm>
          <a:prstGeom prst="rect">
            <a:avLst/>
          </a:prstGeom>
          <a:noFill/>
          <a:ln w="0">
            <a:noFill/>
          </a:ln>
        </p:spPr>
        <p:txBody>
          <a:bodyPr anchor="t">
            <a:normAutofit fontScale="93000"/>
          </a:bodyPr>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angSong"/>
                <a:ea typeface="FangSong"/>
              </a:rPr>
              <a:t> </a:t>
            </a:r>
            <a:r>
              <a:rPr b="0" lang="en-US" sz="3200" spc="-1" strike="noStrike">
                <a:solidFill>
                  <a:srgbClr val="ffffff"/>
                </a:solidFill>
                <a:latin typeface="FangSong"/>
                <a:ea typeface="FangSong"/>
              </a:rPr>
              <a:t>In this part of hell people here have killed someone. This could be planned, accidental, or had any part in the death of someone. People in this group would be Hitler, Pol Pot, and Saddam Hussain.</a:t>
            </a:r>
            <a:endParaRPr b="0" lang="en-US" sz="3200" spc="-1" strike="noStrike">
              <a:solidFill>
                <a:srgbClr val="000000"/>
              </a:solidFill>
              <a:latin typeface="Arial"/>
            </a:endParaRPr>
          </a:p>
        </p:txBody>
      </p:sp>
      <p:sp>
        <p:nvSpPr>
          <p:cNvPr id="453" name="AutoShape 5">
            <a:hlinkClick r:id="" action="ppaction://hlinkshowjump?jump=nextslide"/>
          </p:cNvPr>
          <p:cNvSpPr/>
          <p:nvPr/>
        </p:nvSpPr>
        <p:spPr>
          <a:xfrm>
            <a:off x="2971800" y="571500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4" name="AutoShape 6">
            <a:hlinkClick r:id="rId1" action="ppaction://hlinksldjump"/>
          </p:cNvPr>
          <p:cNvSpPr/>
          <p:nvPr/>
        </p:nvSpPr>
        <p:spPr>
          <a:xfrm>
            <a:off x="4724280" y="5715000"/>
            <a:ext cx="1905120" cy="380880"/>
          </a:xfrm>
          <a:custGeom>
            <a:avLst/>
            <a:gdLst>
              <a:gd name="textAreaLeft" fmla="*/ 24480 w 1905120"/>
              <a:gd name="textAreaRight" fmla="*/ 1880640 w 1905120"/>
              <a:gd name="textAreaTop" fmla="*/ 24480 h 380880"/>
              <a:gd name="textAreaBottom" fmla="*/ 35640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6559" y="1400"/>
                </a:lnTo>
                <a:lnTo>
                  <a:pt x="1400" y="1400"/>
                </a:lnTo>
                <a:close/>
              </a:path>
              <a:path fill="darken" w="107959" h="21600">
                <a:moveTo>
                  <a:pt x="107959" y="0"/>
                </a:moveTo>
                <a:lnTo>
                  <a:pt x="107959" y="21600"/>
                </a:lnTo>
                <a:lnTo>
                  <a:pt x="106559" y="20200"/>
                </a:lnTo>
                <a:lnTo>
                  <a:pt x="106559" y="1400"/>
                </a:lnTo>
                <a:close/>
              </a:path>
              <a:path fill="darkenLess" w="107959" h="21600">
                <a:moveTo>
                  <a:pt x="107959" y="21600"/>
                </a:moveTo>
                <a:lnTo>
                  <a:pt x="0" y="21600"/>
                </a:lnTo>
                <a:lnTo>
                  <a:pt x="1400" y="20200"/>
                </a:lnTo>
                <a:lnTo>
                  <a:pt x="106559" y="20200"/>
                </a:lnTo>
                <a:close/>
              </a:path>
              <a:path fill="lighten" w="107959"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5" name="AutoShape 7">
            <a:hlinkClick r:id="rId2" action="ppaction://hlinksldjump"/>
          </p:cNvPr>
          <p:cNvSpPr/>
          <p:nvPr/>
        </p:nvSpPr>
        <p:spPr>
          <a:xfrm>
            <a:off x="6934320" y="5715000"/>
            <a:ext cx="1828800" cy="380880"/>
          </a:xfrm>
          <a:custGeom>
            <a:avLst/>
            <a:gdLst>
              <a:gd name="textAreaLeft" fmla="*/ 24480 w 1828800"/>
              <a:gd name="textAreaRight" fmla="*/ 1804320 w 1828800"/>
              <a:gd name="textAreaTop" fmla="*/ 24480 h 380880"/>
              <a:gd name="textAreaBottom" fmla="*/ 35640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102235" y="1400"/>
                </a:lnTo>
                <a:lnTo>
                  <a:pt x="1400" y="1400"/>
                </a:lnTo>
                <a:close/>
              </a:path>
              <a:path fill="darken" w="103635" h="21600">
                <a:moveTo>
                  <a:pt x="103635" y="0"/>
                </a:moveTo>
                <a:lnTo>
                  <a:pt x="103635" y="21600"/>
                </a:lnTo>
                <a:lnTo>
                  <a:pt x="102235" y="20200"/>
                </a:lnTo>
                <a:lnTo>
                  <a:pt x="102235" y="1400"/>
                </a:lnTo>
                <a:close/>
              </a:path>
              <a:path fill="darkenLess" w="103635" h="21600">
                <a:moveTo>
                  <a:pt x="103635" y="21600"/>
                </a:moveTo>
                <a:lnTo>
                  <a:pt x="0" y="21600"/>
                </a:lnTo>
                <a:lnTo>
                  <a:pt x="1400" y="20200"/>
                </a:lnTo>
                <a:lnTo>
                  <a:pt x="102235" y="20200"/>
                </a:lnTo>
                <a:close/>
              </a:path>
              <a:path fill="lighten" w="103635"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Daddy</cp:lastModifiedBy>
  <dcterms:modified xsi:type="dcterms:W3CDTF">2010-04-09T02:12:45Z</dcterms:modified>
  <cp:revision>78</cp:revision>
  <dc:subject/>
  <dc:title>Dante’s Inferno</dc:title>
</cp:coreProperties>
</file>