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34953-1939-4142-9C46-4D734F7C9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D0178-5E6C-4BC8-BEF9-A7B9F75EB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42CE3-CC93-4C4F-8258-44B0C4777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C94EE-B3A2-47E2-B046-968E359F6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D2B5A-0ED2-476D-A726-B123B3608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F23B1-E333-403E-AB57-0FA9AFEF7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A04ED-0223-4334-A41F-B3D0D964A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53BBF-43A0-4C0C-BF8C-7BEA894D3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4D7F0-01EE-4A7D-BE19-A85B8BE20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B9814-DC60-4495-A70F-E3E1F04D2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C183E-0AFC-41CD-9112-933653B67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1786-8A3B-4159-8939-F547FED67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A2369-C2BD-4A4D-9370-7874FFD4D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FD60A-4770-4DDC-8C4D-5DD480B87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B1DB7-08F8-4C07-BAE8-E3F600855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5CB01-CF48-4316-A74F-2C68A7CE5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8CFF0-2DB7-4A7F-B29B-0EFF9CF48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016591-12AF-4DAF-9376-9C04B11352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4ECE2-613F-4A76-AE15-F10FE2BA72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1DA58-E2CC-4BCD-86F1-EF60FDD3C1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AC1D9-AFA0-430F-AAA5-36030E67A2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25586-28F3-4715-A285-341A1DC6A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AAFF4-4F1E-45E7-9ABC-A3FDA4667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5A0185-958A-4B68-8287-37EA612FB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6162F9-3295-49D6-9410-D5C3345B9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4E6CE-B603-4E6B-BF31-D8A493F78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7A5C9-192A-4475-A017-40B4EBA6E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3CDC2-5E76-4253-887B-2E0A81EB6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B35EBC-61DA-4F44-BB36-A4784D23C6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5EBE2D-5BF8-43F6-9AC1-9D556D3BC7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2F1221-8059-4D8A-84F5-1D7A78503D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38267-7839-440C-A698-9AB4C5498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AD0C5-2C2A-4613-B171-1EC6652E3E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63F00-42A9-43A0-95E1-BE73DC5E8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C4BBDD-E725-4E1E-8A3A-86DA706B0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7B5F1-0FD0-4EAB-8538-2A99AAADD8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C3006-9D98-4D3C-A76C-0D45ECB2E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77707-F647-407D-B969-99A10E9C1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22627-236E-4F16-A7B2-457DA3D2E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C00B8-9D64-4ED4-993B-1173FEDA5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AD98F-5EDA-4139-A93E-4BBB3F8A2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F37A8A-C177-4F50-BAA0-A348DAC676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A0732B-DE40-44BC-A023-CFAF8E1CB1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BA6EBE-FB6B-4170-8C4F-4C5DE421C1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79C5E-512F-4A2E-80BB-6C7A56961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7930B-8239-431F-8D8F-4636E36B8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212B2-D903-40FD-879F-DFCAD2AF9B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76A4BB-CD5B-4998-A745-4F26813CA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F6063-AE9B-4A86-BD02-EC7F98EDA9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FDAC8-D631-4435-86C7-87BDC89AB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FF433-7B0B-4C62-9428-348F86E2B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22FA7-9A31-4FA6-8DFA-FB4C7C583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137BF-2357-4840-9072-D7F0CF798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5BA37D-8C80-4101-921A-6EBD3C9C6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A5D032-6C93-4143-8A5C-54F1B8EB18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17433-3172-46CC-B405-FA7001358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BBB60D-05C4-4406-AE59-EC06CBD32E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C31954-211F-4B8E-AD74-9A8B94A8CD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FF75B-39C1-4CD5-BF9C-AB48C49A6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53C93-D7C4-47BF-BE89-B5A23E49E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BF4C29-E2CA-4A15-9F67-B56C76C76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6CDCD-603C-4B72-A3F2-1C46E6DCC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00298-0928-4810-AF98-699E94C8EE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E92749-F365-45B3-8050-98426C424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C75B7-F89E-4AFB-B3CE-91C748684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D2AD8-9512-4CFE-95AD-D2EE817B0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C4A7-6A5E-44F1-A851-9E94DF52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A93D5-892E-47B9-BF08-BF10C8678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FCE95F-25BD-4CC1-8F48-017736A7B9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8DED49-79D9-4288-9EEF-237F02548E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0BB3D6-E991-4699-88B5-0EF95FD96B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8679FE-DF1D-467C-97EE-C5EC07778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131EA-FE91-440B-B7F2-A0275D961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0B339-62E2-4FE9-A133-8B3CA7E26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90731D-547C-4B2A-B8D8-B950330DC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03686-3717-4AC6-835F-03F5C20657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5AA2B0-453A-48B5-8576-CD92E6ED6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4BCE8-D9E8-454B-A30C-BAEB9BB24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33EFE-D0BE-4439-A5E4-736361B24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A627E-022E-4904-87FE-DF565F372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1C152-4208-4F33-9AE2-ACF53ED85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116D50-D213-4392-8EED-E2ED298B06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4B500B-F226-4BB3-BB17-FED9DE9245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0EF51-3514-434C-B433-DB4EFA5EC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1983-ECEC-49A7-AA24-C90F42D231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B2B6-DC59-46BF-835C-6A0E7EEC43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5436-CF23-47A8-8E34-FE0578923B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7658-25EE-4CF2-8F46-087CB2023B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F258-C933-41B9-AFC8-D572B1C1F2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83B4-920A-4FFB-9DD6-90665E0093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F8CF-6516-4C15-A4BA-35AB851DAB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90920" y="0"/>
            <a:ext cx="6553080" cy="62485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l Fink</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3581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having to play tic-tac-toe for ever and never be able to win or tie you always lose.</a:t>
            </a:r>
            <a:endParaRPr b="0" lang="en-US" sz="32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good for this sin because it would show the person what it is like to have someone cheat and win against you.</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1"/>
          <a:stretch/>
        </p:blipFill>
        <p:spPr>
          <a:xfrm>
            <a:off x="3657600" y="1981080"/>
            <a:ext cx="445788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get you this final layer of my hell is using foul language of any type.</a:t>
            </a:r>
            <a:endParaRPr b="0" lang="en-US" sz="32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having demons scream course words into your ears obnoxiously loud.</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is not so bad at least until your ears drums start to hurt.</a:t>
            </a:r>
            <a:endParaRPr b="0" lang="en-US" sz="32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iller"/>
              </a:rPr>
              <a:t>i learned that even the littlest things have consequences in the after life. I will make sure that I never go there by making sure I do not ever cheat, swear, or lie about anything for the rest of my lif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2590920" y="0"/>
            <a:ext cx="6553080" cy="6286680"/>
          </a:xfrm>
          <a:prstGeom prst="rect">
            <a:avLst/>
          </a:prstGeom>
          <a:ln w="0">
            <a:noFill/>
          </a:ln>
        </p:spPr>
      </p:pic>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uide is Nicole Mesza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cole is a tenth grader at North Penn High school she really likes all music, and plays no sports at all, and loves her English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2590920" y="0"/>
            <a:ext cx="6553080" cy="6248520"/>
          </a:xfrm>
          <a:prstGeom prst="rect">
            <a:avLst/>
          </a:prstGeom>
          <a:ln w="0">
            <a:noFill/>
          </a:ln>
        </p:spPr>
      </p:pic>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0000"/>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y name is Carl Fink and I have 9/16</a:t>
            </a:r>
            <a:r>
              <a:rPr b="0" lang="en-US" sz="3200" spc="-1" strike="noStrike" baseline="30000">
                <a:solidFill>
                  <a:srgbClr val="ff0000"/>
                </a:solidFill>
                <a:latin typeface="Arial"/>
              </a:rPr>
              <a:t>th</a:t>
            </a:r>
            <a:r>
              <a:rPr b="0" lang="en-US" sz="3200" spc="-1" strike="noStrike">
                <a:solidFill>
                  <a:srgbClr val="ff0000"/>
                </a:solidFill>
                <a:latin typeface="Arial"/>
              </a:rPr>
              <a:t> size gauges, I’m in tenth grade, and I want to be a graphic designer when I get older</a:t>
            </a:r>
            <a:r>
              <a:rPr b="0" lang="en-US"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
          <p:cNvPicPr/>
          <p:nvPr/>
        </p:nvPicPr>
        <p:blipFill>
          <a:blip r:embed="rId3"/>
          <a:stretch/>
        </p:blipFill>
        <p:spPr>
          <a:xfrm>
            <a:off x="2895480" y="1600200"/>
            <a:ext cx="609624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282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971800" y="1676520"/>
            <a:ext cx="601992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ying will get you on the first layer of hell. Lying in any form will get you to this layer of hell. This included lying about where you are, about how old you, and what you are do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that would be on this layer of hell would be people like Tiger Woods, and pretty much any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for lying is having your tongue removed so that you will not be able to lie again.</a:t>
            </a:r>
            <a:endParaRPr b="0" lang="en-US" sz="32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think that this is completely justified, and the punishment fits the crime</a:t>
            </a:r>
            <a:endParaRPr b="0" lang="en-US" sz="32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002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ime that will get you to this layer of hell is cheating. Any type of cheating as in relationships, games, contests, or b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46:07Z</dcterms:modified>
  <cp:revision>42</cp:revision>
  <dc:subject/>
  <dc:title>Dante’s Inferno</dc:title>
</cp:coreProperties>
</file>