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B7E4B-C9DE-4E72-B385-A84DA7A10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F57B3-4B9C-48AB-9B8D-8A380195E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12CBA-64A2-491B-B5CA-D1D7CA4F2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81311-C334-456C-92EF-FA1AC0F00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27137E-00EA-4E63-B74A-677C08AD6A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469AE-57BD-4604-94DC-C01FE950C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CD09E-8B73-44DF-9DE5-C8E179CCA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82531-497C-4993-BDD0-A4DB511170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274D3-843E-4913-9912-48C5D33D1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70516-D34D-4DC9-80CD-33788C54F7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38BE6-3340-4245-BCB8-2A664CAEA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67310-98F1-400F-88FC-650C57A59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92D5D-6A86-4527-A3E0-912EB3FAF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3D439-64F6-4364-B399-FC7C96951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C10CA-202F-4E96-B855-51BD7438C9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A46D87-0968-438D-836A-7AC67F1504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03E54A-9CEE-4C56-A7F6-F288D002A3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4BE421-C7E8-458C-B346-70F95351BE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A55EC3-77D1-403B-B0C7-02B26870E3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A5B51B-A973-4703-B790-B4FF01A6B5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171F07-6890-4FAA-AFDB-F6B338A011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808DF9-63A4-437A-AD35-BA3960CEC3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E8126-B1D9-45CC-93DF-EBEE3156F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781659-99A9-4F9A-AB3C-FA0D207FC5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5AC027-8543-4DC5-969C-069A76170D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100393-B425-4947-BA08-685C8ED0A0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81E26F-A356-4E1D-8E76-B9043991A4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B6A738-3670-4E62-9C92-990E51C804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49D2EE-85BC-4858-9000-0119B1BBC7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A16533-B4E2-472E-B590-C3AD278CDE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E2B517-1996-494D-B6C2-BCFA55E2E9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C73CCB-DA0C-47A1-943C-D19D469C99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CB26FA-3BC4-4628-9AAD-D762879B96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55514-FBC9-4070-9C6F-8D59A51D1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BAF8EE-5A7C-44AA-A730-6FA6F4CF92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F78BF3-CBE9-431F-A403-9E12E939ED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0ADCDB-A454-44A3-88C0-1F03584490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95E597-AE20-4A36-B8E7-9E00B4E90A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E46E38-A68C-4C9D-BF49-841F6158CA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E424F0-9F63-4FF3-848B-FA99B2B1C8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A4A2BD-1309-425F-92F0-EA8368A950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46617E-8DC7-46ED-A6A4-FF3DD19839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43111C-0AF2-40DD-BB3C-326AF785A8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8C93A6-7F34-4A06-86F2-79F31852D1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6AD1D-830E-4FD4-93DB-B2695F632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8174E5-1D79-4DEF-88EA-FA961FC239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7DD7DC-D0DA-43DF-9458-6573CBBF55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EC7B3F-CD00-444F-8606-1BA523EB44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B07726-7030-40D1-8960-B7E2F4CB31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C6EB95-EFFF-4445-95F6-6AD1E41176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F9CAB3-17AF-43F0-85E6-C8A81EF46C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55E3E2-9B86-46EF-B4C0-52165C6CD4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44E550-2D6A-4AE5-B14D-142C7F1E12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5477FF-AB9E-483C-8CDF-70DE4300A7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05FDD8-6FEE-46A3-83B7-E4052DCA2C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B224D-0DE2-4B72-BB02-B9C957FF4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C1D3DD-F0F6-4850-8774-A74AACCED6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455F38-E5E5-4D49-9F9C-95437DFAC7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F0F51F-4EEF-4E83-8508-A47670EC67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E7BF9B-4E60-4929-9AE1-C821843B21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D45BC4-067A-4880-B32D-468F10045C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05F985-DC43-416A-B6D6-505369E2DE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993D1E-E759-4DB0-AA32-AF77EB9670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00BEB6-038D-4935-991B-1E5A4FAE4B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A025F4-16B4-48BF-AFED-FEE0E80DF6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219CE9-9258-4672-A1FB-82AC5E9840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270E4-1BFF-41E2-B4ED-A5D167536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CD31D6-B373-4453-936E-2BCF18F3B8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0A5AC2-3DA7-431E-8A59-81AAE670B6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9852B0-3D09-4FB0-BAAE-8C2AB14411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8FEB58-91BF-4006-8148-50A6A92966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0D7016-EE15-479C-8416-F8002B2F82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4399BF-9BA8-4983-B4D4-8603CF99FB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20A55A-FB68-4349-A121-ED1583B792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43F976-D129-4E21-BE64-D0137AD380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D15E8D-5D4A-46AE-92E6-DD8DBDC326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458369-CF0A-4331-891F-1D70E12E7E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A2009-60B3-4249-A04D-A3F2BC76E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F26E67-2B00-4295-9FF7-95EF00EFBF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890B1D-6876-4EBA-B632-F31BA2BC64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3A564D-B219-4A35-A047-5C97654959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4AEFE3-4AAF-41A1-ADFC-D1B55B7542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4F067F-FF0F-4453-B666-2F62FEA296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8424F-F98B-48EC-B360-AA0ADA7153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27133-9FAE-43E6-846B-DA784E323E2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288DF-860F-495B-BA33-5895F0B144F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79D6D-9C2B-4767-8B4E-78B85B9B445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196EB-BB15-4D72-974C-08286BBB3A1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27948-B159-4E1F-96A1-6DCE5D29230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7EE5C-8762-4DBD-B8EC-9E35502C87C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3ECC4-AAB3-45EC-9D3A-DAFD151BBC1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5.jpeg"/><Relationship Id="rId4"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6.jpeg"/><Relationship Id="rId4"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2590920" y="0"/>
            <a:ext cx="6553080" cy="6248520"/>
          </a:xfrm>
          <a:prstGeom prst="rect">
            <a:avLst/>
          </a:prstGeom>
          <a:ln w="0">
            <a:noFill/>
          </a:ln>
        </p:spPr>
      </p:pic>
      <p:sp>
        <p:nvSpPr>
          <p:cNvPr id="414"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l Fink</a:t>
            </a:r>
            <a:endParaRPr b="0" lang="en-US" sz="3200" spc="-1" strike="noStrike">
              <a:solidFill>
                <a:srgbClr val="000000"/>
              </a:solidFill>
              <a:latin typeface="Arial"/>
            </a:endParaRPr>
          </a:p>
        </p:txBody>
      </p:sp>
      <p:sp>
        <p:nvSpPr>
          <p:cNvPr id="415"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pic>
        <p:nvPicPr>
          <p:cNvPr id="416" name="" descr=""/>
          <p:cNvPicPr/>
          <p:nvPr/>
        </p:nvPicPr>
        <p:blipFill>
          <a:blip r:embed="rId2"/>
          <a:stretch/>
        </p:blipFill>
        <p:spPr>
          <a:xfrm>
            <a:off x="3581280" y="6400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1255"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nishment is having to play tic-tac-toe for ever and never be able to win or tie you always lose.</a:t>
            </a:r>
            <a:endParaRPr b="0" lang="en-US" sz="3200" spc="-1" strike="noStrike">
              <a:solidFill>
                <a:srgbClr val="000000"/>
              </a:solidFill>
              <a:latin typeface="Arial"/>
            </a:endParaRPr>
          </a:p>
        </p:txBody>
      </p:sp>
      <p:sp>
        <p:nvSpPr>
          <p:cNvPr id="455"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6" name=""/>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57" name=""/>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5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nishment is good for this sin because it would show the person what it is like to have someone cheat and win against you.</a:t>
            </a:r>
            <a:endParaRPr b="0" lang="en-US" sz="3200" spc="-1" strike="noStrike">
              <a:solidFill>
                <a:srgbClr val="000000"/>
              </a:solidFill>
              <a:latin typeface="Arial"/>
            </a:endParaRPr>
          </a:p>
        </p:txBody>
      </p:sp>
      <p:sp>
        <p:nvSpPr>
          <p:cNvPr id="460"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4" name=""/>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5" name=""/>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66" name="" descr=""/>
          <p:cNvPicPr/>
          <p:nvPr/>
        </p:nvPicPr>
        <p:blipFill>
          <a:blip r:embed="rId1"/>
          <a:stretch/>
        </p:blipFill>
        <p:spPr>
          <a:xfrm>
            <a:off x="3657600" y="1981080"/>
            <a:ext cx="4457880" cy="285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6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ill get you this final layer of my hell is using foul language of any type.</a:t>
            </a:r>
            <a:endParaRPr b="0" lang="en-US" sz="3200" spc="-1" strike="noStrike">
              <a:solidFill>
                <a:srgbClr val="000000"/>
              </a:solidFill>
              <a:latin typeface="Arial"/>
            </a:endParaRPr>
          </a:p>
        </p:txBody>
      </p:sp>
      <p:sp>
        <p:nvSpPr>
          <p:cNvPr id="469"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0" name=""/>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1" name=""/>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nishment is having demons scream course words into your ears obnoxiously loud.</a:t>
            </a:r>
            <a:endParaRPr b="0" lang="en-US" sz="3200" spc="-1" strike="noStrike">
              <a:solidFill>
                <a:srgbClr val="000000"/>
              </a:solidFill>
              <a:latin typeface="Arial"/>
            </a:endParaRPr>
          </a:p>
        </p:txBody>
      </p:sp>
      <p:sp>
        <p:nvSpPr>
          <p:cNvPr id="474"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5" name=""/>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6" name=""/>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7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is not so bad at least until your ears drums start to hurt.</a:t>
            </a:r>
            <a:endParaRPr b="0" lang="en-US" sz="3200" spc="-1" strike="noStrike">
              <a:solidFill>
                <a:srgbClr val="000000"/>
              </a:solidFill>
              <a:latin typeface="Arial"/>
            </a:endParaRPr>
          </a:p>
        </p:txBody>
      </p:sp>
      <p:sp>
        <p:nvSpPr>
          <p:cNvPr id="479"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2"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iller"/>
              </a:rPr>
              <a:t>i learned that even the littlest things have consequences in the after life. I will make sure that I never go there by making sure I do not ever cheat, swear, or lie about anything for the rest of my life.</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2590920" y="0"/>
            <a:ext cx="6553080" cy="6286680"/>
          </a:xfrm>
          <a:prstGeom prst="rect">
            <a:avLst/>
          </a:prstGeom>
          <a:ln w="0">
            <a:noFill/>
          </a:ln>
        </p:spPr>
      </p:pic>
      <p:sp>
        <p:nvSpPr>
          <p:cNvPr id="4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uide is Nicole Meszar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cole is a tenth grader at North Penn High school she really likes all music, and plays no sports at all, and loves her English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2590920" y="0"/>
            <a:ext cx="6553080" cy="6248520"/>
          </a:xfrm>
          <a:prstGeom prst="rect">
            <a:avLst/>
          </a:prstGeom>
          <a:ln w="0">
            <a:noFill/>
          </a:ln>
        </p:spPr>
      </p:pic>
      <p:sp>
        <p:nvSpPr>
          <p:cNvPr id="42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0000"/>
                </a:solidFill>
                <a:latin typeface="Chiller"/>
              </a:rPr>
              <a:t>Meet Me</a:t>
            </a:r>
            <a:endParaRPr b="0" lang="en-US" sz="11800" spc="-1" strike="noStrike">
              <a:solidFill>
                <a:srgbClr val="ffffff"/>
              </a:solidFill>
              <a:latin typeface="Chiller"/>
            </a:endParaRPr>
          </a:p>
        </p:txBody>
      </p:sp>
      <p:sp>
        <p:nvSpPr>
          <p:cNvPr id="42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y name is Carl Fink and I have 9/16</a:t>
            </a:r>
            <a:r>
              <a:rPr b="0" lang="en-US" sz="3200" spc="-1" strike="noStrike" baseline="30000">
                <a:solidFill>
                  <a:srgbClr val="ff0000"/>
                </a:solidFill>
                <a:latin typeface="Arial"/>
              </a:rPr>
              <a:t>th</a:t>
            </a:r>
            <a:r>
              <a:rPr b="0" lang="en-US" sz="3200" spc="-1" strike="noStrike">
                <a:solidFill>
                  <a:srgbClr val="ff0000"/>
                </a:solidFill>
                <a:latin typeface="Arial"/>
              </a:rPr>
              <a:t> size gauges, I’m in tenth grade, and I want to be a graphic designer when I get older</a:t>
            </a:r>
            <a:r>
              <a:rPr b="0" lang="en-US" sz="3200" spc="-1" strike="noStrike">
                <a:solidFill>
                  <a:srgbClr val="99cc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6"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7"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28" name="" descr=""/>
          <p:cNvPicPr/>
          <p:nvPr/>
        </p:nvPicPr>
        <p:blipFill>
          <a:blip r:embed="rId3"/>
          <a:stretch/>
        </p:blipFill>
        <p:spPr>
          <a:xfrm>
            <a:off x="2895480" y="1600200"/>
            <a:ext cx="609624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895480" y="22824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0"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1" name="">
            <a:hlinkClick r:id="rId1" action="ppaction://hlinksldjump"/>
          </p:cNvPr>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2" name="">
            <a:hlinkClick r:id="rId2"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3" name=""/>
          <p:cNvSpPr/>
          <p:nvPr/>
        </p:nvSpPr>
        <p:spPr>
          <a:xfrm>
            <a:off x="2971800" y="1676520"/>
            <a:ext cx="601992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ying will get you on the first layer of hell. Lying in any form will get you to this layer of hell. This included lying about where you are, about how old you, and what you are do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ople that would be on this layer of hell would be people like Tiger Woods, and pretty much any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3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nishment for lying is having your tongue removed so that you will not be able to lie again.</a:t>
            </a:r>
            <a:endParaRPr b="0" lang="en-US" sz="3200" spc="-1" strike="noStrike">
              <a:solidFill>
                <a:srgbClr val="000000"/>
              </a:solidFill>
              <a:latin typeface="Arial"/>
            </a:endParaRPr>
          </a:p>
        </p:txBody>
      </p:sp>
      <p:sp>
        <p:nvSpPr>
          <p:cNvPr id="436"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7"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8"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think that this is completely justified, and the punishment fits the crime</a:t>
            </a:r>
            <a:endParaRPr b="0" lang="en-US" sz="3200" spc="-1" strike="noStrike">
              <a:solidFill>
                <a:srgbClr val="000000"/>
              </a:solidFill>
              <a:latin typeface="Arial"/>
            </a:endParaRPr>
          </a:p>
        </p:txBody>
      </p:sp>
      <p:sp>
        <p:nvSpPr>
          <p:cNvPr id="441"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5"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6"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7" name="" descr=""/>
          <p:cNvPicPr/>
          <p:nvPr/>
        </p:nvPicPr>
        <p:blipFill>
          <a:blip r:embed="rId3"/>
          <a:stretch/>
        </p:blipFill>
        <p:spPr>
          <a:xfrm>
            <a:off x="2895480" y="1600200"/>
            <a:ext cx="5943600" cy="4457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4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rime that will get you to this layer of hell is cheating. Any type of cheating as in relationships, games, contests, or be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1" name="">
            <a:hlinkClick r:id="rId1" action="ppaction://hlinksldjump"/>
          </p:cNvPr>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2" name=""/>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6T14:46:07Z</dcterms:modified>
  <cp:revision>42</cp:revision>
  <dc:subject/>
  <dc:title>Dante’s Inferno</dc:title>
</cp:coreProperties>
</file>