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12060-F81E-4954-8933-138A9B0CC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ABEBF-AE5E-42D2-A9E7-2A30A4F9F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E3FEA-61A4-49D7-AEE1-C4556707D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22701-E2B1-4EE2-B47D-7E5A81126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F71B07-1FE7-4218-8E3B-42B7BD533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8C0D3-23B4-4D12-957D-0502C0CFD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927E2-E1FB-47E6-9382-66ECA92A9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2CE60-EE8C-4665-AAE2-3AC2C6464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E950F-355D-4370-9FA0-22DBC959E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A3315-7020-48A8-AECB-20F6B868E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C6E78-8856-4D47-8F9F-7603EEC8D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17527-2734-4DFD-8782-EDAAC7E88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E07ED-E5A5-46B0-9049-73DE6B4BA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E2B20-6B3E-4B78-83E8-576C90023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AC6D7-E5F5-4F4E-AB00-CB3368B25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D8F625-22ED-447A-8016-D2DC95AB3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3964AB-D5A6-443F-8B03-200F2E8301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825939-3EBF-43F3-AE83-CB5F03D07E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44126A-DF73-4B0F-A702-7BD40E2DB3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C9CF19-08F1-43ED-BE19-81DB30C259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2F7A72-5DB9-4B70-B333-76777B1556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08CBF8-05FF-40A2-A920-BFC59B2FE4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09043-709F-40ED-B0AE-BB6995254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1B5035-BDC9-4104-A7EE-DA6C583B25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147FFB-EB1C-40F8-B131-8EB1DD027F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2C0148-96D5-4556-B70C-B676130390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BBE296-63E1-487D-BFD3-BD607CA60F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31C206-95A4-4765-BA32-C9C626462F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B43AF2-9099-48F5-9462-ADDA61775D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760D2F-D9ED-45AA-8595-319219F9CC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B3D376-4943-4829-881A-A727852AEC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E891E9-FEDF-4A5E-9FE2-6CD89F83B0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AF814E-FEBB-4D0A-859D-3DBB673CCF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022FB-CAB9-48CA-8DC6-6C5FC742B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FC3DD2-9DC6-4680-B5B0-9E099764E4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6A9F63-960B-430D-88FC-8C4226A37D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142309-E37C-46E6-8091-DA639DA111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D03983-022F-46A7-B909-652A623EDC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E8736E-4E45-442D-8BF6-5E405655C8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BD4264-B5DF-4F2D-B152-32B3178CF1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8C2C4B-0E07-4AB5-BBF0-7C0D0E3ABA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8082E2-BF93-4D20-919A-AD1C8D6CDA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7961AF-35AE-4CFA-BAF3-79CF7F6E4E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628783-36D9-4B9B-B194-4ED85C2900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F65DA-C2AF-4E1C-9DD1-483EF55C1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12C54C-309A-4C45-A13E-43867B34C7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6316D7-E174-447B-BDED-7159BCD34E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68E5AE-085C-42BD-A008-5F7E1F4B95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86E0A6-D75B-4D5E-956B-2CBACCBF82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E486C7-8B39-4A5C-AED0-BAA4500478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682FE2-60E1-40E4-BD39-FF9BC5F3F2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E52E6F-4965-43CB-B1A3-B4DBD4CE52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29ADF8-1B55-4E50-A986-2E0108DC4F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756979-6BD8-41DC-8293-E0A31BE7E4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BBC016-EFAA-4561-9C47-E76B657AE6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C98D8-D63B-4DA9-89EA-94C004E98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FE57FE-4BD4-44D0-8227-4C9612F89E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68640C-8199-436A-BC6C-E7E81E8E1D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082C78-7E3A-4165-B645-3A6760C834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0895F8-78CD-4206-AF06-F83380D00B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436C64-8B23-4281-8545-E7A3623D62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61638E-8730-43CD-A44E-F9D6C0D4DF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B18463-D9D0-4D14-89AD-211636C673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9121E3-E1E9-4A1B-BA81-3E9B7377BE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785FD0-43A2-4E70-8FE3-C9B648FD2D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7E2B37-27D1-474C-BB52-38E8EDFA7C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336D6-8943-461E-BD7D-E668D19AF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C0FCD3-F8A4-4745-B084-8DE2E0EB9D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5CCD42-1029-49CD-805E-510293A4EB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D72AD4-B050-4F52-B6B8-BF8012F057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66ED58-935E-499A-9792-BAC24CE5C7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8AD510-8481-414D-BBA3-96D22A271E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C8228A-1E03-45A0-9EB4-498282A8F0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039CC9-8ACE-4834-B10B-FB53086434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7AA7EA-E606-4F56-A199-731F14AAE4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E9B826-A552-44C0-A121-74454E5E05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5A4492-2369-4ECA-ACBD-F98534750E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BB007-8582-43FF-9166-F231A2581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BC2C8A-125C-4498-9224-4C6DD2035C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D2CBEE-7BF5-46E7-B336-689BCA428A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FB1D24-6B78-4AD0-AB6F-3CAE672201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389B9B-54FE-4BA5-AA26-96087D0E32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976266-69D0-4363-9EE5-A503E3D427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F20DB-9318-4669-8FA1-DF497E016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41EAD-6C46-4080-8DED-80B5F997DF3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B83B7-F8C3-4A27-95B1-B0BA47E1B37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6813A-9793-4409-AA94-88215AC750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2D522-C984-4A7A-BAD8-147239711AC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1A6FA-19FA-4825-A8BD-37D03E4075C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2E7BE-49A2-4B4E-961B-656EDF99860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86D63-3887-4CBB-9EE8-8D5F6985D9B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5.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6.jpe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2590920" y="0"/>
            <a:ext cx="6553080" cy="6248520"/>
          </a:xfrm>
          <a:prstGeom prst="rect">
            <a:avLst/>
          </a:prstGeom>
          <a:ln w="0">
            <a:noFill/>
          </a:ln>
        </p:spPr>
      </p:pic>
      <p:sp>
        <p:nvSpPr>
          <p:cNvPr id="414"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l Fink</a:t>
            </a:r>
            <a:endParaRPr b="0" lang="en-US" sz="3200" spc="-1" strike="noStrike">
              <a:solidFill>
                <a:srgbClr val="000000"/>
              </a:solidFill>
              <a:latin typeface="Arial"/>
            </a:endParaRPr>
          </a:p>
        </p:txBody>
      </p:sp>
      <p:sp>
        <p:nvSpPr>
          <p:cNvPr id="415"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6" name="" descr=""/>
          <p:cNvPicPr/>
          <p:nvPr/>
        </p:nvPicPr>
        <p:blipFill>
          <a:blip r:embed="rId2"/>
          <a:stretch/>
        </p:blipFill>
        <p:spPr>
          <a:xfrm>
            <a:off x="358128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255"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nishment is having to play tic-tac-toe for ever and never be able to win or tie you always lose.</a:t>
            </a:r>
            <a:endParaRPr b="0" lang="en-US" sz="3200" spc="-1" strike="noStrike">
              <a:solidFill>
                <a:srgbClr val="000000"/>
              </a:solidFill>
              <a:latin typeface="Arial"/>
            </a:endParaRPr>
          </a:p>
        </p:txBody>
      </p:sp>
      <p:sp>
        <p:nvSpPr>
          <p:cNvPr id="455"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6"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7"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5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nishment is good for this sin because it would show the person what it is like to have someone cheat and win against you.</a:t>
            </a:r>
            <a:endParaRPr b="0" lang="en-US" sz="3200" spc="-1" strike="noStrike">
              <a:solidFill>
                <a:srgbClr val="000000"/>
              </a:solidFill>
              <a:latin typeface="Arial"/>
            </a:endParaRPr>
          </a:p>
        </p:txBody>
      </p:sp>
      <p:sp>
        <p:nvSpPr>
          <p:cNvPr id="460"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4"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5"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6" name="" descr=""/>
          <p:cNvPicPr/>
          <p:nvPr/>
        </p:nvPicPr>
        <p:blipFill>
          <a:blip r:embed="rId1"/>
          <a:stretch/>
        </p:blipFill>
        <p:spPr>
          <a:xfrm>
            <a:off x="3657600" y="1981080"/>
            <a:ext cx="4457880" cy="285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ill get you this final layer of my hell is using foul language of any type.</a:t>
            </a:r>
            <a:endParaRPr b="0" lang="en-US" sz="3200" spc="-1" strike="noStrike">
              <a:solidFill>
                <a:srgbClr val="000000"/>
              </a:solidFill>
              <a:latin typeface="Arial"/>
            </a:endParaRPr>
          </a:p>
        </p:txBody>
      </p:sp>
      <p:sp>
        <p:nvSpPr>
          <p:cNvPr id="469"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0"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1"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nishment is having demons scream course words into your ears obnoxiously loud.</a:t>
            </a:r>
            <a:endParaRPr b="0" lang="en-US" sz="3200" spc="-1" strike="noStrike">
              <a:solidFill>
                <a:srgbClr val="000000"/>
              </a:solidFill>
              <a:latin typeface="Arial"/>
            </a:endParaRPr>
          </a:p>
        </p:txBody>
      </p:sp>
      <p:sp>
        <p:nvSpPr>
          <p:cNvPr id="474"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5"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6"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is not so bad at least until your ears drums start to hurt.</a:t>
            </a:r>
            <a:endParaRPr b="0" lang="en-US" sz="3200" spc="-1" strike="noStrike">
              <a:solidFill>
                <a:srgbClr val="000000"/>
              </a:solidFill>
              <a:latin typeface="Arial"/>
            </a:endParaRPr>
          </a:p>
        </p:txBody>
      </p:sp>
      <p:sp>
        <p:nvSpPr>
          <p:cNvPr id="479"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2"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iller"/>
              </a:rPr>
              <a:t>i learned that even the littlest things have consequences in the after life. I will make sure that I never go there by making sure I do not ever cheat, swear, or lie about anything for the rest of my lif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2590920" y="0"/>
            <a:ext cx="6553080" cy="6286680"/>
          </a:xfrm>
          <a:prstGeom prst="rect">
            <a:avLst/>
          </a:prstGeom>
          <a:ln w="0">
            <a:noFill/>
          </a:ln>
        </p:spPr>
      </p:pic>
      <p:sp>
        <p:nvSpPr>
          <p:cNvPr id="4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uide is Nicole Meszar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cole is a tenth grader at North Penn High school she really likes all music, and plays no sports at all, and loves her English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2590920" y="0"/>
            <a:ext cx="6553080" cy="6248520"/>
          </a:xfrm>
          <a:prstGeom prst="rect">
            <a:avLst/>
          </a:prstGeom>
          <a:ln w="0">
            <a:noFill/>
          </a:ln>
        </p:spPr>
      </p:pic>
      <p:sp>
        <p:nvSpPr>
          <p:cNvPr id="42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0000"/>
                </a:solidFill>
                <a:latin typeface="Chiller"/>
              </a:rPr>
              <a:t>Meet Me</a:t>
            </a:r>
            <a:endParaRPr b="0" lang="en-US" sz="11800" spc="-1" strike="noStrike">
              <a:solidFill>
                <a:srgbClr val="ffffff"/>
              </a:solidFill>
              <a:latin typeface="Chiller"/>
            </a:endParaRPr>
          </a:p>
        </p:txBody>
      </p:sp>
      <p:sp>
        <p:nvSpPr>
          <p:cNvPr id="42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y name is Carl Fink and I have 9/16</a:t>
            </a:r>
            <a:r>
              <a:rPr b="0" lang="en-US" sz="3200" spc="-1" strike="noStrike" baseline="30000">
                <a:solidFill>
                  <a:srgbClr val="ff0000"/>
                </a:solidFill>
                <a:latin typeface="Arial"/>
              </a:rPr>
              <a:t>th</a:t>
            </a:r>
            <a:r>
              <a:rPr b="0" lang="en-US" sz="3200" spc="-1" strike="noStrike">
                <a:solidFill>
                  <a:srgbClr val="ff0000"/>
                </a:solidFill>
                <a:latin typeface="Arial"/>
              </a:rPr>
              <a:t> size gauges, I’m in tenth grade, and I want to be a graphic designer when I get older</a:t>
            </a:r>
            <a:r>
              <a:rPr b="0" lang="en-US" sz="3200" spc="-1" strike="noStrike">
                <a:solidFill>
                  <a:srgbClr val="99cc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6"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7"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8" name="" descr=""/>
          <p:cNvPicPr/>
          <p:nvPr/>
        </p:nvPicPr>
        <p:blipFill>
          <a:blip r:embed="rId3"/>
          <a:stretch/>
        </p:blipFill>
        <p:spPr>
          <a:xfrm>
            <a:off x="2895480" y="1600200"/>
            <a:ext cx="609624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2824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2971800" y="1676520"/>
            <a:ext cx="601992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ying will get you on the first layer of hell. Lying in any form will get you to this layer of hell. This included lying about where you are, about how old you, and what you are do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ople that would be on this layer of hell would be people like Tiger Woods, and pretty much any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nishment for lying is having your tongue removed so that you will not be able to lie again.</a:t>
            </a:r>
            <a:endParaRPr b="0" lang="en-US" sz="3200" spc="-1" strike="noStrike">
              <a:solidFill>
                <a:srgbClr val="000000"/>
              </a:solidFill>
              <a:latin typeface="Arial"/>
            </a:endParaRPr>
          </a:p>
        </p:txBody>
      </p:sp>
      <p:sp>
        <p:nvSpPr>
          <p:cNvPr id="436"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7"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8"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think that this is completely justified, and the punishment fits the crime</a:t>
            </a:r>
            <a:endParaRPr b="0" lang="en-US" sz="3200" spc="-1" strike="noStrike">
              <a:solidFill>
                <a:srgbClr val="000000"/>
              </a:solidFill>
              <a:latin typeface="Arial"/>
            </a:endParaRPr>
          </a:p>
        </p:txBody>
      </p:sp>
      <p:sp>
        <p:nvSpPr>
          <p:cNvPr id="441"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5"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6"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7" name="" descr=""/>
          <p:cNvPicPr/>
          <p:nvPr/>
        </p:nvPicPr>
        <p:blipFill>
          <a:blip r:embed="rId3"/>
          <a:stretch/>
        </p:blipFill>
        <p:spPr>
          <a:xfrm>
            <a:off x="2895480" y="1600200"/>
            <a:ext cx="5943600" cy="4457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4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rime that will get you to this layer of hell is cheating. Any type of cheating as in relationships, games, contests, or b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1"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2"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6T14:46:07Z</dcterms:modified>
  <cp:revision>42</cp:revision>
  <dc:subject/>
  <dc:title>Dante’s Inferno</dc:title>
</cp:coreProperties>
</file>