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BDC-F71B-4A70-A37D-31D1F602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3E8-C5CE-4C91-8FA8-B676F185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ED5-FA91-47AA-93B7-EAB42E72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069-3391-428A-A3CC-CB573A47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0DAB-CC56-4D73-864A-9F2D242B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A02A-3BB7-4BAE-A627-546462E9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EE0C-894D-4D96-91C0-96D50826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02A0-A596-41DC-9F89-6E022414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C129-20D9-484E-9E09-C26175C5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4E6E-F3F5-44B8-B316-732C64B1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16E9-CC4A-4244-AAFE-B3A6643E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250-C5A6-436B-AB22-D8BF7DCA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8E04-E6EA-419C-BBEE-BF3753A8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A758-1205-4EBE-AC1A-E5D652FF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2518-9CDD-4220-A50F-35D6DA3D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A628-DE1B-46E4-A161-5B08338B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01EB-A7BF-40FF-A7B3-7043FD7A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1CC5-04EF-466E-B695-E08B21D9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73ECB-2458-437D-9527-26737F58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82BB-3582-4F4E-8267-1F699256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16D0F-7BD1-4556-85E6-7A64CBE5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D2D36-BD78-4373-B1AE-F3763036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BBB-CB61-4AF0-8728-17986817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29E01-52C2-467D-8009-D68B49F7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AD01-132C-42EC-9805-8D6023A0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7E3C1-30D9-40F8-9CD1-4B38BEB0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E5976-1C62-4B13-9895-3E8AAB97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4F03-F9C3-4025-A321-C226D346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9F4B-F0E1-4BFE-8D63-FC6588AF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25070-51A1-41E4-8CFA-E3D595B5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1A30D-8585-4350-8A4B-3D3E79C5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A90A-11EF-45BC-8E80-F62FCCD0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6D2CC-E0C5-42D8-8C47-80DDAD13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38C-7409-4BB5-9B40-0EAE5FF6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E173-FCD6-4AD6-AD25-BE5BDAEE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7A89D-FA11-441D-900B-0910722D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EC87-35A9-4447-B7D0-D7B3F09A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D6EF3-E2D0-425B-AE5B-A4451942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AC0ED-F5E4-4988-988A-0700057D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4AF0B-EBA0-4F07-A103-62747154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F44E1-D416-48A1-A990-83555543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7C211-431A-4B87-A388-254C3050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9EEA-8A23-469B-AED5-CC070D2E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B42BA-F56B-4D98-B7ED-627E14A0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D2D-6FD4-4045-A1BC-1832D89B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FB07F-7BCB-44F0-9773-33CDB594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FF25E-FF9F-43BB-A520-2C34BEA6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BC70-14B9-402F-83B5-F8DE03D5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678B3-0D60-41AE-96A9-EEB8B9FB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C54EB-81C2-444D-BAD6-0A8EC9B4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651CD-038B-4B81-A806-B0F900BE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06071-665D-45E5-82BE-4820AAAE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C54A-16DF-4F1D-9CC4-BE12D331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02EAD-AAE6-46BD-BE26-0A37F1B8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14A6A-CDC4-4D41-BFB3-D6A17658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509-08D9-4698-A5E2-D87729A6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CF211-AFD0-4F5C-9D88-3112A285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578E6-3869-44D4-BFBE-B7F6BF34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0FFA2-68A9-4417-8A73-EC79798C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D522F-4022-472C-AA6F-8F650E87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21465-A29C-4C14-8EB5-B5E96DC3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2E0EA-3949-49ED-AD07-07BF1E09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E6CF6-C9B8-49E5-BE1E-CA56FD0A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B9F6D-1FF3-4536-8B77-126F3A20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E9CD1-9882-4058-AD98-9CE1443F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E2CF1-AD7E-4DFB-A086-2E11C775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E8A-94FD-4B4A-B611-0B5DF27A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6C56-A944-4A74-A26E-1BBBD1A8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992B9-F7CB-4437-8235-12EED3DB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DF80E-3CE2-4FEF-9D07-AC0D161D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4D560-0A26-43A7-9FC0-170EFF5F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CB577-E181-4454-AB75-CC216933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328F0-4F40-4D11-AA84-2C25B912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DE00F-C5EB-452D-8993-EFC037CB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D68AB-FD4D-4AD2-ABD8-3997EDF5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41A81-C0F2-4736-BDE5-7A8D9673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A184C-E816-4537-9A4F-8DE77B93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BE6-33C5-40B8-861C-8FBA644F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A73B8-62B3-4176-98B0-659C183B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B41A6-4346-4685-93D3-31B10188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65E1C-F21D-401A-8838-F6BC7C4D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57D08-AC60-40F7-87CC-928ACDCA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F1593-5B4D-4493-A99F-E6673161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631-5D30-4825-B19F-A61D5225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F0BD-1E01-476A-A721-369D6B256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0219-1409-46B7-B181-BFEAFA022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4BE1-AC3F-44D6-ACE2-88D01AD30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576E-3FD6-4A20-947D-772083F43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4555-0ADA-4949-A780-CD37AC640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399C-759C-41F6-B29E-AD8DE554D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6038-48CF-48C8-8A2E-18C6D5E94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dn3.ioffer.com/img/item/964/909/19/W5PE0l1clsQ5ir9.jpg&amp;imgrefurl=http://www.ioffer.com/c/Body-Piercing-1015698/gauge%2520lot&amp;usg=__npyTnSV_qA7YSz-Ac8a8WldK870=&amp;h=250&amp;w=300&amp;sz=18&amp;hl=en&amp;start=61&amp;itbs=1&amp;tbnid=zZboYG5JcH06wM:&amp;tbnh=97&amp;tbnw=116&amp;prev=/images%3Fq%3Dear%2Bgauges%26start%3D60%26hl%3Den%26safe%3Dactive%26sa%3DN%26gbv%3D2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bjournalism.files.wordpress.com/2009/09/lying-main_full1.jpg&amp;imgrefurl=http://ubjournalism.wordpress.com/tag/citizen-journalism/&amp;usg=__HEpwaqkTQGGJnvrj5Iqyr8u3NS8=&amp;h=392&amp;w=554&amp;sz=28&amp;hl=en&amp;start=15&amp;itbs=1&amp;tbnid=tePJ4PoURurB_M:&amp;tbnh=94&amp;tbnw=133&amp;prev=/images%3Fq%3DLying%26hl%3Den%26safe%3Dactive%26sa%3DX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ole Mesza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ving is the punishment for glutton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ss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vel C crime is mu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level C you killed someone and therefore you will have the worst punish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 is feeling the pain you caused everyone you killed and their fami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earned that in the three levels of hell there were different punishment and each of them fit the cr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733920"/>
            <a:ext cx="2971800" cy="22971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uide is Carl F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a North Penn High School student in tenth grade. He likes screamo music and likes graphic de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name is Nicole Meszaros. I’m a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r at North Pen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4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137160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1981080"/>
            <a:ext cx="60958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ime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l A is lying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this level of hell is because you are a compulsive liar. When you promise to do something you break it right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become blind because you blinded everyo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ied to from the truth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87120 w 1752480"/>
              <a:gd name="textAreaRight" fmla="*/ 1665360 w 1752480"/>
              <a:gd name="textAreaTop" fmla="*/ 87120 h 457200"/>
              <a:gd name="textAreaBottom" fmla="*/ 3700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621" y="4125"/>
                </a:lnTo>
                <a:lnTo>
                  <a:pt x="4125" y="41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621" y="17475"/>
                </a:lnTo>
                <a:lnTo>
                  <a:pt x="78621" y="41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125" y="17475"/>
                </a:lnTo>
                <a:lnTo>
                  <a:pt x="78621" y="174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125" y="4125"/>
                </a:lnTo>
                <a:lnTo>
                  <a:pt x="4125" y="174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2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3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ttony - is an excessive desire to drink and eat more than one requir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enter this level of hell than you were a greedy person while you l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7T14:44:11Z</dcterms:modified>
  <cp:revision>43</cp:revision>
  <dc:subject/>
  <dc:title>Dante’s Inferno</dc:title>
</cp:coreProperties>
</file>