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247-6909-4D7F-ACEB-1FFE80BA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454-417F-4935-8614-491651D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582-55CC-4582-9439-A80250CE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D1E-40BC-48CC-BD33-ED19EB96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80F-8E0D-4AC9-94AA-697F71CE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4BC6-BD0E-46D8-A1AA-4598D735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4112-1B37-4FC7-8B93-B25855F1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37E7-CD27-4E97-B4EC-7329C550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DA57-A6A3-49B3-B2F2-66991FF9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AF4D-02D4-4145-8782-51D379D4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032-308F-4EEB-939E-A135751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7E2-DAE8-4211-9958-92F0A25D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45A1-81E2-48B5-946D-2CE9594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A50A-94BD-42EB-BCC3-BFBAD085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CA87-1715-4A13-91B4-C56708DB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7B4D-2C4D-46A5-B9FF-27AF5EB6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5937-1DCD-4A5F-BF8B-C9E24CFE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77C3-9D4F-4BBD-8E93-67BD0FA0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73921-758C-4272-81C7-A77E3627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88CF8-0317-486F-A0BF-9BB00CE9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2B1B-5829-4041-BF76-473DFCE4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13DF-DAD7-4F9F-8317-2B6634F3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89E-5903-40E1-B2CC-DB5D1950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5170-086F-4BF3-846F-57495BB9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522D-25BA-4B6F-8F01-83BF5D32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F788-DA6A-48A3-B016-FCEC13FE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F8CC-903E-4B11-9F37-032F6C65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64F8-8EF3-4D28-A1CB-AB1831A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7DF7-DC7E-4167-9BF4-DBCFF347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A2C4-51E8-4241-939D-675364B0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CC3A-29D7-4426-A3C1-59F1E3C7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F5EE-3F61-46A1-9615-493E2521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3B3BD-D312-481E-9D59-E93C5EC0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D32-56B4-4B98-AD7A-6CEAB42A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89A5-53C9-49EA-A72F-9BFD9E33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8918D-FED4-44D3-8132-3F1EDFED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866F-40F3-4799-BEF4-53B64C85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F33D-DE04-4E04-9F3F-D8E3A43B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F0A0-3161-4D80-925B-45A2D48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28A9-CB78-4E90-9AB3-214EC07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F850-15FE-47BB-9B56-9BEE7B75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219CD-DF4E-4428-81DD-7B1AC21B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74B6-67DC-49D4-B357-79276CE7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958D-5A50-491A-940F-AC436973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562-7A02-4A32-9569-8D9A77B8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F8FC9-1BDC-4C3A-8A69-04AE87C5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B840-EBCC-44AD-9ACA-703A4EAD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70903-1F73-4775-A2C5-7CC72050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B6B7-635B-4F8B-A3F0-B6AE08A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5DA90-54FB-4644-9DEE-71FAAB48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10DF-1EBF-43A1-AB79-37BA7F0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6EF05-E59F-4FEF-AC79-60EC986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55E1-D5ED-40A1-92C4-263E0D6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4BFB7-7872-49CC-A48B-F8104C4C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F005-C433-4F6B-88B3-E70FF6B9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8BA-F152-4D0C-8018-1253A04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0986-6406-4CE7-8BB6-37DE82D6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2010-BC56-406C-9791-71BF24EE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DDF9-D67F-4369-8995-A10D02B8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6E98-AE72-4C6B-82C5-F7766E8E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2CF3-C5DD-42FD-A3FE-01DE8FE6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94D15-438F-4C42-96DB-10A46528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62C70-A12C-4B46-AE7E-B8AEEED4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95FE6-F7B3-4128-A8FE-B9BD79F5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8177C-63B2-4BD5-8163-08A509CC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D3407-6CEC-45CB-AA45-07CD27E8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91B-5CE9-4400-A641-D7C05D26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DF49-F070-442F-91A3-6B33AEA0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A1223-BBAD-458C-8B4C-B9FF40F6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D728-44DA-48E3-B0E1-17790386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0D9DE-BBF0-44E9-B6EE-504821C4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9EDE-320C-41A7-9DCB-279E1C12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EFE33-200F-4335-8ABB-CA016C6E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10E6-B6E3-47AE-8058-E68D0CB3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2C0F-9CA9-49D3-8C0C-E385F94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E672F-6D35-4A32-9BCC-9BB0E06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49A9-E05A-4CA2-A611-ED468AA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30C-7D9D-4ED7-AC85-B011AB2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3B88C-BFE2-4875-9DE6-A9D4CC64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C7ED8-155C-4EB8-9939-CD45DB64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780F-5C75-42DD-9CE4-46CD8DE1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A7BAE-77E6-46A7-9431-767F7494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F3127-5627-4548-AE1C-0F4D876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D3E-5C2C-4347-BC8E-A0E1834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2F3-E099-474A-9A0C-3319783B0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4ED2-AC85-49BC-A334-F47AC0E23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C23E-C6E5-4823-A9C8-AE3F21D35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D8E6-A3D7-4960-BFD2-0D8BD2690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624F-6F0A-438E-B295-2B5674891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3E82-AC62-4699-9EC2-0BD37BFC5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768-0F4F-4BBA-AC9F-865D42D05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11Z</dcterms:modified>
  <cp:revision>43</cp:revision>
  <dc:subject/>
  <dc:title>Dante’s Inferno</dc:title>
</cp:coreProperties>
</file>