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0F4-6243-44BD-8D18-8B84F76E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FA0-599F-4F5D-BC02-87A97B93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DE7-05E4-47C2-AC5A-7BF93D77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8DD-BF7B-4200-B999-C7B309E3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BC0B-2C69-45DC-B213-52524002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24BE-4E7F-4F80-9B0C-0E9B938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73EB-B6D7-4AAD-B970-6DB3BD3F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40F8-5645-4376-B8EA-2AB69F77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9287-C18A-4852-8F3D-478142D0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9E46-69FE-4128-B577-0FC9856F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6EC6-A29D-49F3-A816-E54CB149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4A9-54BE-4EB9-92E0-8C59C4D4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F9B1-013A-48D2-BB3A-509433B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000E-1D8A-4E99-AE77-47AA569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D7FC-2E9B-4CC9-B944-5FF0294B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1598-20D3-439A-9431-A951643C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1802-D379-4AD6-A816-DAB25458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5433-8A1E-4356-A77D-2BF998DD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3B76-C4E7-4C3F-B53A-469E3E9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1628-90B0-4571-A30B-B0640A7A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0D358-6436-4A6C-B45C-1E3415E7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A66A-57A4-4D21-93B9-1A0567DC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723-9868-414F-9FB3-B92CDC13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5157-7A2E-4BF3-8A86-C36AC838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1192-3536-468A-8809-720D316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52F0-7529-4720-81E9-FE3932E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FA34-05D8-45AB-A4EB-B2C6D528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C5C9-E35A-4754-B1B7-EA51643A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4981-829E-4DEF-9280-3543FD8A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B615-FDC1-42BD-8133-E370997B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8E91-CB49-4933-9557-9A473D87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EBCE-8111-491C-A074-E9088512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4FEC0-CBE9-4270-B9E0-9AE45E92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B6C-392F-4867-B8C6-1F03A6C0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29CC-DF23-4998-9AC1-E07048C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F848-76CF-46AF-8A7F-2C808C8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30EC-3962-4C68-B64E-482874A1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CEC5-3A12-42D8-A17F-8519B00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DC183-46A9-4633-A5A9-0157BD8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3EEA-B9E0-4FC6-9123-4F6C8EB7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4BA1-1F88-4DE7-AAAB-A132032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E11B-0A0A-42B0-8F56-AB18C412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E766-DC6C-419D-B2C1-F7A9BD40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8FC1A-2158-48F5-B438-7D0B13D0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BDC-5D6F-4FDB-BF60-90BF4524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6E288-7FD2-407B-A106-E7C64E62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080DB-2140-42E5-B88C-2AA9DC43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3758-AC2F-47B1-A835-FFC706F7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1BBC5-5F4A-4DF0-B51B-E1907B32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61E00-1735-4F3A-B1EE-830BA667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3EB5-435D-426A-B882-5FF6181F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A868A-C419-440D-8A7E-58A6F8F5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DC96C-8242-4C4B-86A4-FE9905EE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F1CDC-ED77-496B-80B6-5E22E5AA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D057-CF4C-4BF1-BED3-38C7F0E1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2F4-E69E-4741-BE32-C222D5A0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8F076-A765-4C8E-A494-039DB708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AB95B-10B0-4C39-B1AD-351482C4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C3AB-8568-4A4B-92C5-A7B2E71D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EE7E-317C-47A6-B982-7A341970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24C0-C1EC-4B41-A832-11A6924F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4CCD4-A30D-4047-AE8F-2DF4073D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FDE6C-3448-46EB-8953-AE6531E3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7A857-89E0-4D5C-9281-65D9DF2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9A5B5-48DE-4024-8512-E54F6F74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C85D7-9781-40AC-8AF5-E5109ED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C9C-DFC1-42D3-A8F0-87DBDDB7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F1D8E-AD19-4CC0-87A9-296FF645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65C3-3D94-4D71-8F7A-F16C12B2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95332-205E-4E3C-B343-1348F376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BABBB-10B7-4CA4-9668-9CFA10FE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1D98-5AA5-4BD4-9192-75255072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8B7ED-92AF-4C91-8869-85BD4AF2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A9F2D-8E98-4342-909E-FE5FD1B8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901AA-2AF6-49BF-BBFC-C5809841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C861E-567D-45C3-90C9-E4FD8015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B8EA1-70BA-491F-9F8C-2E25DAF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825-CA7C-4ABE-856B-3C698AD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68ABC-59CE-494D-BC33-92CF975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44A90-BDB5-40ED-9E12-531816E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A9429-95D5-424B-BAA4-9E9AD97B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9345-1DA3-47A5-A5BE-5BA21801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B1596-2534-45CA-8D1C-95FE3865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739-F1B4-437C-B9B3-C194A730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C321-3099-47FA-B69F-06ECA4163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EE75-C83E-4E09-AF80-64219BF92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B5D5-3046-4351-BAD7-24356EED3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FD60-8E90-4FF3-9163-208C3C8F0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978B-5854-4658-ABBE-2A65547C9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4438-5026-49AA-8D0E-E3D6443D0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E801-495F-4A5C-A434-C3AEE5352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3.ioffer.com/img/item/964/909/19/W5PE0l1clsQ5ir9.jpg&amp;imgrefurl=http://www.ioffer.com/c/Body-Piercing-1015698/gauge%2520lot&amp;usg=__npyTnSV_qA7YSz-Ac8a8WldK870=&amp;h=250&amp;w=300&amp;sz=18&amp;hl=en&amp;start=61&amp;itbs=1&amp;tbnid=zZboYG5JcH06wM:&amp;tbnh=97&amp;tbnw=116&amp;prev=/images%3Fq%3Dear%2Bgauges%26start%3D6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journalism.files.wordpress.com/2009/09/lying-main_full1.jpg&amp;imgrefurl=http://ubjournalism.wordpress.com/tag/citizen-journalism/&amp;usg=__HEpwaqkTQGGJnvrj5Iqyr8u3NS8=&amp;h=392&amp;w=554&amp;sz=28&amp;hl=en&amp;start=15&amp;itbs=1&amp;tbnid=tePJ4PoURurB_M:&amp;tbnh=94&amp;tbnw=133&amp;prev=/images%3Fq%3DLying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ole Mesza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ving is the punishment for glutto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C crime is 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level C you killed someone and therefore you will have the worst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 is feeling the pain you caused everyone you killed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earned that in the three levels of hell there were different punishment and each of them fit the cr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2297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uide is Carl F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North Penn High School student in tenth grade. He likes screamo music and likes graphic de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Nicole Meszaros. I’m a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 at North Pen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1371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1981080"/>
            <a:ext cx="6095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me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A is lyin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this level of hell is because you are a compulsive liar. When you promise to do something you break it right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come blind because you blinded every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ied to from the truth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87120 w 1752480"/>
              <a:gd name="textAreaRight" fmla="*/ 1665360 w 1752480"/>
              <a:gd name="textAreaTop" fmla="*/ 87120 h 457200"/>
              <a:gd name="textAreaBottom" fmla="*/ 3700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621" y="4125"/>
                </a:lnTo>
                <a:lnTo>
                  <a:pt x="4125" y="41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621" y="17475"/>
                </a:lnTo>
                <a:lnTo>
                  <a:pt x="78621" y="41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125" y="17475"/>
                </a:lnTo>
                <a:lnTo>
                  <a:pt x="78621" y="174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125" y="4125"/>
                </a:lnTo>
                <a:lnTo>
                  <a:pt x="4125" y="174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ttony - is an excessive desire to drink and eat more than one requir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enter this level of hell than you were a greedy person while you l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4:11Z</dcterms:modified>
  <cp:revision>43</cp:revision>
  <dc:subject/>
  <dc:title>Dante’s Inferno</dc:title>
</cp:coreProperties>
</file>