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54D-A5AF-4751-A662-1064F916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56F-3F90-4BE6-87A9-70DA1C59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F6E-8E12-4B40-A96D-8BFCD2C3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AB8-1A5E-435C-BBA1-FB762FB1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DA7D-02A1-494F-8EE3-1A90E37A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73D5-15AF-4631-86BC-C03C0A9F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4BA0-93A9-4608-B4EB-8CB61269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721-B663-4E07-B93C-A4557AA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7CCA-C2B4-4EBD-A482-EE4B1C73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344E-F642-4656-941F-E381E584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EF72-E36A-451E-AAF0-F3508B7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2CE-A275-4C7D-852B-14C1E872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A015-6B5C-4FCA-818E-A14EB6C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2B91-5B47-4A96-8A4A-C553ABD0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61FF-A8AE-4FC0-A111-B1871460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EF77-E786-4A75-B0A9-96E8DC67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F013-2654-4F83-A17D-19B088F6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0465-A550-4185-AEA9-C459A447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67E9-33D1-42A3-9A78-42CDDFC6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43FE-6028-4244-B9E0-A6AA9C32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23B5-95F4-42AF-98D4-95926C6B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67F0-A27E-4074-8CDC-E0C0B1C3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767-917D-4C26-84A9-64F8BD3C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813A4-E402-4DFF-A7F0-BAE9B3BC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5130-7D7C-4BB9-A206-233A5552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02A4A-D710-4584-90DC-9F637705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15B1-C2A0-4D0E-93F4-803A95F6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853B-2373-41CA-AD06-86FA1A51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4EC4-54D0-4DFB-81CE-E0F20D65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27CF-3639-495C-B5C6-2F71F8CB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AB70-9D28-418D-A6DA-4635EC81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BF3D-2BC9-4BB3-8428-A114569A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7909-B444-403A-8A99-9AA205AA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741-3F24-4686-8D9C-D58D6B50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19D50-A70A-43CE-B3D3-BA7CCC39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E39B-02E9-4CB0-B628-E317EBD8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E4D7A-6A74-411F-8DDA-D88FF6CE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D37A-D403-4DE2-86A0-C630CE22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E3B41-E00C-4DE4-A45B-117D2D6C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046C6-2237-4CA9-89AE-327005FE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712A1-82EA-410A-9492-0C649173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A93AE-F8BF-4CF5-B4DF-A66CC32C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B3F4-F6D3-4DF8-AF71-F19E8DC6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048DA-0F04-4A98-99F9-BB08B2CF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23C-E111-4057-9A84-DD4A2204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754F-0DC0-425D-A675-05BC5DC8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4FDA5-993C-4011-B1EF-E6A041F3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22BEA-71A0-485D-BA7D-3292CF9B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659F-D64E-4481-AA9D-6E925AAE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C562-9BFD-45A8-B699-8C699937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0395-A12D-437D-ADE9-CB77A3C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3818A-27D0-4C5E-8C5B-34B7BFD3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8DF50-978B-4F26-A79D-8642954B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109FF-8BA8-4973-AF73-DEEB2611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4DD0-8AC1-407D-85FB-EFA06A5C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52D-C032-45BE-AA17-C1A58922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9AFB-4605-40AD-8256-86FB860E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E46CD-1B28-4D6E-B98C-6E6EFC47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38C72-72B5-4F39-A078-148C6239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8F01-3CEB-4ED2-AB6F-C154A9A6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7F1FD-193C-41E4-AC51-DD71C5E0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BB1D-3AD0-4E57-987C-EC767A1F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9F862-FF4A-49F0-A1C4-7698C36F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0D295-D4FB-4BE5-B90E-43E516F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C740D-BAD4-41CE-85C6-E18F8D1E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11E58-0698-4321-BD09-56A8D54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055-88B9-412C-993A-F69031A9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45FBF-A018-4D88-AE47-61A9D774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1A6B7-FB33-46CB-9589-C882ADFA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459F-0335-46D7-BDCE-01B18C14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6EBD6-8614-4A15-BE8A-BA7A022F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72A8-FCE5-4F38-B4CC-8DD17504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E5437-4385-4C64-8AB3-245098C9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85475-2066-475B-B4A2-5DB3E1E3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04AE3-419E-4513-8289-F8D40BC8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68EE5-D6CD-4D7D-ACBA-3478C153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D8AB7-4CEB-46E7-8EB0-26788315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563-23DD-482D-9581-B1BF015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9F3A1-E1C7-4FD3-B110-193BCCB7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D80EC-8513-4591-9501-0DE4FF6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A047-3522-44F7-A2B1-5B00D717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76CA0-CDB2-4828-A7E2-3E489025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9DA3B-0C8F-4D6B-BE20-711B7223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080-C28A-4DAF-A582-16CB9232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A2E3-0A45-4279-B104-8E3FB9AD7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AED-73B5-4A77-9C59-C8D5810F0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A63A-6AE4-41AE-912E-927AC4881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5709-F569-493E-A5F1-01F8E5EC7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1A21-34FB-4E2F-99A0-F2780BB79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A30D-A2A1-4D75-9FAD-31D867C8B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35EC-4E37-4BCB-A477-59A5DC757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owelmovers.files.wordpress.com/2009/11/lil-wayne-g-commercial-t-ad-what-is-g-gatorde-commercial-video.jpg&amp;imgrefurl=http://vowelmovers.wordpress.com/page/3/&amp;usg=__nJpmqsD4joSlI4sQuJirg0QhhLM=&amp;h=300&amp;w=300&amp;sz=31&amp;hl=en&amp;start=16&amp;um=1&amp;itbs=1&amp;tbnid=KZk3f-ek8M0IjM:&amp;tbnh=116&amp;tbnw=116&amp;prev=/images%3Fq%3Dlil%2Bwayne%26um%3D1%26hl%3Den%26safe%3Dactive%26sa%3DN%26rlz%3D1R2ADSA_enUS37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on’s Inf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2374920" cy="3962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70866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71629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125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9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5746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90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736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49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49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49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048120"/>
            <a:ext cx="1540080" cy="1942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wayne Michael Carter, J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the guide for this tour. He was born September 27,1982 in New Orleans, Louisiana. During his childhood he was enrolled in a gifted program. Then at age 13 he accidentally shot himself and later on that next year he dropped out of school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352680" cy="25084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name is Devon Robinson, I attend North Penn High School and im a sophmore . I am 15 years old and I was born July 24,1994 in Camden, NJ. My hobbies are playing basketball, football and chilling at the mall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095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0000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3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1600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 Writing Utens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2743200"/>
            <a:ext cx="4648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are not allowed to use writing utensils because the endanger the environmen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eople who are in hell for committing this crime are Taylor Gerstlauer, Ted Stoler, and Ms. Dug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8T15:44:13Z</dcterms:modified>
  <cp:revision>43</cp:revision>
  <dc:subject/>
  <dc:title>Dante’s Inferno</dc:title>
</cp:coreProperties>
</file>