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4DF-FE9E-49D1-A88B-2D43230F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F4F-5FB0-4867-A60F-2BBFA48F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BE8-7745-4E08-A125-B27944CD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97C-AE92-4F1A-8D2D-930C13B3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4ED4-4345-44E4-9D1C-1D9F3AF1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8D0B-D63F-46BF-BF4C-0B406C39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752D-947B-47DC-88AB-868DC6D3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BFD3-179C-4402-9B7F-41EA46FC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7ABD-56FA-4DDD-A351-780AFF76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7D56-764E-4786-B934-5755156D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B494-901B-4CC3-819C-705DD297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969-878D-4897-9EF0-AB77EE74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5960-3FDB-4F2A-8D7B-EE3065AB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3BFA-ED30-449F-9018-11B6BEC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7046-805E-4F28-AB05-0B744B60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6127-5C86-4E1F-8C45-CC710C86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2B09-4B8F-406D-A8EB-3E7A81BB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A815-098B-409A-B9CB-CEB44CA7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123C-FEDD-43F6-ADC2-E3D34CD6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4B06-42CA-4B62-BA05-0A8AE66A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C584-2C06-4546-9034-7CDC9DDB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928F-1ED1-4372-8E4E-5334E2A4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5F9-DF73-4F22-8A96-76D7C5F8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4F9DC-371A-420E-BC15-95CFD671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6D72-954A-4D66-9839-4DBD91B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EBDD-6260-4541-8B94-8C0B6DAC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0940-E251-4500-8F08-CCB5391B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BBAB6-F6CC-4368-A372-240FBF17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394A-2FFE-43CC-B9EA-3FA427D7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5CFA-9E8B-4661-845D-B88F6648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DC696-655F-47D5-AC5D-38060A19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C86D-B542-4BE0-B35B-1747C3F4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B960-F7C5-4485-904B-2420C1CD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6B2-43F9-47C5-98FB-2C3E7FCC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968C-8152-40EF-9ECE-46747EAA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E8FE-2AB1-494A-BA84-5D9EDA24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AB86A-B951-49EC-9073-7735C257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80836-27C2-4786-A724-399419E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BC4B-7C29-497A-A68C-2B211C4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56B47-2475-4F7A-9C5F-E3CD6E81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9ED69-C2AE-494B-90FC-02122BAB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D7BB5-D342-42FB-A9AD-5102FEC5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B2BE-8489-4FBF-BEE3-35C34868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39845-E8B2-45BF-B5C5-94B29491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514-2989-4C9E-9412-17A9159C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79A6A-FF61-420A-BC74-53D5A186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4B8FB-41FB-4F9F-8616-F5631AFA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BAC2D-9937-4E9E-BF50-4C89DA00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873A8-55A8-4791-B584-8FF56854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75228-0EBE-4AE4-83C1-C86C5856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1578-0DD2-4F19-A641-AD60835F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3D11-DA60-433B-8506-690A9865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914D8-AC3F-42B9-9286-0C961ADC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68228-3DFA-4002-B92B-3CBE84EB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28225-06BE-46AE-B7AB-E6CAAB43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E64-D7CA-419D-A12D-8D544CDA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08409-3A65-4657-9808-DED7F0EB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9037E-A37C-4F9B-A5CC-65DC5A27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E362F-9E7A-470E-A01E-73A11231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CA14-53AE-40FC-8D37-A46560F0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CAE34-C738-4027-BECE-49F068FF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81B24-4063-41B1-A902-73948521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AFFB6-785D-4F2C-B307-017CE0B1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925C4-F2D9-49BB-9DC4-8A890D47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F6D75-2EB3-469D-9E1E-E4F116F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4A16B-B3FB-4765-A6BB-73DA195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58F-3B71-4770-B7BC-1197D978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16FD6-50BF-412F-936F-56D1082C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5F0F6-A6B1-4DF1-BA96-9D7E2604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7136A-7DE6-433F-BAE1-0884642D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D5B94-61C9-4220-99BC-A5AD935B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752D9-41FD-4316-880F-B9BDF184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E90F3-56D1-4AAC-BBB8-27BEC5A7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9F4C3-BBCF-41AC-AC15-0CD165F0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96E51-5005-4DFD-8D24-00DB6CED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FA3EF-AD00-48D6-B846-42AF35AE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FFDCF-CA6C-41E4-960F-40CE744C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18C-FC7E-4DE0-BF32-E32D1B93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9DC1-AACD-4794-B371-24F44ADB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879C5-D9DD-4868-82F5-7D41D6EF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192C-F770-48FF-9B01-618E778B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4FC7-1C36-4184-9C0B-94EFB0E4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66131-FB5F-455E-88A7-8BF60EDD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99F-859E-42BD-89C5-C1809B59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7893-996E-43A3-9698-BEFE173DE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5F18-DDA5-4CBE-A86E-2DB1B7DFF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A63C-5676-4766-973A-5A495E5B0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F8F2-896C-4983-82FB-E5D3C78FC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44E2-6D1D-412E-9F3F-8DF86835B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3FFC-CC6D-4E45-A358-9A3C507E2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B1CF-0F0C-4277-A27F-A4991A395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vowelmovers.files.wordpress.com/2009/11/lil-wayne-g-commercial-t-ad-what-is-g-gatorde-commercial-video.jpg&amp;imgrefurl=http://vowelmovers.wordpress.com/page/3/&amp;usg=__nJpmqsD4joSlI4sQuJirg0QhhLM=&amp;h=300&amp;w=300&amp;sz=31&amp;hl=en&amp;start=16&amp;um=1&amp;itbs=1&amp;tbnid=KZk3f-ek8M0IjM:&amp;tbnh=116&amp;tbnw=116&amp;prev=/images%3Fq%3Dlil%2Bwayne%26um%3D1%26hl%3Den%26safe%3Dactive%26sa%3DN%26rlz%3D1R2ADSA_enUS37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von’s Inf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2374920" cy="39625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70866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71629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125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9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5746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90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736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49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49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49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048120"/>
            <a:ext cx="1540080" cy="1942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wayne Michael Carter, J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s the guide for this tour. He was born September 27,1982 in New Orleans, Louisiana. During his childhood he was enrolled in a gifted program. Then at age 13 he accidentally shot himself and later on that next year he dropped out of school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352680" cy="25084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name is Devon Robinson, I attend North Penn High School and im a sophmore . I am 15 years old and I was born July 24,1994 in Camden, NJ. My hobbies are playing basketball, football and chilling at the mall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095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0000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3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1600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 Writing Utens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2743200"/>
            <a:ext cx="4648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 are not allowed to use writing utensils because the endanger the environment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eople who are in hell for committing this crime are Taylor Gerstlauer, Ted Stoler, and Ms. Dug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8T15:44:13Z</dcterms:modified>
  <cp:revision>43</cp:revision>
  <dc:subject/>
  <dc:title>Dante’s Inferno</dc:title>
</cp:coreProperties>
</file>