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4C35-44F9-4607-AEC7-9EDCAD97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97FD-99C4-47D1-881B-54D67D49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3FF6-EC78-4EFB-9128-D4F389441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447A-05BB-4FE6-AFD8-342B2B37A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6963-E811-4A49-A34B-69B110B9F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62FC-EB43-45F9-B60F-059FA575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FBD0-EAB7-4C11-8380-14B6DFD0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A8D2-BE6D-4E22-A0E2-733F3B68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9130-B242-47B3-8CA6-03F3C3E5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0570-8CFC-4710-8CF5-3FDA9BB6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41E6-794A-4DA7-9ED4-C7D97772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6AFB-53E9-4707-8428-49409F7C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C849-560F-48D4-ADA4-0C5DD2AC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AE89-C505-4A4C-9DC1-F2DF2AD5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A310-930E-4297-9AB7-D6A9F1CC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DE30-7F39-46E8-A30C-AAFD3F7C0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4624-3CDD-40C4-A590-C83F6B3B6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D573D-7006-414A-A77E-7D775CFE4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E76C2-B6C1-46B6-867A-FFBF29A9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A6F9F-43D5-4665-A05A-A7D37936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3E7B4-E72D-4852-A48C-3FF58138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1D707-CF0D-4883-A94D-9A11094F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5FAA-D360-40B8-A8CD-B084BE6D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CC924-CA20-4CA8-9B02-89F2F586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AB87A-6A4C-42E8-92C2-C99EEFD0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1E721-97B9-4E75-9089-6E7021AB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FF08F-A3F0-479F-8ABF-8351ACB0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4255D-6827-4778-B29D-385DE892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74964-2C77-4471-AF8B-CAA497245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91C80-6546-49CF-BE86-3B32492DD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46FEC-F65C-4690-A363-500A52745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D34EB-C4EF-4F81-8527-35A13697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F3830-2652-4FDB-B6F2-CEDBB821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37E4-9EF4-4D46-96F3-9C6DC31F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BB126-0D84-400E-B446-473ADEEA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D6EF9-563D-4A5D-B047-1B590A1A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01A12-F835-4ABA-8409-5B7ADD48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E266B-5428-4AA9-8BD2-F0C099A0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1B84B-18EB-480E-90E9-8A9C2137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B8492-2110-4F3B-8931-99C979DC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63B5E-CB55-45B9-9EC7-0925A15E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46596-F9FC-4535-AE96-C031086A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31446-93D4-4D21-A811-840870882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76FFD-61E4-4C5C-8458-8123465C4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491D-6F5C-46AC-873D-BDD5CB81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71CE5-A370-4E6B-99C1-C7244F2B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91B30-CFAE-4A12-8A57-7EEB5402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16D61-EFA8-4293-8FE3-FAEC0E97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882C3-39CB-46DE-AA86-76B13516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9F3F7-3ABB-46C0-8389-EE73346D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D3538-A0B7-476E-837A-DAC82C22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98E67-1C73-4638-A951-823CF49E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AEDD4-635F-43CF-AB88-A2A565CD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923BE-8EF6-4BB9-890C-5BB44C89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9113D-2CF4-4093-A850-A4D5EC0EE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DDF9-7A32-4517-AE78-75FB6E9E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D6AAE-5ECF-4D2B-A1EF-06DF7F125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29D1F-6862-4B6B-97F2-ABE04F78C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07FCF-4D5C-48C9-AD23-6357037B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553E3-5BAE-424B-93C7-B574673C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46BCC-DAA9-440C-B81A-266D5101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821FF-EEBE-4A8B-BB61-8B81C5C7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60B0E-754A-4919-AB9D-9012D3DF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61158-23A0-4FAE-B819-8BDFD437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1B53B-CD0B-465D-9800-A83F2308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FBA25-7E42-4C5B-AD8E-3E760FBE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D842-F648-43B1-90F6-691EF18C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42B8B-4C6D-485B-9B70-52B84CBB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2FEFE-DB51-424C-AA23-DE870DA5A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9F11B-FB12-44FC-B370-9432749FE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51AE6-B7DE-4774-8376-960B625D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096C8-5744-4606-A346-04777AAF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EA64F-B8FD-46FB-B575-95C041D5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51323-8BDD-42C5-BA41-CAC4D6DE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2F42F-3D2D-4F73-8B13-21FE5C10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34499-D737-4E69-A42B-58579692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53AC5-C297-432C-B74C-D77AD364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9FED-3B4A-430A-9BBD-DF3435FA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8EFF9-A421-479D-923D-59841CEA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C6B5C-CB6D-4BF0-BA09-F73AA4C0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29B68-0138-44E5-86A3-C7C907F9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12E97-F172-48F5-BFE1-1EDC46D8B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93640-F4FF-45E9-B13A-7CEC9BA2A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C2E9-79E3-43DD-BE4A-20763A5B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37.xml"/><Relationship Id="rId18" Type="http://schemas.openxmlformats.org/officeDocument/2006/relationships/slideLayout" Target="../slideLayouts/slideLayout38.xml"/><Relationship Id="rId19" Type="http://schemas.openxmlformats.org/officeDocument/2006/relationships/slideLayout" Target="../slideLayouts/slideLayout39.xml"/><Relationship Id="rId20" Type="http://schemas.openxmlformats.org/officeDocument/2006/relationships/slideLayout" Target="../slideLayouts/slideLayout40.xml"/><Relationship Id="rId21" Type="http://schemas.openxmlformats.org/officeDocument/2006/relationships/slideLayout" Target="../slideLayouts/slideLayout41.xml"/><Relationship Id="rId22" Type="http://schemas.openxmlformats.org/officeDocument/2006/relationships/slideLayout" Target="../slideLayouts/slideLayout42.xml"/><Relationship Id="rId23" Type="http://schemas.openxmlformats.org/officeDocument/2006/relationships/slideLayout" Target="../slideLayouts/slideLayout43.xml"/><Relationship Id="rId24" Type="http://schemas.openxmlformats.org/officeDocument/2006/relationships/slideLayout" Target="../slideLayouts/slideLayout44.xml"/><Relationship Id="rId25" Type="http://schemas.openxmlformats.org/officeDocument/2006/relationships/slideLayout" Target="../slideLayouts/slideLayout45.xml"/><Relationship Id="rId26" Type="http://schemas.openxmlformats.org/officeDocument/2006/relationships/slideLayout" Target="../slideLayouts/slideLayout46.xml"/><Relationship Id="rId27" Type="http://schemas.openxmlformats.org/officeDocument/2006/relationships/slideLayout" Target="../slideLayouts/slideLayout47.xml"/><Relationship Id="rId2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49.xml"/><Relationship Id="rId18" Type="http://schemas.openxmlformats.org/officeDocument/2006/relationships/slideLayout" Target="../slideLayouts/slideLayout50.xml"/><Relationship Id="rId19" Type="http://schemas.openxmlformats.org/officeDocument/2006/relationships/slideLayout" Target="../slideLayouts/slideLayout51.xml"/><Relationship Id="rId20" Type="http://schemas.openxmlformats.org/officeDocument/2006/relationships/slideLayout" Target="../slideLayouts/slideLayout52.xml"/><Relationship Id="rId21" Type="http://schemas.openxmlformats.org/officeDocument/2006/relationships/slideLayout" Target="../slideLayouts/slideLayout53.xml"/><Relationship Id="rId22" Type="http://schemas.openxmlformats.org/officeDocument/2006/relationships/slideLayout" Target="../slideLayouts/slideLayout54.xml"/><Relationship Id="rId23" Type="http://schemas.openxmlformats.org/officeDocument/2006/relationships/slideLayout" Target="../slideLayouts/slideLayout55.xml"/><Relationship Id="rId24" Type="http://schemas.openxmlformats.org/officeDocument/2006/relationships/slideLayout" Target="../slideLayouts/slideLayout56.xml"/><Relationship Id="rId25" Type="http://schemas.openxmlformats.org/officeDocument/2006/relationships/slideLayout" Target="../slideLayouts/slideLayout57.xml"/><Relationship Id="rId26" Type="http://schemas.openxmlformats.org/officeDocument/2006/relationships/slideLayout" Target="../slideLayouts/slideLayout58.xml"/><Relationship Id="rId27" Type="http://schemas.openxmlformats.org/officeDocument/2006/relationships/slideLayout" Target="../slideLayouts/slideLayout59.xml"/><Relationship Id="rId2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61.xml"/><Relationship Id="rId18" Type="http://schemas.openxmlformats.org/officeDocument/2006/relationships/slideLayout" Target="../slideLayouts/slideLayout62.xml"/><Relationship Id="rId19" Type="http://schemas.openxmlformats.org/officeDocument/2006/relationships/slideLayout" Target="../slideLayouts/slideLayout63.xml"/><Relationship Id="rId20" Type="http://schemas.openxmlformats.org/officeDocument/2006/relationships/slideLayout" Target="../slideLayouts/slideLayout64.xml"/><Relationship Id="rId21" Type="http://schemas.openxmlformats.org/officeDocument/2006/relationships/slideLayout" Target="../slideLayouts/slideLayout65.xml"/><Relationship Id="rId22" Type="http://schemas.openxmlformats.org/officeDocument/2006/relationships/slideLayout" Target="../slideLayouts/slideLayout66.xml"/><Relationship Id="rId23" Type="http://schemas.openxmlformats.org/officeDocument/2006/relationships/slideLayout" Target="../slideLayouts/slideLayout67.xml"/><Relationship Id="rId24" Type="http://schemas.openxmlformats.org/officeDocument/2006/relationships/slideLayout" Target="../slideLayouts/slideLayout68.xml"/><Relationship Id="rId25" Type="http://schemas.openxmlformats.org/officeDocument/2006/relationships/slideLayout" Target="../slideLayouts/slideLayout69.xml"/><Relationship Id="rId26" Type="http://schemas.openxmlformats.org/officeDocument/2006/relationships/slideLayout" Target="../slideLayouts/slideLayout70.xml"/><Relationship Id="rId27" Type="http://schemas.openxmlformats.org/officeDocument/2006/relationships/slideLayout" Target="../slideLayouts/slideLayout71.xml"/><Relationship Id="rId2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73.xml"/><Relationship Id="rId18" Type="http://schemas.openxmlformats.org/officeDocument/2006/relationships/slideLayout" Target="../slideLayouts/slideLayout74.xml"/><Relationship Id="rId19" Type="http://schemas.openxmlformats.org/officeDocument/2006/relationships/slideLayout" Target="../slideLayouts/slideLayout75.xml"/><Relationship Id="rId20" Type="http://schemas.openxmlformats.org/officeDocument/2006/relationships/slideLayout" Target="../slideLayouts/slideLayout76.xml"/><Relationship Id="rId21" Type="http://schemas.openxmlformats.org/officeDocument/2006/relationships/slideLayout" Target="../slideLayouts/slideLayout77.xml"/><Relationship Id="rId22" Type="http://schemas.openxmlformats.org/officeDocument/2006/relationships/slideLayout" Target="../slideLayouts/slideLayout78.xml"/><Relationship Id="rId23" Type="http://schemas.openxmlformats.org/officeDocument/2006/relationships/slideLayout" Target="../slideLayouts/slideLayout79.xml"/><Relationship Id="rId24" Type="http://schemas.openxmlformats.org/officeDocument/2006/relationships/slideLayout" Target="../slideLayouts/slideLayout80.xml"/><Relationship Id="rId25" Type="http://schemas.openxmlformats.org/officeDocument/2006/relationships/slideLayout" Target="../slideLayouts/slideLayout81.xml"/><Relationship Id="rId26" Type="http://schemas.openxmlformats.org/officeDocument/2006/relationships/slideLayout" Target="../slideLayouts/slideLayout82.xml"/><Relationship Id="rId27" Type="http://schemas.openxmlformats.org/officeDocument/2006/relationships/slideLayout" Target="../slideLayouts/slideLayout83.xml"/><Relationship Id="rId28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BA6C-D627-4EE9-B25C-9B5A7B6372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A97E-AB6D-4E10-A4F5-04862F81A1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CE54-FC24-4B0A-9B61-B23BC19236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2662-3990-47E9-A8A3-2C79A1702C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7"/>
    <p:sldLayoutId id="2147483689" r:id="rId18"/>
    <p:sldLayoutId id="2147483690" r:id="rId19"/>
    <p:sldLayoutId id="2147483691" r:id="rId20"/>
    <p:sldLayoutId id="2147483692" r:id="rId21"/>
    <p:sldLayoutId id="2147483693" r:id="rId22"/>
    <p:sldLayoutId id="2147483694" r:id="rId23"/>
    <p:sldLayoutId id="2147483695" r:id="rId24"/>
    <p:sldLayoutId id="2147483696" r:id="rId25"/>
    <p:sldLayoutId id="2147483697" r:id="rId26"/>
    <p:sldLayoutId id="2147483698" r:id="rId27"/>
    <p:sldLayoutId id="2147483699" r:id="rId2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ACAF-D2DD-4DEE-A5A1-5C4C9D709E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7"/>
    <p:sldLayoutId id="2147483702" r:id="rId18"/>
    <p:sldLayoutId id="2147483703" r:id="rId19"/>
    <p:sldLayoutId id="2147483704" r:id="rId20"/>
    <p:sldLayoutId id="2147483705" r:id="rId21"/>
    <p:sldLayoutId id="2147483706" r:id="rId22"/>
    <p:sldLayoutId id="2147483707" r:id="rId23"/>
    <p:sldLayoutId id="2147483708" r:id="rId24"/>
    <p:sldLayoutId id="2147483709" r:id="rId25"/>
    <p:sldLayoutId id="2147483710" r:id="rId26"/>
    <p:sldLayoutId id="2147483711" r:id="rId27"/>
    <p:sldLayoutId id="2147483712" r:id="rId2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2604-0BB1-4CEF-8305-139B8EA50C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7"/>
    <p:sldLayoutId id="2147483715" r:id="rId18"/>
    <p:sldLayoutId id="2147483716" r:id="rId19"/>
    <p:sldLayoutId id="2147483717" r:id="rId20"/>
    <p:sldLayoutId id="2147483718" r:id="rId21"/>
    <p:sldLayoutId id="2147483719" r:id="rId22"/>
    <p:sldLayoutId id="2147483720" r:id="rId23"/>
    <p:sldLayoutId id="2147483721" r:id="rId24"/>
    <p:sldLayoutId id="2147483722" r:id="rId25"/>
    <p:sldLayoutId id="2147483723" r:id="rId26"/>
    <p:sldLayoutId id="2147483724" r:id="rId27"/>
    <p:sldLayoutId id="2147483725" r:id="rId2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5391-05BB-42D5-980C-66FDC7E304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7"/>
    <p:sldLayoutId id="2147483728" r:id="rId18"/>
    <p:sldLayoutId id="2147483729" r:id="rId19"/>
    <p:sldLayoutId id="2147483730" r:id="rId20"/>
    <p:sldLayoutId id="2147483731" r:id="rId21"/>
    <p:sldLayoutId id="2147483732" r:id="rId22"/>
    <p:sldLayoutId id="2147483733" r:id="rId23"/>
    <p:sldLayoutId id="2147483734" r:id="rId24"/>
    <p:sldLayoutId id="2147483735" r:id="rId25"/>
    <p:sldLayoutId id="2147483736" r:id="rId26"/>
    <p:sldLayoutId id="2147483737" r:id="rId27"/>
    <p:sldLayoutId id="2147483738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vowelmovers.files.wordpress.com/2009/11/lil-wayne-g-commercial-t-ad-what-is-g-gatorde-commercial-video.jpg&amp;imgrefurl=http://vowelmovers.wordpress.com/page/3/&amp;usg=__nJpmqsD4joSlI4sQuJirg0QhhLM=&amp;h=300&amp;w=300&amp;sz=31&amp;hl=en&amp;start=16&amp;um=1&amp;itbs=1&amp;tbnid=KZk3f-ek8M0IjM:&amp;tbnh=116&amp;tbnw=116&amp;prev=/images%3Fq%3Dlil%2Bwayne%26um%3D1%26hl%3Den%26safe%3Dactive%26sa%3DN%26rlz%3D1R2ADSA_enUS372%26tbs%3Disch: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4.xml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8.xml"/><Relationship Id="rId3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von’s Infer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743200" y="152280"/>
            <a:ext cx="6172200" cy="15242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100000">
                <a:srgbClr val="fff200">
                  <a:alpha val="84313"/>
                </a:srgbClr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hiller"/>
              </a:rPr>
              <a:t>Abandon all hope! Ye who enter he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358128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2374920" cy="396252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7086600" y="3657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5"/>
          <a:stretch/>
        </p:blipFill>
        <p:spPr>
          <a:xfrm>
            <a:off x="7238880" y="3657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6"/>
          <a:stretch/>
        </p:blipFill>
        <p:spPr>
          <a:xfrm>
            <a:off x="7238880" y="3657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7"/>
          <a:stretch/>
        </p:blipFill>
        <p:spPr>
          <a:xfrm>
            <a:off x="7162920" y="3657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255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1255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49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5746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990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736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4491" fill="hold"/>
                                        <p:tgtEl>
                                          <p:spTgt spid="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4491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4491" fill="hold"/>
                                        <p:tgtEl>
                                          <p:spTgt spid="4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B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>
            <a:hlinkClick r:id="" action="ppaction://hlinkshowjump?jump=nextslide"/>
          </p:cNvPr>
          <p:cNvSpPr/>
          <p:nvPr/>
        </p:nvSpPr>
        <p:spPr>
          <a:xfrm>
            <a:off x="2971800" y="5638680"/>
            <a:ext cx="1523880" cy="381240"/>
          </a:xfrm>
          <a:custGeom>
            <a:avLst/>
            <a:gdLst>
              <a:gd name="textAreaLeft" fmla="*/ 61920 w 1523880"/>
              <a:gd name="textAreaRight" fmla="*/ 1461960 w 1523880"/>
              <a:gd name="textAreaTop" fmla="*/ 61920 h 381240"/>
              <a:gd name="textAreaBottom" fmla="*/ 319320 h 381240"/>
            </a:gdLst>
            <a:ahLst/>
            <a:rect l="textAreaLeft" t="textAreaTop" r="textAreaRight" b="textAreaBottom"/>
            <a:pathLst>
              <a:path w="86278" h="21600">
                <a:moveTo>
                  <a:pt x="0" y="0"/>
                </a:moveTo>
                <a:lnTo>
                  <a:pt x="86278" y="0"/>
                </a:lnTo>
                <a:lnTo>
                  <a:pt x="86278" y="21600"/>
                </a:lnTo>
                <a:lnTo>
                  <a:pt x="0" y="21600"/>
                </a:lnTo>
                <a:close/>
              </a:path>
              <a:path fill="lightenLess" w="86278" h="21600">
                <a:moveTo>
                  <a:pt x="0" y="0"/>
                </a:moveTo>
                <a:lnTo>
                  <a:pt x="86278" y="0"/>
                </a:lnTo>
                <a:lnTo>
                  <a:pt x="82768" y="3510"/>
                </a:lnTo>
                <a:lnTo>
                  <a:pt x="3510" y="3510"/>
                </a:lnTo>
                <a:close/>
              </a:path>
              <a:path fill="darken" w="86278" h="21600">
                <a:moveTo>
                  <a:pt x="86278" y="0"/>
                </a:moveTo>
                <a:lnTo>
                  <a:pt x="86278" y="21600"/>
                </a:lnTo>
                <a:lnTo>
                  <a:pt x="82768" y="18090"/>
                </a:lnTo>
                <a:lnTo>
                  <a:pt x="82768" y="3510"/>
                </a:lnTo>
                <a:close/>
              </a:path>
              <a:path fill="darkenLess" w="86278" h="21600">
                <a:moveTo>
                  <a:pt x="86278" y="21600"/>
                </a:moveTo>
                <a:lnTo>
                  <a:pt x="0" y="21600"/>
                </a:lnTo>
                <a:lnTo>
                  <a:pt x="3510" y="18090"/>
                </a:lnTo>
                <a:lnTo>
                  <a:pt x="82768" y="18090"/>
                </a:lnTo>
                <a:close/>
              </a:path>
              <a:path fill="lighten" w="86278" h="21600">
                <a:moveTo>
                  <a:pt x="0" y="21600"/>
                </a:moveTo>
                <a:lnTo>
                  <a:pt x="0" y="0"/>
                </a:lnTo>
                <a:lnTo>
                  <a:pt x="3510" y="3510"/>
                </a:lnTo>
                <a:lnTo>
                  <a:pt x="3510" y="1809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>
            <a:hlinkClick r:id="rId1" action="ppaction://hlinksldjump"/>
          </p:cNvPr>
          <p:cNvSpPr/>
          <p:nvPr/>
        </p:nvSpPr>
        <p:spPr>
          <a:xfrm>
            <a:off x="4724280" y="5638680"/>
            <a:ext cx="1828800" cy="38124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1240"/>
              <a:gd name="textAreaBottom" fmla="*/ 294120 h 381240"/>
            </a:gdLst>
            <a:ahLst/>
            <a:rect l="textAreaLeft" t="textAreaTop" r="textAreaRight" b="textAreaBottom"/>
            <a:pathLst>
              <a:path w="103537" h="21600">
                <a:moveTo>
                  <a:pt x="0" y="0"/>
                </a:moveTo>
                <a:lnTo>
                  <a:pt x="103537" y="0"/>
                </a:lnTo>
                <a:lnTo>
                  <a:pt x="103537" y="21600"/>
                </a:lnTo>
                <a:lnTo>
                  <a:pt x="0" y="21600"/>
                </a:lnTo>
                <a:close/>
              </a:path>
              <a:path fill="lightenLess" w="103537" h="21600">
                <a:moveTo>
                  <a:pt x="0" y="0"/>
                </a:moveTo>
                <a:lnTo>
                  <a:pt x="103537" y="0"/>
                </a:lnTo>
                <a:lnTo>
                  <a:pt x="98588" y="4950"/>
                </a:lnTo>
                <a:lnTo>
                  <a:pt x="4950" y="4950"/>
                </a:lnTo>
                <a:close/>
              </a:path>
              <a:path fill="darken" w="103537" h="21600">
                <a:moveTo>
                  <a:pt x="103537" y="0"/>
                </a:moveTo>
                <a:lnTo>
                  <a:pt x="103537" y="21600"/>
                </a:lnTo>
                <a:lnTo>
                  <a:pt x="98588" y="16650"/>
                </a:lnTo>
                <a:lnTo>
                  <a:pt x="98588" y="4950"/>
                </a:lnTo>
                <a:close/>
              </a:path>
              <a:path fill="darkenLess" w="103537" h="21600">
                <a:moveTo>
                  <a:pt x="103537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588" y="16650"/>
                </a:lnTo>
                <a:close/>
              </a:path>
              <a:path fill="lighten" w="103537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>
            <a:hlinkClick r:id="rId2" action="ppaction://hlinksldjump"/>
          </p:cNvPr>
          <p:cNvSpPr/>
          <p:nvPr/>
        </p:nvSpPr>
        <p:spPr>
          <a:xfrm>
            <a:off x="6934320" y="5638680"/>
            <a:ext cx="1676160" cy="381240"/>
          </a:xfrm>
          <a:custGeom>
            <a:avLst/>
            <a:gdLst>
              <a:gd name="textAreaLeft" fmla="*/ 95040 w 1676160"/>
              <a:gd name="textAreaRight" fmla="*/ 1581120 w 1676160"/>
              <a:gd name="textAreaTop" fmla="*/ 95040 h 381240"/>
              <a:gd name="textAreaBottom" fmla="*/ 286200 h 381240"/>
            </a:gdLst>
            <a:ahLst/>
            <a:rect l="textAreaLeft" t="textAreaTop" r="textAreaRight" b="textAreaBottom"/>
            <a:pathLst>
              <a:path w="94897" h="21600">
                <a:moveTo>
                  <a:pt x="0" y="0"/>
                </a:moveTo>
                <a:lnTo>
                  <a:pt x="94897" y="0"/>
                </a:lnTo>
                <a:lnTo>
                  <a:pt x="94897" y="21600"/>
                </a:lnTo>
                <a:lnTo>
                  <a:pt x="0" y="21600"/>
                </a:lnTo>
                <a:close/>
              </a:path>
              <a:path fill="lightenLess" w="94897" h="21600">
                <a:moveTo>
                  <a:pt x="0" y="0"/>
                </a:moveTo>
                <a:lnTo>
                  <a:pt x="94897" y="0"/>
                </a:lnTo>
                <a:lnTo>
                  <a:pt x="89498" y="5400"/>
                </a:lnTo>
                <a:lnTo>
                  <a:pt x="5400" y="5400"/>
                </a:lnTo>
                <a:close/>
              </a:path>
              <a:path fill="darken" w="94897" h="21600">
                <a:moveTo>
                  <a:pt x="94897" y="0"/>
                </a:moveTo>
                <a:lnTo>
                  <a:pt x="94897" y="21600"/>
                </a:lnTo>
                <a:lnTo>
                  <a:pt x="89498" y="16200"/>
                </a:lnTo>
                <a:lnTo>
                  <a:pt x="89498" y="5400"/>
                </a:lnTo>
                <a:close/>
              </a:path>
              <a:path fill="darkenLess" w="94897" h="21600">
                <a:moveTo>
                  <a:pt x="9489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89498" y="16200"/>
                </a:lnTo>
                <a:close/>
              </a:path>
              <a:path fill="lighten" w="9489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04920"/>
          </a:xfrm>
          <a:custGeom>
            <a:avLst/>
            <a:gdLst>
              <a:gd name="textAreaLeft" fmla="*/ 75960 w 1523880"/>
              <a:gd name="textAreaRight" fmla="*/ 1447920 w 152388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07847" h="21600">
                <a:moveTo>
                  <a:pt x="0" y="0"/>
                </a:moveTo>
                <a:lnTo>
                  <a:pt x="107847" y="0"/>
                </a:lnTo>
                <a:lnTo>
                  <a:pt x="107847" y="21600"/>
                </a:lnTo>
                <a:lnTo>
                  <a:pt x="0" y="21600"/>
                </a:lnTo>
                <a:close/>
              </a:path>
              <a:path fill="lightenLess" w="107847" h="21600">
                <a:moveTo>
                  <a:pt x="0" y="0"/>
                </a:moveTo>
                <a:lnTo>
                  <a:pt x="107847" y="0"/>
                </a:lnTo>
                <a:lnTo>
                  <a:pt x="102447" y="5400"/>
                </a:lnTo>
                <a:lnTo>
                  <a:pt x="5400" y="5400"/>
                </a:lnTo>
                <a:close/>
              </a:path>
              <a:path fill="darken" w="107847" h="21600">
                <a:moveTo>
                  <a:pt x="107847" y="0"/>
                </a:moveTo>
                <a:lnTo>
                  <a:pt x="107847" y="21600"/>
                </a:lnTo>
                <a:lnTo>
                  <a:pt x="102447" y="16200"/>
                </a:lnTo>
                <a:lnTo>
                  <a:pt x="102447" y="5400"/>
                </a:lnTo>
                <a:close/>
              </a:path>
              <a:path fill="darkenLess" w="107847" h="21600">
                <a:moveTo>
                  <a:pt x="1078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447" y="16200"/>
                </a:lnTo>
                <a:close/>
              </a:path>
              <a:path fill="lighten" w="1078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C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19320" cy="304920"/>
          </a:xfrm>
          <a:custGeom>
            <a:avLst/>
            <a:gdLst>
              <a:gd name="textAreaLeft" fmla="*/ 45360 w 1219320"/>
              <a:gd name="textAreaRight" fmla="*/ 1173960 w 1219320"/>
              <a:gd name="textAreaTop" fmla="*/ 45360 h 304920"/>
              <a:gd name="textAreaBottom" fmla="*/ 25956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3073" y="3225"/>
                </a:lnTo>
                <a:lnTo>
                  <a:pt x="3225" y="3225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3073" y="18375"/>
                </a:lnTo>
                <a:lnTo>
                  <a:pt x="83073" y="3225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3225" y="18375"/>
                </a:lnTo>
                <a:lnTo>
                  <a:pt x="83073" y="18375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3225" y="3225"/>
                </a:lnTo>
                <a:lnTo>
                  <a:pt x="3225" y="183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>
            <a:hlinkClick r:id="rId1" action="ppaction://hlinksldjump"/>
          </p:cNvPr>
          <p:cNvSpPr/>
          <p:nvPr/>
        </p:nvSpPr>
        <p:spPr>
          <a:xfrm>
            <a:off x="4572000" y="5715000"/>
            <a:ext cx="1905120" cy="304920"/>
          </a:xfrm>
          <a:custGeom>
            <a:avLst/>
            <a:gdLst>
              <a:gd name="textAreaLeft" fmla="*/ 58680 w 1905120"/>
              <a:gd name="textAreaRight" fmla="*/ 1846440 w 190512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30659" y="4163"/>
                </a:lnTo>
                <a:lnTo>
                  <a:pt x="4163" y="4163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30659" y="17437"/>
                </a:lnTo>
                <a:lnTo>
                  <a:pt x="130659" y="4163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130659" y="17437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>
            <a:hlinkClick r:id="rId2" action="ppaction://hlinksldjump"/>
          </p:cNvPr>
          <p:cNvSpPr/>
          <p:nvPr/>
        </p:nvSpPr>
        <p:spPr>
          <a:xfrm>
            <a:off x="6858000" y="5715000"/>
            <a:ext cx="1905120" cy="304920"/>
          </a:xfrm>
          <a:custGeom>
            <a:avLst/>
            <a:gdLst>
              <a:gd name="textAreaLeft" fmla="*/ 75960 w 1905120"/>
              <a:gd name="textAreaRight" fmla="*/ 1829160 w 190512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29422" y="5400"/>
                </a:lnTo>
                <a:lnTo>
                  <a:pt x="5400" y="5400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29422" y="16200"/>
                </a:lnTo>
                <a:lnTo>
                  <a:pt x="129422" y="5400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29422" y="16200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80880"/>
          </a:xfrm>
          <a:custGeom>
            <a:avLst/>
            <a:gdLst>
              <a:gd name="textAreaLeft" fmla="*/ 71280 w 1523880"/>
              <a:gd name="textAreaRight" fmla="*/ 1452600 w 1523880"/>
              <a:gd name="textAreaTop" fmla="*/ 71280 h 380880"/>
              <a:gd name="textAreaBottom" fmla="*/ 3096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2309" y="4050"/>
                </a:lnTo>
                <a:lnTo>
                  <a:pt x="4050" y="405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2309" y="17550"/>
                </a:lnTo>
                <a:lnTo>
                  <a:pt x="82309" y="405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82309" y="1755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>
            <a:hlinkClick r:id="rId1" action="ppaction://hlinksldjump"/>
          </p:cNvPr>
          <p:cNvSpPr/>
          <p:nvPr/>
        </p:nvSpPr>
        <p:spPr>
          <a:xfrm>
            <a:off x="4876920" y="5715000"/>
            <a:ext cx="1904760" cy="380880"/>
          </a:xfrm>
          <a:custGeom>
            <a:avLst/>
            <a:gdLst>
              <a:gd name="textAreaLeft" fmla="*/ 95040 w 1904760"/>
              <a:gd name="textAreaRight" fmla="*/ 1809720 w 19047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7939" h="21600">
                <a:moveTo>
                  <a:pt x="0" y="0"/>
                </a:moveTo>
                <a:lnTo>
                  <a:pt x="107939" y="0"/>
                </a:lnTo>
                <a:lnTo>
                  <a:pt x="107939" y="21600"/>
                </a:lnTo>
                <a:lnTo>
                  <a:pt x="0" y="21600"/>
                </a:lnTo>
                <a:close/>
              </a:path>
              <a:path fill="lightenLess" w="107939" h="21600">
                <a:moveTo>
                  <a:pt x="0" y="0"/>
                </a:moveTo>
                <a:lnTo>
                  <a:pt x="107939" y="0"/>
                </a:lnTo>
                <a:lnTo>
                  <a:pt x="102539" y="5400"/>
                </a:lnTo>
                <a:lnTo>
                  <a:pt x="5400" y="5400"/>
                </a:lnTo>
                <a:close/>
              </a:path>
              <a:path fill="darken" w="107939" h="21600">
                <a:moveTo>
                  <a:pt x="107939" y="0"/>
                </a:moveTo>
                <a:lnTo>
                  <a:pt x="107939" y="21600"/>
                </a:lnTo>
                <a:lnTo>
                  <a:pt x="102539" y="16200"/>
                </a:lnTo>
                <a:lnTo>
                  <a:pt x="102539" y="5400"/>
                </a:lnTo>
                <a:close/>
              </a:path>
              <a:path fill="darkenLess" w="107939" h="21600">
                <a:moveTo>
                  <a:pt x="10793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539" y="16200"/>
                </a:lnTo>
                <a:close/>
              </a:path>
              <a:path fill="lighten" w="10793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>
            <a:hlinkClick r:id="rId2" action="ppaction://hlinksldjump"/>
          </p:cNvPr>
          <p:cNvSpPr/>
          <p:nvPr/>
        </p:nvSpPr>
        <p:spPr>
          <a:xfrm>
            <a:off x="7010280" y="5715000"/>
            <a:ext cx="1828800" cy="380880"/>
          </a:xfrm>
          <a:custGeom>
            <a:avLst/>
            <a:gdLst>
              <a:gd name="textAreaLeft" fmla="*/ 95040 w 1828800"/>
              <a:gd name="textAreaRight" fmla="*/ 1733760 w 1828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235" y="5400"/>
                </a:lnTo>
                <a:lnTo>
                  <a:pt x="5400" y="540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235" y="16200"/>
                </a:lnTo>
                <a:lnTo>
                  <a:pt x="98235" y="540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98235" y="1620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C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>
            <a:hlinkClick r:id="" action="ppaction://hlinkshowjump?jump=nextslide"/>
          </p:cNvPr>
          <p:cNvSpPr/>
          <p:nvPr/>
        </p:nvSpPr>
        <p:spPr>
          <a:xfrm>
            <a:off x="2971800" y="5562720"/>
            <a:ext cx="1523880" cy="457200"/>
          </a:xfrm>
          <a:custGeom>
            <a:avLst/>
            <a:gdLst>
              <a:gd name="textAreaLeft" fmla="*/ 81000 w 1523880"/>
              <a:gd name="textAreaRight" fmla="*/ 1442880 w 1523880"/>
              <a:gd name="textAreaTop" fmla="*/ 81000 h 457200"/>
              <a:gd name="textAreaBottom" fmla="*/ 3762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130" y="3825"/>
                </a:lnTo>
                <a:lnTo>
                  <a:pt x="3825" y="3825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130" y="17775"/>
                </a:lnTo>
                <a:lnTo>
                  <a:pt x="68130" y="3825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68130" y="17775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>
            <a:hlinkClick r:id="rId1" action="ppaction://hlinksldjump"/>
          </p:cNvPr>
          <p:cNvSpPr/>
          <p:nvPr/>
        </p:nvSpPr>
        <p:spPr>
          <a:xfrm>
            <a:off x="4952880" y="5562720"/>
            <a:ext cx="1752840" cy="457200"/>
          </a:xfrm>
          <a:custGeom>
            <a:avLst/>
            <a:gdLst>
              <a:gd name="textAreaLeft" fmla="*/ 91800 w 1752840"/>
              <a:gd name="textAreaRight" fmla="*/ 1661040 w 175284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78413" y="4350"/>
                </a:lnTo>
                <a:lnTo>
                  <a:pt x="4350" y="43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78413" y="17250"/>
                </a:lnTo>
                <a:lnTo>
                  <a:pt x="78413" y="43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8413" y="172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>
            <a:hlinkClick r:id="rId2" action="ppaction://hlinksldjump"/>
          </p:cNvPr>
          <p:cNvSpPr/>
          <p:nvPr/>
        </p:nvSpPr>
        <p:spPr>
          <a:xfrm>
            <a:off x="7086600" y="5562720"/>
            <a:ext cx="1752480" cy="457200"/>
          </a:xfrm>
          <a:custGeom>
            <a:avLst/>
            <a:gdLst>
              <a:gd name="textAreaLeft" fmla="*/ 93600 w 1752480"/>
              <a:gd name="textAreaRight" fmla="*/ 1658880 w 1752480"/>
              <a:gd name="textAreaTop" fmla="*/ 93600 h 457200"/>
              <a:gd name="textAreaBottom" fmla="*/ 3636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321" y="4425"/>
                </a:lnTo>
                <a:lnTo>
                  <a:pt x="4425" y="4425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321" y="17175"/>
                </a:lnTo>
                <a:lnTo>
                  <a:pt x="78321" y="4425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78321" y="17175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>
            <a:hlinkClick r:id="rId1" action="ppaction://hlinksldjump"/>
          </p:cNvPr>
          <p:cNvSpPr/>
          <p:nvPr/>
        </p:nvSpPr>
        <p:spPr>
          <a:xfrm>
            <a:off x="2971800" y="5715000"/>
            <a:ext cx="1600200" cy="304920"/>
          </a:xfrm>
          <a:custGeom>
            <a:avLst/>
            <a:gdLst>
              <a:gd name="textAreaLeft" fmla="*/ 71280 w 1600200"/>
              <a:gd name="textAreaRight" fmla="*/ 1528920 w 1600200"/>
              <a:gd name="textAreaTop" fmla="*/ 71280 h 304920"/>
              <a:gd name="textAreaBottom" fmla="*/ 23364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08184" y="5063"/>
                </a:lnTo>
                <a:lnTo>
                  <a:pt x="5063" y="5063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08184" y="16537"/>
                </a:lnTo>
                <a:lnTo>
                  <a:pt x="108184" y="5063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5063" y="16537"/>
                </a:lnTo>
                <a:lnTo>
                  <a:pt x="108184" y="16537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5063" y="5063"/>
                </a:lnTo>
                <a:lnTo>
                  <a:pt x="5063" y="165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Has been DENI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You need to go back and complete your levels before entering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Do not try this route again or you will be doom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3048120"/>
            <a:ext cx="1540080" cy="19429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Chiller"/>
              </a:rPr>
              <a:t>Meet My Guide</a:t>
            </a:r>
            <a:endParaRPr b="0" lang="en-US" sz="8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wayne Michael Carter, Jr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is the guide for this tour. He was born September 27,1982 in New Orleans, Louisiana. During his childhood he was enrolled in a gifted program. Then at age 13 he accidentally shot himself and later on that next year he dropped out of school.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4191120" y="2666880"/>
            <a:ext cx="3352680" cy="250848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Meet Me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name is Devon Robinson, I attend North Penn High School and im a sophmore . I am 15 years old and I was born July 24,1994 in Camden, NJ. My hobbies are playing basketball, football and chilling at the mall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2590920" y="0"/>
            <a:ext cx="6553080" cy="60958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0000"/>
                </a:solidFill>
                <a:latin typeface="Chiller"/>
              </a:rPr>
              <a:t>Level A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95640" cy="380880"/>
          </a:xfrm>
          <a:custGeom>
            <a:avLst/>
            <a:gdLst>
              <a:gd name="textAreaLeft" fmla="*/ 95040 w 1295640"/>
              <a:gd name="textAreaRight" fmla="*/ 1200600 w 12956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68028" y="5400"/>
                </a:lnTo>
                <a:lnTo>
                  <a:pt x="5400" y="5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68028" y="16200"/>
                </a:lnTo>
                <a:lnTo>
                  <a:pt x="68028" y="5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68028" y="16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>
            <a:hlinkClick r:id="rId2" action="ppaction://hlinksldjump"/>
          </p:cNvPr>
          <p:cNvSpPr/>
          <p:nvPr/>
        </p:nvSpPr>
        <p:spPr>
          <a:xfrm>
            <a:off x="5181480" y="5715000"/>
            <a:ext cx="1371600" cy="380880"/>
          </a:xfrm>
          <a:custGeom>
            <a:avLst/>
            <a:gdLst>
              <a:gd name="textAreaLeft" fmla="*/ 50760 w 1371600"/>
              <a:gd name="textAreaRight" fmla="*/ 1320840 w 13716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852" y="2880"/>
                </a:lnTo>
                <a:lnTo>
                  <a:pt x="2880" y="288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852" y="18720"/>
                </a:lnTo>
                <a:lnTo>
                  <a:pt x="74852" y="288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2880" y="18720"/>
                </a:lnTo>
                <a:lnTo>
                  <a:pt x="74852" y="1872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2880" y="2880"/>
                </a:lnTo>
                <a:lnTo>
                  <a:pt x="2880" y="1872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>
            <a:hlinkClick r:id="rId3" action="ppaction://hlinksldjump"/>
          </p:cNvPr>
          <p:cNvSpPr/>
          <p:nvPr/>
        </p:nvSpPr>
        <p:spPr>
          <a:xfrm>
            <a:off x="7543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Chiller"/>
              </a:rPr>
              <a:t>Level A, The Crime</a:t>
            </a:r>
            <a:endParaRPr b="0" lang="en-US" sz="67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5" name="">
            <a:hlinkClick r:id="" action="ppaction://hlinkshowjump?jump=nextslide"/>
          </p:cNvPr>
          <p:cNvSpPr/>
          <p:nvPr/>
        </p:nvSpPr>
        <p:spPr>
          <a:xfrm>
            <a:off x="2743200" y="5562720"/>
            <a:ext cx="1447920" cy="457200"/>
          </a:xfrm>
          <a:custGeom>
            <a:avLst/>
            <a:gdLst>
              <a:gd name="textAreaLeft" fmla="*/ 82800 w 1447920"/>
              <a:gd name="textAreaRight" fmla="*/ 1365120 w 1447920"/>
              <a:gd name="textAreaTop" fmla="*/ 82800 h 457200"/>
              <a:gd name="textAreaBottom" fmla="*/ 37440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4448" y="3921"/>
                </a:lnTo>
                <a:lnTo>
                  <a:pt x="3921" y="3921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4448" y="17679"/>
                </a:lnTo>
                <a:lnTo>
                  <a:pt x="64448" y="3921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3921" y="17679"/>
                </a:lnTo>
                <a:lnTo>
                  <a:pt x="64448" y="17679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3921" y="3921"/>
                </a:lnTo>
                <a:lnTo>
                  <a:pt x="3921" y="1767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>
            <a:hlinkClick r:id="rId1" action="ppaction://hlinksldjump"/>
          </p:cNvPr>
          <p:cNvSpPr/>
          <p:nvPr/>
        </p:nvSpPr>
        <p:spPr>
          <a:xfrm>
            <a:off x="5029200" y="5562720"/>
            <a:ext cx="1523880" cy="457200"/>
          </a:xfrm>
          <a:custGeom>
            <a:avLst/>
            <a:gdLst>
              <a:gd name="textAreaLeft" fmla="*/ 79200 w 1523880"/>
              <a:gd name="textAreaRight" fmla="*/ 1444680 w 15238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205" y="3750"/>
                </a:lnTo>
                <a:lnTo>
                  <a:pt x="3750" y="375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205" y="17850"/>
                </a:lnTo>
                <a:lnTo>
                  <a:pt x="68205" y="375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68205" y="1785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>
            <a:hlinkClick r:id="rId2" action="ppaction://hlinksldjump"/>
          </p:cNvPr>
          <p:cNvSpPr/>
          <p:nvPr/>
        </p:nvSpPr>
        <p:spPr>
          <a:xfrm>
            <a:off x="7238880" y="5562720"/>
            <a:ext cx="1676520" cy="457200"/>
          </a:xfrm>
          <a:custGeom>
            <a:avLst/>
            <a:gdLst>
              <a:gd name="textAreaLeft" fmla="*/ 91800 w 1676520"/>
              <a:gd name="textAreaRight" fmla="*/ 1584720 w 167652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4811" y="4350"/>
                </a:lnTo>
                <a:lnTo>
                  <a:pt x="4350" y="435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4811" y="17250"/>
                </a:lnTo>
                <a:lnTo>
                  <a:pt x="74811" y="435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4811" y="1725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16002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o Writing Utens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57600" y="2743200"/>
            <a:ext cx="464832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ou are not allowed to use writing utensils because the endanger the environment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people who are in hell for committing this crime are Taylor Gerstlauer, Ted Stoler, and Ms. Dug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Chiller"/>
              </a:rPr>
              <a:t>Level A, The Punishment</a:t>
            </a:r>
            <a:endParaRPr b="0" lang="en-US" sz="6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752840" cy="457200"/>
          </a:xfrm>
          <a:custGeom>
            <a:avLst/>
            <a:gdLst>
              <a:gd name="textAreaLeft" fmla="*/ 47520 w 1752840"/>
              <a:gd name="textAreaRight" fmla="*/ 1705320 w 1752840"/>
              <a:gd name="textAreaTop" fmla="*/ 47520 h 457200"/>
              <a:gd name="textAreaBottom" fmla="*/ 409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0513" y="2250"/>
                </a:lnTo>
                <a:lnTo>
                  <a:pt x="2250" y="22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0513" y="19350"/>
                </a:lnTo>
                <a:lnTo>
                  <a:pt x="80513" y="22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80513" y="193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>
            <a:hlinkClick r:id="rId1" action="ppaction://hlinksldjump"/>
          </p:cNvPr>
          <p:cNvSpPr/>
          <p:nvPr/>
        </p:nvSpPr>
        <p:spPr>
          <a:xfrm>
            <a:off x="5105520" y="5638680"/>
            <a:ext cx="1600200" cy="457200"/>
          </a:xfrm>
          <a:custGeom>
            <a:avLst/>
            <a:gdLst>
              <a:gd name="textAreaLeft" fmla="*/ 91800 w 1600200"/>
              <a:gd name="textAreaRight" fmla="*/ 1508400 w 160020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1208" y="4350"/>
                </a:lnTo>
                <a:lnTo>
                  <a:pt x="4350" y="435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1208" y="17250"/>
                </a:lnTo>
                <a:lnTo>
                  <a:pt x="71208" y="435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1208" y="1725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rId2" action="ppaction://hlinksldjump"/>
          </p:cNvPr>
          <p:cNvSpPr/>
          <p:nvPr/>
        </p:nvSpPr>
        <p:spPr>
          <a:xfrm>
            <a:off x="7086600" y="5638680"/>
            <a:ext cx="1752480" cy="457200"/>
          </a:xfrm>
          <a:custGeom>
            <a:avLst/>
            <a:gdLst>
              <a:gd name="textAreaLeft" fmla="*/ 79200 w 1752480"/>
              <a:gd name="textAreaRight" fmla="*/ 1673280 w 17524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996" y="3750"/>
                </a:lnTo>
                <a:lnTo>
                  <a:pt x="3750" y="3750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996" y="17850"/>
                </a:lnTo>
                <a:lnTo>
                  <a:pt x="78996" y="3750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78996" y="17850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A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219320" cy="381240"/>
          </a:xfrm>
          <a:custGeom>
            <a:avLst/>
            <a:gdLst>
              <a:gd name="textAreaLeft" fmla="*/ 60120 w 1219320"/>
              <a:gd name="textAreaRight" fmla="*/ 1159200 w 1219320"/>
              <a:gd name="textAreaTop" fmla="*/ 60120 h 381240"/>
              <a:gd name="textAreaBottom" fmla="*/ 321120 h 381240"/>
            </a:gdLst>
            <a:ahLst/>
            <a:rect l="textAreaLeft" t="textAreaTop" r="textAreaRight" b="textAreaBottom"/>
            <a:pathLst>
              <a:path w="69038" h="21600">
                <a:moveTo>
                  <a:pt x="0" y="0"/>
                </a:moveTo>
                <a:lnTo>
                  <a:pt x="69038" y="0"/>
                </a:lnTo>
                <a:lnTo>
                  <a:pt x="69038" y="21600"/>
                </a:lnTo>
                <a:lnTo>
                  <a:pt x="0" y="21600"/>
                </a:lnTo>
                <a:close/>
              </a:path>
              <a:path fill="lightenLess" w="69038" h="21600">
                <a:moveTo>
                  <a:pt x="0" y="0"/>
                </a:moveTo>
                <a:lnTo>
                  <a:pt x="69038" y="0"/>
                </a:lnTo>
                <a:lnTo>
                  <a:pt x="65632" y="3407"/>
                </a:lnTo>
                <a:lnTo>
                  <a:pt x="3407" y="3407"/>
                </a:lnTo>
                <a:close/>
              </a:path>
              <a:path fill="darken" w="69038" h="21600">
                <a:moveTo>
                  <a:pt x="69038" y="0"/>
                </a:moveTo>
                <a:lnTo>
                  <a:pt x="69038" y="21600"/>
                </a:lnTo>
                <a:lnTo>
                  <a:pt x="65632" y="18193"/>
                </a:lnTo>
                <a:lnTo>
                  <a:pt x="65632" y="3407"/>
                </a:lnTo>
                <a:close/>
              </a:path>
              <a:path fill="darkenLess" w="69038" h="21600">
                <a:moveTo>
                  <a:pt x="69038" y="21600"/>
                </a:moveTo>
                <a:lnTo>
                  <a:pt x="0" y="21600"/>
                </a:lnTo>
                <a:lnTo>
                  <a:pt x="3407" y="18193"/>
                </a:lnTo>
                <a:lnTo>
                  <a:pt x="65632" y="18193"/>
                </a:lnTo>
                <a:close/>
              </a:path>
              <a:path fill="lighten" w="69038" h="21600">
                <a:moveTo>
                  <a:pt x="0" y="21600"/>
                </a:moveTo>
                <a:lnTo>
                  <a:pt x="0" y="0"/>
                </a:lnTo>
                <a:lnTo>
                  <a:pt x="3407" y="3407"/>
                </a:lnTo>
                <a:lnTo>
                  <a:pt x="3407" y="18193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B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447920" cy="380880"/>
          </a:xfrm>
          <a:custGeom>
            <a:avLst/>
            <a:gdLst>
              <a:gd name="textAreaLeft" fmla="*/ 95040 w 1447920"/>
              <a:gd name="textAreaRight" fmla="*/ 1352880 w 14479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76656" y="5400"/>
                </a:lnTo>
                <a:lnTo>
                  <a:pt x="5400" y="5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76656" y="16200"/>
                </a:lnTo>
                <a:lnTo>
                  <a:pt x="76656" y="5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76656" y="16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>
            <a:hlinkClick r:id="rId1" action="ppaction://hlinksldjump"/>
          </p:cNvPr>
          <p:cNvSpPr/>
          <p:nvPr/>
        </p:nvSpPr>
        <p:spPr>
          <a:xfrm>
            <a:off x="5029200" y="5715000"/>
            <a:ext cx="1676520" cy="380880"/>
          </a:xfrm>
          <a:custGeom>
            <a:avLst/>
            <a:gdLst>
              <a:gd name="textAreaLeft" fmla="*/ 77760 w 1676520"/>
              <a:gd name="textAreaRight" fmla="*/ 1598760 w 1676520"/>
              <a:gd name="textAreaTop" fmla="*/ 77760 h 380880"/>
              <a:gd name="textAreaBottom" fmla="*/ 303120 h 380880"/>
            </a:gdLst>
            <a:ahLst/>
            <a:rect l="textAreaLeft" t="textAreaTop" r="textAreaRight" b="textAreaBottom"/>
            <a:pathLst>
              <a:path w="95007" h="21600">
                <a:moveTo>
                  <a:pt x="0" y="0"/>
                </a:moveTo>
                <a:lnTo>
                  <a:pt x="95007" y="0"/>
                </a:lnTo>
                <a:lnTo>
                  <a:pt x="95007" y="21600"/>
                </a:lnTo>
                <a:lnTo>
                  <a:pt x="0" y="21600"/>
                </a:lnTo>
                <a:close/>
              </a:path>
              <a:path fill="lightenLess" w="95007" h="21600">
                <a:moveTo>
                  <a:pt x="0" y="0"/>
                </a:moveTo>
                <a:lnTo>
                  <a:pt x="95007" y="0"/>
                </a:lnTo>
                <a:lnTo>
                  <a:pt x="90583" y="4425"/>
                </a:lnTo>
                <a:lnTo>
                  <a:pt x="4425" y="4425"/>
                </a:lnTo>
                <a:close/>
              </a:path>
              <a:path fill="darken" w="95007" h="21600">
                <a:moveTo>
                  <a:pt x="95007" y="0"/>
                </a:moveTo>
                <a:lnTo>
                  <a:pt x="95007" y="21600"/>
                </a:lnTo>
                <a:lnTo>
                  <a:pt x="90583" y="17175"/>
                </a:lnTo>
                <a:lnTo>
                  <a:pt x="90583" y="4425"/>
                </a:lnTo>
                <a:close/>
              </a:path>
              <a:path fill="darkenLess" w="95007" h="21600">
                <a:moveTo>
                  <a:pt x="95007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90583" y="17175"/>
                </a:lnTo>
                <a:close/>
              </a:path>
              <a:path fill="lighten" w="95007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>
            <a:hlinkClick r:id="rId2" action="ppaction://hlinksldjump"/>
          </p:cNvPr>
          <p:cNvSpPr/>
          <p:nvPr/>
        </p:nvSpPr>
        <p:spPr>
          <a:xfrm>
            <a:off x="7086600" y="5715000"/>
            <a:ext cx="1752480" cy="380880"/>
          </a:xfrm>
          <a:custGeom>
            <a:avLst/>
            <a:gdLst>
              <a:gd name="textAreaLeft" fmla="*/ 63360 w 1752480"/>
              <a:gd name="textAreaRight" fmla="*/ 1689120 w 175248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99311" h="21600">
                <a:moveTo>
                  <a:pt x="0" y="0"/>
                </a:moveTo>
                <a:lnTo>
                  <a:pt x="99311" y="0"/>
                </a:lnTo>
                <a:lnTo>
                  <a:pt x="99311" y="21600"/>
                </a:lnTo>
                <a:lnTo>
                  <a:pt x="0" y="21600"/>
                </a:lnTo>
                <a:close/>
              </a:path>
              <a:path fill="lightenLess" w="99311" h="21600">
                <a:moveTo>
                  <a:pt x="0" y="0"/>
                </a:moveTo>
                <a:lnTo>
                  <a:pt x="99311" y="0"/>
                </a:lnTo>
                <a:lnTo>
                  <a:pt x="95711" y="3600"/>
                </a:lnTo>
                <a:lnTo>
                  <a:pt x="3600" y="3600"/>
                </a:lnTo>
                <a:close/>
              </a:path>
              <a:path fill="darken" w="99311" h="21600">
                <a:moveTo>
                  <a:pt x="99311" y="0"/>
                </a:moveTo>
                <a:lnTo>
                  <a:pt x="99311" y="21600"/>
                </a:lnTo>
                <a:lnTo>
                  <a:pt x="95711" y="18000"/>
                </a:lnTo>
                <a:lnTo>
                  <a:pt x="95711" y="3600"/>
                </a:lnTo>
                <a:close/>
              </a:path>
              <a:path fill="darkenLess" w="99311" h="21600">
                <a:moveTo>
                  <a:pt x="9931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95711" y="18000"/>
                </a:lnTo>
                <a:close/>
              </a:path>
              <a:path fill="lighten" w="9931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>
            <a:hlinkClick r:id="rId1" action="ppaction://hlinksldjump"/>
          </p:cNvPr>
          <p:cNvSpPr/>
          <p:nvPr/>
        </p:nvSpPr>
        <p:spPr>
          <a:xfrm>
            <a:off x="4724280" y="5715000"/>
            <a:ext cx="1905120" cy="380880"/>
          </a:xfrm>
          <a:custGeom>
            <a:avLst/>
            <a:gdLst>
              <a:gd name="textAreaLeft" fmla="*/ 87120 w 1905120"/>
              <a:gd name="textAreaRight" fmla="*/ 1818000 w 190512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7959" h="21600">
                <a:moveTo>
                  <a:pt x="0" y="0"/>
                </a:moveTo>
                <a:lnTo>
                  <a:pt x="107959" y="0"/>
                </a:lnTo>
                <a:lnTo>
                  <a:pt x="107959" y="21600"/>
                </a:lnTo>
                <a:lnTo>
                  <a:pt x="0" y="21600"/>
                </a:lnTo>
                <a:close/>
              </a:path>
              <a:path fill="lightenLess" w="107959" h="21600">
                <a:moveTo>
                  <a:pt x="0" y="0"/>
                </a:moveTo>
                <a:lnTo>
                  <a:pt x="107959" y="0"/>
                </a:lnTo>
                <a:lnTo>
                  <a:pt x="103009" y="4950"/>
                </a:lnTo>
                <a:lnTo>
                  <a:pt x="4950" y="4950"/>
                </a:lnTo>
                <a:close/>
              </a:path>
              <a:path fill="darken" w="107959" h="21600">
                <a:moveTo>
                  <a:pt x="107959" y="0"/>
                </a:moveTo>
                <a:lnTo>
                  <a:pt x="107959" y="21600"/>
                </a:lnTo>
                <a:lnTo>
                  <a:pt x="103009" y="16650"/>
                </a:lnTo>
                <a:lnTo>
                  <a:pt x="103009" y="4950"/>
                </a:lnTo>
                <a:close/>
              </a:path>
              <a:path fill="darkenLess" w="107959" h="21600">
                <a:moveTo>
                  <a:pt x="107959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103009" y="16650"/>
                </a:lnTo>
                <a:close/>
              </a:path>
              <a:path fill="lighten" w="107959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>
            <a:hlinkClick r:id="rId2" action="ppaction://hlinksldjump"/>
          </p:cNvPr>
          <p:cNvSpPr/>
          <p:nvPr/>
        </p:nvSpPr>
        <p:spPr>
          <a:xfrm>
            <a:off x="6934320" y="5715000"/>
            <a:ext cx="1828800" cy="38088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685" y="4950"/>
                </a:lnTo>
                <a:lnTo>
                  <a:pt x="4950" y="495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685" y="16650"/>
                </a:lnTo>
                <a:lnTo>
                  <a:pt x="98685" y="495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685" y="1665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3:47:49Z</dcterms:created>
  <dc:creator>NPSD</dc:creator>
  <dc:description/>
  <dc:language>en-US</dc:language>
  <cp:lastModifiedBy>NPSD</cp:lastModifiedBy>
  <dcterms:modified xsi:type="dcterms:W3CDTF">2010-04-08T15:44:13Z</dcterms:modified>
  <cp:revision>43</cp:revision>
  <dc:subject/>
  <dc:title>Dante’s Inferno</dc:title>
</cp:coreProperties>
</file>