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2FD-0119-4114-9E68-04FE875A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7B1-B706-4296-89C9-23CF56D3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F9D-C9F0-4ADA-BA94-7D478224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A71-F78B-433E-AEF3-97DF126A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062D-D506-477F-BC0B-FE80CCC7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2DCC-A752-403E-805A-FD03B36E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8A6-2087-4DCC-BDCC-B576E875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45D-15E1-4C6A-8CAA-76504F36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87B5-E49A-4153-B3F9-88B36A6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D508-1A37-4CA5-AD35-85B9CCE7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EE95-C981-48C1-8803-E7C8392C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DA7-E09B-4FDD-8040-E2AF6E96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F393-149B-4E9C-898F-D650A4E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0F94-72C0-4A10-9B35-7B0D1656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CD3-F662-4A0F-9B2C-1E1FDAC9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8A6F-6EE2-4DE0-8A02-E0D73A0A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C5D2-2479-4091-859F-1D2D4D7C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BB4F-95BE-4A0C-9932-F75D1364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22F3-5310-4D08-B4B4-6CA5AC74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F4F7-74AF-4A8F-B8CB-58897D03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3C279-6D61-4A3C-B8D2-28659C3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4F87-B224-4A0E-BD9F-5DBD6309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506-C0A4-4780-8CCE-C816F31F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A201-8949-4FCF-B2A5-590EABE1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6C8A-0F41-4F84-A9D3-E648BA7A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009A-03AA-4150-9DFF-1CD0ABBE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DC3C-9E20-4245-AC89-96E7D64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704B-8881-4B0A-AAAC-0AE85E0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A667-3DFF-4199-88D7-369CE22D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72BF-96F9-446A-9F84-02113B93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C81B1-23EC-4805-9883-D4C35428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7ECC5-79D1-4A8B-A00D-562E6ED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BE5F-9C5E-4E0B-A760-3DC07D16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8B4-5315-4676-9851-E31C756C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769C-DBB5-444E-B3AC-8D85F0A1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E44C6-F588-47F6-99F9-10C442EE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4B651-1231-41D6-B488-C79976D2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0B267-DBB1-4637-9C86-F10597D4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28B3-574A-4D86-9EC8-1B175E2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BF36-A7A5-4E65-9182-1CE2AC40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A755-E258-4B59-8E32-05B6EFF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64C3-F856-4593-AC9D-40D1837F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1062-6086-4709-BFFD-987FF2F8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48AB-0564-42CD-8809-25363EF2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89D-2BC2-4277-82B5-FFCA194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6E1A7-D329-4329-AB4D-9CB601CB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F741-1DAF-4618-8383-4EA8F825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BDD1D-9331-4E72-A78F-A43288E2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DB06-B1CF-4D48-B6AF-335DB1A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13B09-195E-46A9-A1F1-422FD7CD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5AB2-8229-4C28-873A-C111A46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6ECB-6E2B-4E12-9A54-C829106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5333-287C-457D-ADAD-7F5B4B5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E672-A774-4498-BC2C-5163357B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761E-F2EA-40DF-80F6-CC8F829D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D5C-B67E-4F53-8CB6-D06B8598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022A-A4C8-4574-9B07-2A666BF6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E1189-3212-4A8E-B2E6-AD5F69A7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551E9-D38D-46F5-AE3D-B6C3C1E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8EAD-866A-42DF-9662-E3C314B4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5B99F-35CF-436D-AF47-50A8C88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310E-16B1-4049-B826-6E71901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9DA78-AD6B-4548-A364-EE590D32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FD5DE-8C63-40F5-97EE-B42F391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5CA2-2B99-4050-8301-104469F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D57E-B3A4-4A22-8B8F-38038AE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3AC-D80C-4D9B-B208-5CF12D9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AA756-BF7E-45B8-B38F-4D4DF8B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E3FB-8DDF-4540-8604-92D8A977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E5715-6EFA-4E75-B666-EFEB66EB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AC1B4-6A07-4D59-A5FC-53668584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C387-4F5E-45AE-BD21-F1114869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72E2-ED1D-461C-8960-C7E61AD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75BA-2785-4F7F-AE19-E95E660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A3C69-7C9F-4121-B4EE-C825A110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9921-852E-4204-BCE3-FEADE3C9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ACBE6-22AF-4040-AF7E-A28C1E5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358-E3FB-4EB2-BFFB-3A451220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8EA6E-93C6-46DD-8446-BFC4B70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CE01D-EE29-4EB1-8650-994266B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13F3A-36B3-4B77-B526-ACC0DD2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EE57-62BE-4316-9E1E-3B310914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C91A-BDC8-4F91-B1DA-708DED12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56C-8CA7-46A2-9E87-FFE653E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E1F-8A28-48DC-843E-D5DF8805D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7196-E2FF-4130-82D7-2A3317B2B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856D-0EF1-4E45-9213-25DEF5343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A92A-6C01-4549-ABC1-628D7576B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EDE-928D-42AC-9B60-AFD565244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EB06-487D-4043-808D-131508279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6DC1-7000-4E61-BAB0-B81CD96A9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owelmovers.files.wordpress.com/2009/11/lil-wayne-g-commercial-t-ad-what-is-g-gatorde-commercial-video.jpg&amp;imgrefurl=http://vowelmovers.wordpress.com/page/3/&amp;usg=__nJpmqsD4joSlI4sQuJirg0QhhLM=&amp;h=300&amp;w=300&amp;sz=31&amp;hl=en&amp;start=16&amp;um=1&amp;itbs=1&amp;tbnid=KZk3f-ek8M0IjM:&amp;tbnh=116&amp;tbnw=116&amp;prev=/images%3Fq%3Dlil%2Bwayne%26um%3D1%26hl%3Den%26safe%3Dactive%26sa%3DN%26rlz%3D1R2ADSA_enUS37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on’s Inf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2374920" cy="3962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70866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72388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71629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125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9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5746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90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736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9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49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9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048120"/>
            <a:ext cx="1540080" cy="1942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wayne Michael Carter, J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the guide for this tour. He was born September 27,1982 in New Orleans, Louisiana. During his childhood he was enrolled in a gifted program. Then at age 13 he accidentally shot himself and later on that next year he dropped out of school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352680" cy="25084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name is Devon Robinson, I attend North Penn High School and im a sophmore . I am 15 years old and I was born July 24,1994 in Camden, NJ. My hobbies are playing basketball, football and chilling at the mall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095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0000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6002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 Writing Utens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27432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are not allowed to use writing utensils because the endanger the environmen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eople who are in hell for committing this crime are Taylor Gerstlauer, Ted Stoler, and Ms. Dug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8T15:44:13Z</dcterms:modified>
  <cp:revision>43</cp:revision>
  <dc:subject/>
  <dc:title>Dante’s Inferno</dc:title>
</cp:coreProperties>
</file>