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25B6-750C-4599-B861-6708387AF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CB18-0152-4ABC-A791-10D05125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B205-CBD4-4887-9597-49383CB3A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1BA9-2048-484B-ACE1-F62C680B9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75E0-F62B-4405-8A67-8DE43F292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2EA6-B062-4DE5-A1B4-CD7080EF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1484-D977-42CE-ACBC-8791E190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7225-B250-4D89-AFC6-D85BCAE4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536C-B638-4341-AC70-FAC3EE5E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E146-AB4F-4718-9F83-7083EE3A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2DDF-8490-4330-9DFD-60743479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DB99-D283-4215-B6CF-8CF95FCE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88FE-4C90-42E4-A4F1-490378E4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F550-4AA4-45C9-98A9-F389F861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68D0-7CF5-4586-8357-C7CC7F9C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5B4F-37EF-4649-B7DB-2DE5226E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0802-3FC2-46FD-9009-88662386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37F99-DB18-42E5-AE45-EC0DB10C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BAE79-0AA2-4CCD-90BA-4641E829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07F83-14CF-43EE-82DA-3F3905E0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7AECA-E160-4A9B-9ACE-954CC10E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B585B-FDCA-49B7-A8A1-45C918CF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E181-499C-4FE7-8E88-18B6A45C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63EE1-5F5D-482F-AB99-8805FE78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A7347-A649-4379-8F90-EB326719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E680F-E317-4278-B9A4-7ED2CE40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BC27C-77A6-470E-8784-DCD3B3F1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256AF-BCC3-482E-AF5A-E3541C7C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CC88F-B45D-4D04-A7EB-B5D0695D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D493C-1FD2-4CD1-BCA2-DE54E788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63A6E-0A0C-4309-8685-F44A3997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D63BA-45AB-4763-ADE5-49D3F93C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15C51-0E80-47AE-91C3-DF4B36DB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DA8C-FD5D-4D80-959B-BCA4368F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F0E8E-53F6-4407-97DD-F64E38AC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01D24-0DB5-477A-BA81-28C90326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D529F-87A7-4B15-A484-FCFCCF7C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16FA5-3499-4D73-8F0E-1939C84B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58B59-598F-4E4E-AB8B-5F2B4471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24037-42AC-4D7F-9D25-5B539E3D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5D905-56DE-4B69-86E5-2B6A5D83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F1F82-2C72-464E-AC00-1286981A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40D65-2CC0-482F-9B56-C060DACA0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82F93-0E36-46A3-846E-D8777C0ED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70CA-D7DE-4FEF-9EB9-EEC82EAD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D4A22-338D-42BB-AA93-E378B480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CE345-758F-4107-8691-B562D29D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3D1CD-8397-46F8-A3F8-0E0F8D6D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18207-E61E-4CA6-93AB-3AEFC232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0B2C5-3B3C-45E2-83AF-EDDDF405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89770-D911-4FDC-844A-1F7039FE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4F81C-2467-4F6B-B6C3-3C7FE8B2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7A9B7-0977-4C24-8FDD-930C5533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90506-B980-4D01-A218-54E4C3A3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92766-98AD-45C8-861B-5B2E9E3E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0953-2E53-43F1-84FB-8F56E7C8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F273B-652E-4B7E-B754-84D183EDD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77A1C-D660-4844-9843-A0179F28E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FA23B-DB8B-4178-A12F-62036CEF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8325F-E6CC-4CFC-9B0C-E1AA2CD6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BBB37-B53E-45E3-96EC-224581B1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677A7-91BF-4C61-B078-278917E0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C8160-E30D-4FB8-8512-29EC41F9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17F09-FFFB-43F4-BDA1-A4760672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F4238-18EC-449B-B0AD-2DF0EE50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2E7F8-A4BD-40B7-8E0E-036C23DD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7E6C-0C8D-4524-B862-BF0E3B2E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7168C-E1AD-481E-84D6-2BD6D44C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8C53B-BE79-496E-9CC4-2EFA1F59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7AB9D-CB3D-45CD-A755-2D0F84D2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73E90-AD08-4DB1-9350-AA237323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351D2-CDFE-428C-851B-98F6773D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79A87-E893-42DA-B738-83F7FF01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B359D-393F-4AFE-845F-9455776D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7E631-2EB8-4479-887C-CE09C341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3C663-FB95-4585-8166-3B7C4B55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0AA16-0FE0-4B9D-8BB9-39404C66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AAFF-2EC0-493A-8FC0-3567CDEA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B1595-3A1A-4385-ACC4-AE174FE6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AE66E-E938-43D1-8765-B730A0DB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6DEF0-7BC7-423D-8488-BB4CB77A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70D45-1C09-4A8D-A291-189C4388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6F394-46DF-4F09-8F7F-D76AA9DB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5059-BAD9-4923-A19E-ACDEBD5C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719F-D693-4975-B3DD-E807487D68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3B71-7368-4B81-ABEC-76E5BBD4D6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38AB-BDE9-4998-A485-5679AE764B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A97F-1B94-45F3-ABB6-61822BC123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053B-77C7-438C-BCB5-1D28CF8795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BEA4-A925-4710-9958-A133318CA3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AE20-4F06-44E9-8314-2C4028E426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vowelmovers.files.wordpress.com/2009/11/lil-wayne-g-commercial-t-ad-what-is-g-gatorde-commercial-video.jpg&amp;imgrefurl=http://vowelmovers.wordpress.com/page/3/&amp;usg=__nJpmqsD4joSlI4sQuJirg0QhhLM=&amp;h=300&amp;w=300&amp;sz=31&amp;hl=en&amp;start=16&amp;um=1&amp;itbs=1&amp;tbnid=KZk3f-ek8M0IjM:&amp;tbnh=116&amp;tbnw=116&amp;prev=/images%3Fq%3Dlil%2Bwayne%26um%3D1%26hl%3Den%26safe%3Dactive%26sa%3DN%26rlz%3D1R2ADSA_enUS372%26tbs%3Disch: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8.xml"/><Relationship Id="rId3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von’s Infe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43200" y="152280"/>
            <a:ext cx="6172200" cy="15242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100000">
                <a:srgbClr val="fff200">
                  <a:alpha val="84313"/>
                </a:srgbClr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hiller"/>
              </a:rPr>
              <a:t>Abandon all hope! Ye who enter he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58128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2374920" cy="396252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7086600" y="3657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5"/>
          <a:stretch/>
        </p:blipFill>
        <p:spPr>
          <a:xfrm>
            <a:off x="7238880" y="3657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6"/>
          <a:stretch/>
        </p:blipFill>
        <p:spPr>
          <a:xfrm>
            <a:off x="7238880" y="3657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7"/>
          <a:stretch/>
        </p:blipFill>
        <p:spPr>
          <a:xfrm>
            <a:off x="716292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255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1255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49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5746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990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736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4491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4491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4491" fill="hold"/>
                                        <p:tgtEl>
                                          <p:spTgt spid="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B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>
            <a:hlinkClick r:id="" action="ppaction://hlinkshowjump?jump=nextslide"/>
          </p:cNvPr>
          <p:cNvSpPr/>
          <p:nvPr/>
        </p:nvSpPr>
        <p:spPr>
          <a:xfrm>
            <a:off x="2971800" y="5638680"/>
            <a:ext cx="1523880" cy="381240"/>
          </a:xfrm>
          <a:custGeom>
            <a:avLst/>
            <a:gdLst>
              <a:gd name="textAreaLeft" fmla="*/ 61920 w 1523880"/>
              <a:gd name="textAreaRight" fmla="*/ 1461960 w 1523880"/>
              <a:gd name="textAreaTop" fmla="*/ 61920 h 381240"/>
              <a:gd name="textAreaBottom" fmla="*/ 319320 h 381240"/>
            </a:gdLst>
            <a:ahLst/>
            <a:rect l="textAreaLeft" t="textAreaTop" r="textAreaRight" b="textAreaBottom"/>
            <a:pathLst>
              <a:path w="86278" h="21600">
                <a:moveTo>
                  <a:pt x="0" y="0"/>
                </a:moveTo>
                <a:lnTo>
                  <a:pt x="86278" y="0"/>
                </a:lnTo>
                <a:lnTo>
                  <a:pt x="86278" y="21600"/>
                </a:lnTo>
                <a:lnTo>
                  <a:pt x="0" y="21600"/>
                </a:lnTo>
                <a:close/>
              </a:path>
              <a:path fill="lightenLess" w="86278" h="21600">
                <a:moveTo>
                  <a:pt x="0" y="0"/>
                </a:moveTo>
                <a:lnTo>
                  <a:pt x="86278" y="0"/>
                </a:lnTo>
                <a:lnTo>
                  <a:pt x="82768" y="3510"/>
                </a:lnTo>
                <a:lnTo>
                  <a:pt x="3510" y="3510"/>
                </a:lnTo>
                <a:close/>
              </a:path>
              <a:path fill="darken" w="86278" h="21600">
                <a:moveTo>
                  <a:pt x="86278" y="0"/>
                </a:moveTo>
                <a:lnTo>
                  <a:pt x="86278" y="21600"/>
                </a:lnTo>
                <a:lnTo>
                  <a:pt x="82768" y="18090"/>
                </a:lnTo>
                <a:lnTo>
                  <a:pt x="82768" y="3510"/>
                </a:lnTo>
                <a:close/>
              </a:path>
              <a:path fill="darkenLess" w="86278" h="21600">
                <a:moveTo>
                  <a:pt x="86278" y="21600"/>
                </a:moveTo>
                <a:lnTo>
                  <a:pt x="0" y="21600"/>
                </a:lnTo>
                <a:lnTo>
                  <a:pt x="3510" y="18090"/>
                </a:lnTo>
                <a:lnTo>
                  <a:pt x="82768" y="18090"/>
                </a:lnTo>
                <a:close/>
              </a:path>
              <a:path fill="lighten" w="86278" h="21600">
                <a:moveTo>
                  <a:pt x="0" y="21600"/>
                </a:moveTo>
                <a:lnTo>
                  <a:pt x="0" y="0"/>
                </a:lnTo>
                <a:lnTo>
                  <a:pt x="3510" y="3510"/>
                </a:lnTo>
                <a:lnTo>
                  <a:pt x="3510" y="1809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>
            <a:hlinkClick r:id="rId1" action="ppaction://hlinksldjump"/>
          </p:cNvPr>
          <p:cNvSpPr/>
          <p:nvPr/>
        </p:nvSpPr>
        <p:spPr>
          <a:xfrm>
            <a:off x="4724280" y="5638680"/>
            <a:ext cx="1828800" cy="38124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1240"/>
              <a:gd name="textAreaBottom" fmla="*/ 294120 h 381240"/>
            </a:gdLst>
            <a:ahLst/>
            <a:rect l="textAreaLeft" t="textAreaTop" r="textAreaRight" b="textAreaBottom"/>
            <a:pathLst>
              <a:path w="103537" h="21600">
                <a:moveTo>
                  <a:pt x="0" y="0"/>
                </a:moveTo>
                <a:lnTo>
                  <a:pt x="103537" y="0"/>
                </a:lnTo>
                <a:lnTo>
                  <a:pt x="103537" y="21600"/>
                </a:lnTo>
                <a:lnTo>
                  <a:pt x="0" y="21600"/>
                </a:lnTo>
                <a:close/>
              </a:path>
              <a:path fill="lightenLess" w="103537" h="21600">
                <a:moveTo>
                  <a:pt x="0" y="0"/>
                </a:moveTo>
                <a:lnTo>
                  <a:pt x="103537" y="0"/>
                </a:lnTo>
                <a:lnTo>
                  <a:pt x="98588" y="4950"/>
                </a:lnTo>
                <a:lnTo>
                  <a:pt x="4950" y="4950"/>
                </a:lnTo>
                <a:close/>
              </a:path>
              <a:path fill="darken" w="103537" h="21600">
                <a:moveTo>
                  <a:pt x="103537" y="0"/>
                </a:moveTo>
                <a:lnTo>
                  <a:pt x="103537" y="21600"/>
                </a:lnTo>
                <a:lnTo>
                  <a:pt x="98588" y="16650"/>
                </a:lnTo>
                <a:lnTo>
                  <a:pt x="98588" y="4950"/>
                </a:lnTo>
                <a:close/>
              </a:path>
              <a:path fill="darkenLess" w="103537" h="21600">
                <a:moveTo>
                  <a:pt x="103537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588" y="16650"/>
                </a:lnTo>
                <a:close/>
              </a:path>
              <a:path fill="lighten" w="103537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rId2" action="ppaction://hlinksldjump"/>
          </p:cNvPr>
          <p:cNvSpPr/>
          <p:nvPr/>
        </p:nvSpPr>
        <p:spPr>
          <a:xfrm>
            <a:off x="6934320" y="5638680"/>
            <a:ext cx="1676160" cy="381240"/>
          </a:xfrm>
          <a:custGeom>
            <a:avLst/>
            <a:gdLst>
              <a:gd name="textAreaLeft" fmla="*/ 95040 w 1676160"/>
              <a:gd name="textAreaRight" fmla="*/ 1581120 w 1676160"/>
              <a:gd name="textAreaTop" fmla="*/ 95040 h 381240"/>
              <a:gd name="textAreaBottom" fmla="*/ 286200 h 381240"/>
            </a:gdLst>
            <a:ahLst/>
            <a:rect l="textAreaLeft" t="textAreaTop" r="textAreaRight" b="textAreaBottom"/>
            <a:pathLst>
              <a:path w="94897" h="21600">
                <a:moveTo>
                  <a:pt x="0" y="0"/>
                </a:moveTo>
                <a:lnTo>
                  <a:pt x="94897" y="0"/>
                </a:lnTo>
                <a:lnTo>
                  <a:pt x="94897" y="21600"/>
                </a:lnTo>
                <a:lnTo>
                  <a:pt x="0" y="21600"/>
                </a:lnTo>
                <a:close/>
              </a:path>
              <a:path fill="lightenLess" w="94897" h="21600">
                <a:moveTo>
                  <a:pt x="0" y="0"/>
                </a:moveTo>
                <a:lnTo>
                  <a:pt x="94897" y="0"/>
                </a:lnTo>
                <a:lnTo>
                  <a:pt x="89498" y="5400"/>
                </a:lnTo>
                <a:lnTo>
                  <a:pt x="5400" y="5400"/>
                </a:lnTo>
                <a:close/>
              </a:path>
              <a:path fill="darken" w="94897" h="21600">
                <a:moveTo>
                  <a:pt x="94897" y="0"/>
                </a:moveTo>
                <a:lnTo>
                  <a:pt x="94897" y="21600"/>
                </a:lnTo>
                <a:lnTo>
                  <a:pt x="89498" y="16200"/>
                </a:lnTo>
                <a:lnTo>
                  <a:pt x="89498" y="5400"/>
                </a:lnTo>
                <a:close/>
              </a:path>
              <a:path fill="darkenLess" w="94897" h="21600">
                <a:moveTo>
                  <a:pt x="9489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89498" y="16200"/>
                </a:lnTo>
                <a:close/>
              </a:path>
              <a:path fill="lighten" w="9489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04920"/>
          </a:xfrm>
          <a:custGeom>
            <a:avLst/>
            <a:gdLst>
              <a:gd name="textAreaLeft" fmla="*/ 75960 w 1523880"/>
              <a:gd name="textAreaRight" fmla="*/ 1447920 w 152388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07847" h="21600">
                <a:moveTo>
                  <a:pt x="0" y="0"/>
                </a:moveTo>
                <a:lnTo>
                  <a:pt x="107847" y="0"/>
                </a:lnTo>
                <a:lnTo>
                  <a:pt x="107847" y="21600"/>
                </a:lnTo>
                <a:lnTo>
                  <a:pt x="0" y="21600"/>
                </a:lnTo>
                <a:close/>
              </a:path>
              <a:path fill="lightenLess" w="107847" h="21600">
                <a:moveTo>
                  <a:pt x="0" y="0"/>
                </a:moveTo>
                <a:lnTo>
                  <a:pt x="107847" y="0"/>
                </a:lnTo>
                <a:lnTo>
                  <a:pt x="102447" y="5400"/>
                </a:lnTo>
                <a:lnTo>
                  <a:pt x="5400" y="5400"/>
                </a:lnTo>
                <a:close/>
              </a:path>
              <a:path fill="darken" w="107847" h="21600">
                <a:moveTo>
                  <a:pt x="107847" y="0"/>
                </a:moveTo>
                <a:lnTo>
                  <a:pt x="107847" y="21600"/>
                </a:lnTo>
                <a:lnTo>
                  <a:pt x="102447" y="16200"/>
                </a:lnTo>
                <a:lnTo>
                  <a:pt x="102447" y="5400"/>
                </a:lnTo>
                <a:close/>
              </a:path>
              <a:path fill="darkenLess" w="107847" h="21600">
                <a:moveTo>
                  <a:pt x="1078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447" y="16200"/>
                </a:lnTo>
                <a:close/>
              </a:path>
              <a:path fill="lighten" w="1078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C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19320" cy="304920"/>
          </a:xfrm>
          <a:custGeom>
            <a:avLst/>
            <a:gdLst>
              <a:gd name="textAreaLeft" fmla="*/ 45360 w 1219320"/>
              <a:gd name="textAreaRight" fmla="*/ 1173960 w 1219320"/>
              <a:gd name="textAreaTop" fmla="*/ 45360 h 304920"/>
              <a:gd name="textAreaBottom" fmla="*/ 25956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3073" y="3225"/>
                </a:lnTo>
                <a:lnTo>
                  <a:pt x="3225" y="3225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3073" y="18375"/>
                </a:lnTo>
                <a:lnTo>
                  <a:pt x="83073" y="3225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3225" y="18375"/>
                </a:lnTo>
                <a:lnTo>
                  <a:pt x="83073" y="18375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3225" y="3225"/>
                </a:lnTo>
                <a:lnTo>
                  <a:pt x="3225" y="183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>
            <a:hlinkClick r:id="rId1" action="ppaction://hlinksldjump"/>
          </p:cNvPr>
          <p:cNvSpPr/>
          <p:nvPr/>
        </p:nvSpPr>
        <p:spPr>
          <a:xfrm>
            <a:off x="4572000" y="5715000"/>
            <a:ext cx="1905120" cy="304920"/>
          </a:xfrm>
          <a:custGeom>
            <a:avLst/>
            <a:gdLst>
              <a:gd name="textAreaLeft" fmla="*/ 58680 w 1905120"/>
              <a:gd name="textAreaRight" fmla="*/ 1846440 w 190512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0659" y="4163"/>
                </a:lnTo>
                <a:lnTo>
                  <a:pt x="4163" y="4163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0659" y="17437"/>
                </a:lnTo>
                <a:lnTo>
                  <a:pt x="130659" y="4163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130659" y="17437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>
            <a:hlinkClick r:id="rId2" action="ppaction://hlinksldjump"/>
          </p:cNvPr>
          <p:cNvSpPr/>
          <p:nvPr/>
        </p:nvSpPr>
        <p:spPr>
          <a:xfrm>
            <a:off x="6858000" y="5715000"/>
            <a:ext cx="1905120" cy="304920"/>
          </a:xfrm>
          <a:custGeom>
            <a:avLst/>
            <a:gdLst>
              <a:gd name="textAreaLeft" fmla="*/ 75960 w 1905120"/>
              <a:gd name="textAreaRight" fmla="*/ 1829160 w 190512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29422" y="5400"/>
                </a:lnTo>
                <a:lnTo>
                  <a:pt x="5400" y="5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29422" y="16200"/>
                </a:lnTo>
                <a:lnTo>
                  <a:pt x="129422" y="5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29422" y="16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80880"/>
          </a:xfrm>
          <a:custGeom>
            <a:avLst/>
            <a:gdLst>
              <a:gd name="textAreaLeft" fmla="*/ 71280 w 1523880"/>
              <a:gd name="textAreaRight" fmla="*/ 1452600 w 1523880"/>
              <a:gd name="textAreaTop" fmla="*/ 71280 h 380880"/>
              <a:gd name="textAreaBottom" fmla="*/ 3096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2309" y="4050"/>
                </a:lnTo>
                <a:lnTo>
                  <a:pt x="4050" y="405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2309" y="17550"/>
                </a:lnTo>
                <a:lnTo>
                  <a:pt x="82309" y="405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82309" y="1755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>
            <a:hlinkClick r:id="rId1" action="ppaction://hlinksldjump"/>
          </p:cNvPr>
          <p:cNvSpPr/>
          <p:nvPr/>
        </p:nvSpPr>
        <p:spPr>
          <a:xfrm>
            <a:off x="4876920" y="5715000"/>
            <a:ext cx="1904760" cy="380880"/>
          </a:xfrm>
          <a:custGeom>
            <a:avLst/>
            <a:gdLst>
              <a:gd name="textAreaLeft" fmla="*/ 95040 w 1904760"/>
              <a:gd name="textAreaRight" fmla="*/ 1809720 w 1904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7939" h="21600">
                <a:moveTo>
                  <a:pt x="0" y="0"/>
                </a:moveTo>
                <a:lnTo>
                  <a:pt x="107939" y="0"/>
                </a:lnTo>
                <a:lnTo>
                  <a:pt x="107939" y="21600"/>
                </a:lnTo>
                <a:lnTo>
                  <a:pt x="0" y="21600"/>
                </a:lnTo>
                <a:close/>
              </a:path>
              <a:path fill="lightenLess" w="107939" h="21600">
                <a:moveTo>
                  <a:pt x="0" y="0"/>
                </a:moveTo>
                <a:lnTo>
                  <a:pt x="107939" y="0"/>
                </a:lnTo>
                <a:lnTo>
                  <a:pt x="102539" y="5400"/>
                </a:lnTo>
                <a:lnTo>
                  <a:pt x="5400" y="5400"/>
                </a:lnTo>
                <a:close/>
              </a:path>
              <a:path fill="darken" w="107939" h="21600">
                <a:moveTo>
                  <a:pt x="107939" y="0"/>
                </a:moveTo>
                <a:lnTo>
                  <a:pt x="107939" y="21600"/>
                </a:lnTo>
                <a:lnTo>
                  <a:pt x="102539" y="16200"/>
                </a:lnTo>
                <a:lnTo>
                  <a:pt x="102539" y="5400"/>
                </a:lnTo>
                <a:close/>
              </a:path>
              <a:path fill="darkenLess" w="107939" h="21600">
                <a:moveTo>
                  <a:pt x="10793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539" y="16200"/>
                </a:lnTo>
                <a:close/>
              </a:path>
              <a:path fill="lighten" w="10793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>
            <a:hlinkClick r:id="rId2" action="ppaction://hlinksldjump"/>
          </p:cNvPr>
          <p:cNvSpPr/>
          <p:nvPr/>
        </p:nvSpPr>
        <p:spPr>
          <a:xfrm>
            <a:off x="7010280" y="5715000"/>
            <a:ext cx="1828800" cy="380880"/>
          </a:xfrm>
          <a:custGeom>
            <a:avLst/>
            <a:gdLst>
              <a:gd name="textAreaLeft" fmla="*/ 95040 w 1828800"/>
              <a:gd name="textAreaRight" fmla="*/ 1733760 w 1828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235" y="5400"/>
                </a:lnTo>
                <a:lnTo>
                  <a:pt x="5400" y="5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235" y="16200"/>
                </a:lnTo>
                <a:lnTo>
                  <a:pt x="98235" y="5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98235" y="16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C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>
            <a:hlinkClick r:id="" action="ppaction://hlinkshowjump?jump=nextslide"/>
          </p:cNvPr>
          <p:cNvSpPr/>
          <p:nvPr/>
        </p:nvSpPr>
        <p:spPr>
          <a:xfrm>
            <a:off x="2971800" y="5562720"/>
            <a:ext cx="1523880" cy="457200"/>
          </a:xfrm>
          <a:custGeom>
            <a:avLst/>
            <a:gdLst>
              <a:gd name="textAreaLeft" fmla="*/ 81000 w 1523880"/>
              <a:gd name="textAreaRight" fmla="*/ 1442880 w 1523880"/>
              <a:gd name="textAreaTop" fmla="*/ 81000 h 457200"/>
              <a:gd name="textAreaBottom" fmla="*/ 3762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130" y="3825"/>
                </a:lnTo>
                <a:lnTo>
                  <a:pt x="3825" y="3825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130" y="17775"/>
                </a:lnTo>
                <a:lnTo>
                  <a:pt x="68130" y="3825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68130" y="17775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>
            <a:hlinkClick r:id="rId1" action="ppaction://hlinksldjump"/>
          </p:cNvPr>
          <p:cNvSpPr/>
          <p:nvPr/>
        </p:nvSpPr>
        <p:spPr>
          <a:xfrm>
            <a:off x="4952880" y="5562720"/>
            <a:ext cx="1752840" cy="457200"/>
          </a:xfrm>
          <a:custGeom>
            <a:avLst/>
            <a:gdLst>
              <a:gd name="textAreaLeft" fmla="*/ 91800 w 1752840"/>
              <a:gd name="textAreaRight" fmla="*/ 1661040 w 175284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78413" y="4350"/>
                </a:lnTo>
                <a:lnTo>
                  <a:pt x="4350" y="43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78413" y="17250"/>
                </a:lnTo>
                <a:lnTo>
                  <a:pt x="78413" y="43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8413" y="172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>
            <a:hlinkClick r:id="rId2" action="ppaction://hlinksldjump"/>
          </p:cNvPr>
          <p:cNvSpPr/>
          <p:nvPr/>
        </p:nvSpPr>
        <p:spPr>
          <a:xfrm>
            <a:off x="7086600" y="5562720"/>
            <a:ext cx="1752480" cy="457200"/>
          </a:xfrm>
          <a:custGeom>
            <a:avLst/>
            <a:gdLst>
              <a:gd name="textAreaLeft" fmla="*/ 93600 w 1752480"/>
              <a:gd name="textAreaRight" fmla="*/ 1658880 w 1752480"/>
              <a:gd name="textAreaTop" fmla="*/ 93600 h 457200"/>
              <a:gd name="textAreaBottom" fmla="*/ 3636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321" y="4425"/>
                </a:lnTo>
                <a:lnTo>
                  <a:pt x="4425" y="4425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321" y="17175"/>
                </a:lnTo>
                <a:lnTo>
                  <a:pt x="78321" y="4425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78321" y="17175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>
            <a:hlinkClick r:id="rId1" action="ppaction://hlinksldjump"/>
          </p:cNvPr>
          <p:cNvSpPr/>
          <p:nvPr/>
        </p:nvSpPr>
        <p:spPr>
          <a:xfrm>
            <a:off x="2971800" y="5715000"/>
            <a:ext cx="1600200" cy="304920"/>
          </a:xfrm>
          <a:custGeom>
            <a:avLst/>
            <a:gdLst>
              <a:gd name="textAreaLeft" fmla="*/ 71280 w 1600200"/>
              <a:gd name="textAreaRight" fmla="*/ 1528920 w 1600200"/>
              <a:gd name="textAreaTop" fmla="*/ 71280 h 304920"/>
              <a:gd name="textAreaBottom" fmla="*/ 23364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08184" y="5063"/>
                </a:lnTo>
                <a:lnTo>
                  <a:pt x="5063" y="5063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08184" y="16537"/>
                </a:lnTo>
                <a:lnTo>
                  <a:pt x="108184" y="5063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5063" y="16537"/>
                </a:lnTo>
                <a:lnTo>
                  <a:pt x="108184" y="16537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5063" y="5063"/>
                </a:lnTo>
                <a:lnTo>
                  <a:pt x="5063" y="165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Has been DENI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You need to go back and complete your levels before entering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Do not try this route again or you will be doom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3048120"/>
            <a:ext cx="1540080" cy="19429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hiller"/>
              </a:rPr>
              <a:t>Meet My Guide</a:t>
            </a:r>
            <a:endParaRPr b="0" lang="en-US" sz="8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wayne Michael Carter, Jr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is the guide for this tour. He was born September 27,1982 in New Orleans, Louisiana. During his childhood he was enrolled in a gifted program. Then at age 13 he accidentally shot himself and later on that next year he dropped out of school.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4191120" y="2666880"/>
            <a:ext cx="3352680" cy="250848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Meet Me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name is Devon Robinson, I attend North Penn High School and im a sophmore . I am 15 years old and I was born July 24,1994 in Camden, NJ. My hobbies are playing basketball, football and chilling at the mall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2590920" y="0"/>
            <a:ext cx="6553080" cy="60958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0000"/>
                </a:solidFill>
                <a:latin typeface="Chiller"/>
              </a:rPr>
              <a:t>Level A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95640" cy="380880"/>
          </a:xfrm>
          <a:custGeom>
            <a:avLst/>
            <a:gdLst>
              <a:gd name="textAreaLeft" fmla="*/ 95040 w 1295640"/>
              <a:gd name="textAreaRight" fmla="*/ 12006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68028" y="5400"/>
                </a:lnTo>
                <a:lnTo>
                  <a:pt x="5400" y="5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68028" y="16200"/>
                </a:lnTo>
                <a:lnTo>
                  <a:pt x="68028" y="5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68028" y="16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>
            <a:hlinkClick r:id="rId2" action="ppaction://hlinksldjump"/>
          </p:cNvPr>
          <p:cNvSpPr/>
          <p:nvPr/>
        </p:nvSpPr>
        <p:spPr>
          <a:xfrm>
            <a:off x="5181480" y="5715000"/>
            <a:ext cx="1371600" cy="380880"/>
          </a:xfrm>
          <a:custGeom>
            <a:avLst/>
            <a:gdLst>
              <a:gd name="textAreaLeft" fmla="*/ 50760 w 1371600"/>
              <a:gd name="textAreaRight" fmla="*/ 1320840 w 1371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852" y="2880"/>
                </a:lnTo>
                <a:lnTo>
                  <a:pt x="2880" y="288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852" y="18720"/>
                </a:lnTo>
                <a:lnTo>
                  <a:pt x="74852" y="288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2880" y="18720"/>
                </a:lnTo>
                <a:lnTo>
                  <a:pt x="74852" y="1872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2880" y="2880"/>
                </a:lnTo>
                <a:lnTo>
                  <a:pt x="2880" y="1872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>
            <a:hlinkClick r:id="rId3" action="ppaction://hlinksldjump"/>
          </p:cNvPr>
          <p:cNvSpPr/>
          <p:nvPr/>
        </p:nvSpPr>
        <p:spPr>
          <a:xfrm>
            <a:off x="7543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Chiller"/>
              </a:rPr>
              <a:t>Level A, The Crime</a:t>
            </a:r>
            <a:endParaRPr b="0" lang="en-US" sz="67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5" name="">
            <a:hlinkClick r:id="" action="ppaction://hlinkshowjump?jump=nextslide"/>
          </p:cNvPr>
          <p:cNvSpPr/>
          <p:nvPr/>
        </p:nvSpPr>
        <p:spPr>
          <a:xfrm>
            <a:off x="2743200" y="5562720"/>
            <a:ext cx="1447920" cy="457200"/>
          </a:xfrm>
          <a:custGeom>
            <a:avLst/>
            <a:gdLst>
              <a:gd name="textAreaLeft" fmla="*/ 82800 w 1447920"/>
              <a:gd name="textAreaRight" fmla="*/ 1365120 w 1447920"/>
              <a:gd name="textAreaTop" fmla="*/ 82800 h 457200"/>
              <a:gd name="textAreaBottom" fmla="*/ 37440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4448" y="3921"/>
                </a:lnTo>
                <a:lnTo>
                  <a:pt x="3921" y="3921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4448" y="17679"/>
                </a:lnTo>
                <a:lnTo>
                  <a:pt x="64448" y="3921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3921" y="17679"/>
                </a:lnTo>
                <a:lnTo>
                  <a:pt x="64448" y="17679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3921" y="3921"/>
                </a:lnTo>
                <a:lnTo>
                  <a:pt x="3921" y="1767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>
            <a:hlinkClick r:id="rId1" action="ppaction://hlinksldjump"/>
          </p:cNvPr>
          <p:cNvSpPr/>
          <p:nvPr/>
        </p:nvSpPr>
        <p:spPr>
          <a:xfrm>
            <a:off x="5029200" y="5562720"/>
            <a:ext cx="1523880" cy="457200"/>
          </a:xfrm>
          <a:custGeom>
            <a:avLst/>
            <a:gdLst>
              <a:gd name="textAreaLeft" fmla="*/ 79200 w 1523880"/>
              <a:gd name="textAreaRight" fmla="*/ 1444680 w 15238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205" y="3750"/>
                </a:lnTo>
                <a:lnTo>
                  <a:pt x="3750" y="375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205" y="17850"/>
                </a:lnTo>
                <a:lnTo>
                  <a:pt x="68205" y="375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68205" y="1785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>
            <a:hlinkClick r:id="rId2" action="ppaction://hlinksldjump"/>
          </p:cNvPr>
          <p:cNvSpPr/>
          <p:nvPr/>
        </p:nvSpPr>
        <p:spPr>
          <a:xfrm>
            <a:off x="7238880" y="5562720"/>
            <a:ext cx="1676520" cy="457200"/>
          </a:xfrm>
          <a:custGeom>
            <a:avLst/>
            <a:gdLst>
              <a:gd name="textAreaLeft" fmla="*/ 91800 w 1676520"/>
              <a:gd name="textAreaRight" fmla="*/ 1584720 w 167652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4811" y="4350"/>
                </a:lnTo>
                <a:lnTo>
                  <a:pt x="4350" y="435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4811" y="17250"/>
                </a:lnTo>
                <a:lnTo>
                  <a:pt x="74811" y="435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4811" y="1725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16002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o Writing Utens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57600" y="2743200"/>
            <a:ext cx="464832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ou are not allowed to use writing utensils because the endanger the environment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eople who are in hell for committing this crime are Taylor Gerstlauer, Ted Stoler, and Ms. Dug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Chiller"/>
              </a:rPr>
              <a:t>Level A, The Punishment</a:t>
            </a:r>
            <a:endParaRPr b="0" lang="en-US" sz="6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752840" cy="457200"/>
          </a:xfrm>
          <a:custGeom>
            <a:avLst/>
            <a:gdLst>
              <a:gd name="textAreaLeft" fmla="*/ 47520 w 1752840"/>
              <a:gd name="textAreaRight" fmla="*/ 1705320 w 1752840"/>
              <a:gd name="textAreaTop" fmla="*/ 47520 h 457200"/>
              <a:gd name="textAreaBottom" fmla="*/ 409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0513" y="2250"/>
                </a:lnTo>
                <a:lnTo>
                  <a:pt x="2250" y="22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0513" y="19350"/>
                </a:lnTo>
                <a:lnTo>
                  <a:pt x="80513" y="22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80513" y="193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rId1" action="ppaction://hlinksldjump"/>
          </p:cNvPr>
          <p:cNvSpPr/>
          <p:nvPr/>
        </p:nvSpPr>
        <p:spPr>
          <a:xfrm>
            <a:off x="5105520" y="5638680"/>
            <a:ext cx="1600200" cy="457200"/>
          </a:xfrm>
          <a:custGeom>
            <a:avLst/>
            <a:gdLst>
              <a:gd name="textAreaLeft" fmla="*/ 91800 w 1600200"/>
              <a:gd name="textAreaRight" fmla="*/ 1508400 w 160020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1208" y="4350"/>
                </a:lnTo>
                <a:lnTo>
                  <a:pt x="4350" y="435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1208" y="17250"/>
                </a:lnTo>
                <a:lnTo>
                  <a:pt x="71208" y="435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1208" y="1725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rId2" action="ppaction://hlinksldjump"/>
          </p:cNvPr>
          <p:cNvSpPr/>
          <p:nvPr/>
        </p:nvSpPr>
        <p:spPr>
          <a:xfrm>
            <a:off x="7086600" y="5638680"/>
            <a:ext cx="1752480" cy="457200"/>
          </a:xfrm>
          <a:custGeom>
            <a:avLst/>
            <a:gdLst>
              <a:gd name="textAreaLeft" fmla="*/ 79200 w 1752480"/>
              <a:gd name="textAreaRight" fmla="*/ 1673280 w 17524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996" y="3750"/>
                </a:lnTo>
                <a:lnTo>
                  <a:pt x="3750" y="3750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996" y="17850"/>
                </a:lnTo>
                <a:lnTo>
                  <a:pt x="78996" y="3750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78996" y="17850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A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219320" cy="381240"/>
          </a:xfrm>
          <a:custGeom>
            <a:avLst/>
            <a:gdLst>
              <a:gd name="textAreaLeft" fmla="*/ 60120 w 1219320"/>
              <a:gd name="textAreaRight" fmla="*/ 1159200 w 1219320"/>
              <a:gd name="textAreaTop" fmla="*/ 60120 h 381240"/>
              <a:gd name="textAreaBottom" fmla="*/ 321120 h 381240"/>
            </a:gdLst>
            <a:ahLst/>
            <a:rect l="textAreaLeft" t="textAreaTop" r="textAreaRight" b="textAreaBottom"/>
            <a:pathLst>
              <a:path w="69038" h="21600">
                <a:moveTo>
                  <a:pt x="0" y="0"/>
                </a:moveTo>
                <a:lnTo>
                  <a:pt x="69038" y="0"/>
                </a:lnTo>
                <a:lnTo>
                  <a:pt x="69038" y="21600"/>
                </a:lnTo>
                <a:lnTo>
                  <a:pt x="0" y="21600"/>
                </a:lnTo>
                <a:close/>
              </a:path>
              <a:path fill="lightenLess" w="69038" h="21600">
                <a:moveTo>
                  <a:pt x="0" y="0"/>
                </a:moveTo>
                <a:lnTo>
                  <a:pt x="69038" y="0"/>
                </a:lnTo>
                <a:lnTo>
                  <a:pt x="65632" y="3407"/>
                </a:lnTo>
                <a:lnTo>
                  <a:pt x="3407" y="3407"/>
                </a:lnTo>
                <a:close/>
              </a:path>
              <a:path fill="darken" w="69038" h="21600">
                <a:moveTo>
                  <a:pt x="69038" y="0"/>
                </a:moveTo>
                <a:lnTo>
                  <a:pt x="69038" y="21600"/>
                </a:lnTo>
                <a:lnTo>
                  <a:pt x="65632" y="18193"/>
                </a:lnTo>
                <a:lnTo>
                  <a:pt x="65632" y="3407"/>
                </a:lnTo>
                <a:close/>
              </a:path>
              <a:path fill="darkenLess" w="69038" h="21600">
                <a:moveTo>
                  <a:pt x="69038" y="21600"/>
                </a:moveTo>
                <a:lnTo>
                  <a:pt x="0" y="21600"/>
                </a:lnTo>
                <a:lnTo>
                  <a:pt x="3407" y="18193"/>
                </a:lnTo>
                <a:lnTo>
                  <a:pt x="65632" y="18193"/>
                </a:lnTo>
                <a:close/>
              </a:path>
              <a:path fill="lighten" w="69038" h="21600">
                <a:moveTo>
                  <a:pt x="0" y="21600"/>
                </a:moveTo>
                <a:lnTo>
                  <a:pt x="0" y="0"/>
                </a:lnTo>
                <a:lnTo>
                  <a:pt x="3407" y="3407"/>
                </a:lnTo>
                <a:lnTo>
                  <a:pt x="3407" y="1819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B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447920" cy="380880"/>
          </a:xfrm>
          <a:custGeom>
            <a:avLst/>
            <a:gdLst>
              <a:gd name="textAreaLeft" fmla="*/ 95040 w 1447920"/>
              <a:gd name="textAreaRight" fmla="*/ 1352880 w 1447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76656" y="5400"/>
                </a:lnTo>
                <a:lnTo>
                  <a:pt x="5400" y="5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76656" y="16200"/>
                </a:lnTo>
                <a:lnTo>
                  <a:pt x="76656" y="5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76656" y="16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rId1" action="ppaction://hlinksldjump"/>
          </p:cNvPr>
          <p:cNvSpPr/>
          <p:nvPr/>
        </p:nvSpPr>
        <p:spPr>
          <a:xfrm>
            <a:off x="5029200" y="5715000"/>
            <a:ext cx="1676520" cy="380880"/>
          </a:xfrm>
          <a:custGeom>
            <a:avLst/>
            <a:gdLst>
              <a:gd name="textAreaLeft" fmla="*/ 77760 w 1676520"/>
              <a:gd name="textAreaRight" fmla="*/ 1598760 w 1676520"/>
              <a:gd name="textAreaTop" fmla="*/ 77760 h 380880"/>
              <a:gd name="textAreaBottom" fmla="*/ 303120 h 380880"/>
            </a:gdLst>
            <a:ahLst/>
            <a:rect l="textAreaLeft" t="textAreaTop" r="textAreaRight" b="textAreaBottom"/>
            <a:pathLst>
              <a:path w="95007" h="21600">
                <a:moveTo>
                  <a:pt x="0" y="0"/>
                </a:moveTo>
                <a:lnTo>
                  <a:pt x="95007" y="0"/>
                </a:lnTo>
                <a:lnTo>
                  <a:pt x="95007" y="21600"/>
                </a:lnTo>
                <a:lnTo>
                  <a:pt x="0" y="21600"/>
                </a:lnTo>
                <a:close/>
              </a:path>
              <a:path fill="lightenLess" w="95007" h="21600">
                <a:moveTo>
                  <a:pt x="0" y="0"/>
                </a:moveTo>
                <a:lnTo>
                  <a:pt x="95007" y="0"/>
                </a:lnTo>
                <a:lnTo>
                  <a:pt x="90583" y="4425"/>
                </a:lnTo>
                <a:lnTo>
                  <a:pt x="4425" y="4425"/>
                </a:lnTo>
                <a:close/>
              </a:path>
              <a:path fill="darken" w="95007" h="21600">
                <a:moveTo>
                  <a:pt x="95007" y="0"/>
                </a:moveTo>
                <a:lnTo>
                  <a:pt x="95007" y="21600"/>
                </a:lnTo>
                <a:lnTo>
                  <a:pt x="90583" y="17175"/>
                </a:lnTo>
                <a:lnTo>
                  <a:pt x="90583" y="4425"/>
                </a:lnTo>
                <a:close/>
              </a:path>
              <a:path fill="darkenLess" w="95007" h="21600">
                <a:moveTo>
                  <a:pt x="95007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90583" y="17175"/>
                </a:lnTo>
                <a:close/>
              </a:path>
              <a:path fill="lighten" w="95007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>
            <a:hlinkClick r:id="rId2" action="ppaction://hlinksldjump"/>
          </p:cNvPr>
          <p:cNvSpPr/>
          <p:nvPr/>
        </p:nvSpPr>
        <p:spPr>
          <a:xfrm>
            <a:off x="7086600" y="5715000"/>
            <a:ext cx="1752480" cy="380880"/>
          </a:xfrm>
          <a:custGeom>
            <a:avLst/>
            <a:gdLst>
              <a:gd name="textAreaLeft" fmla="*/ 63360 w 1752480"/>
              <a:gd name="textAreaRight" fmla="*/ 1689120 w 175248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5711" y="3600"/>
                </a:lnTo>
                <a:lnTo>
                  <a:pt x="3600" y="360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5711" y="18000"/>
                </a:lnTo>
                <a:lnTo>
                  <a:pt x="95711" y="360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95711" y="1800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>
            <a:hlinkClick r:id="rId1" action="ppaction://hlinksldjump"/>
          </p:cNvPr>
          <p:cNvSpPr/>
          <p:nvPr/>
        </p:nvSpPr>
        <p:spPr>
          <a:xfrm>
            <a:off x="4724280" y="5715000"/>
            <a:ext cx="1905120" cy="380880"/>
          </a:xfrm>
          <a:custGeom>
            <a:avLst/>
            <a:gdLst>
              <a:gd name="textAreaLeft" fmla="*/ 87120 w 1905120"/>
              <a:gd name="textAreaRight" fmla="*/ 1818000 w 190512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3009" y="4950"/>
                </a:lnTo>
                <a:lnTo>
                  <a:pt x="4950" y="495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3009" y="16650"/>
                </a:lnTo>
                <a:lnTo>
                  <a:pt x="103009" y="495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103009" y="1665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>
            <a:hlinkClick r:id="rId2" action="ppaction://hlinksldjump"/>
          </p:cNvPr>
          <p:cNvSpPr/>
          <p:nvPr/>
        </p:nvSpPr>
        <p:spPr>
          <a:xfrm>
            <a:off x="6934320" y="5715000"/>
            <a:ext cx="1828800" cy="38088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685" y="4950"/>
                </a:lnTo>
                <a:lnTo>
                  <a:pt x="4950" y="495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685" y="16650"/>
                </a:lnTo>
                <a:lnTo>
                  <a:pt x="98685" y="495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685" y="1665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3:47:49Z</dcterms:created>
  <dc:creator>NPSD</dc:creator>
  <dc:description/>
  <dc:language>en-US</dc:language>
  <cp:lastModifiedBy>NPSD</cp:lastModifiedBy>
  <dcterms:modified xsi:type="dcterms:W3CDTF">2010-04-08T15:44:13Z</dcterms:modified>
  <cp:revision>43</cp:revision>
  <dc:subject/>
  <dc:title>Dante’s Inferno</dc:title>
</cp:coreProperties>
</file>