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B72A-74F1-448E-AF0A-F7E6F90D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C971-F7E7-4415-A297-75762CF5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9647-B410-4866-ADB5-8316801F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3AE5-9C46-42AE-A7AE-EE3B8A8A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832E-76F9-4B96-9E25-975E9322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CB81-E833-4FEC-BAE0-EFD1B925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4B85-FC11-439A-BF8E-5E475600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0102-692E-4C77-A04B-7822916B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9801-25AA-4DD5-944C-F5619BA7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A35B-D7C9-4D21-8D1F-D1CF9368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CDCA-59AD-40E4-A7CB-2C0316C7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C2E1-5B20-44EE-9631-21064334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EB83-5B41-4CB0-BA5A-402BBBF7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6F5D-D966-48AB-ABA8-A65D90E0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9E32-84E7-40FA-AB32-FB6195EA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857B-F400-4F95-8058-D4816CEE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9A62-7A6A-4D26-A775-1A8C7F5F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AD640-FBAB-4148-AEDE-0911AB6B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9E4D6-4A06-46D5-B82E-68504FAC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E0C1C-AC98-405B-812D-1D9BE1FB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0C479-5C18-434F-A5AE-6C2F8610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9153C-B6BE-4927-BD8D-714F49C5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1DC3-B086-4E29-96F4-253F8296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F1040-53A7-40AA-86AD-E9B42A86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CE240-91AC-468C-9A37-04B1BF6C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E6348-45D3-4C20-BFBA-26643EB4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C58F5-0FC6-4A06-B20B-60E9D26E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6A9E4-AE04-4D66-8DF9-56831373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D656E-7AB3-45D5-903E-6517309D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7EC51-379A-4FB9-B0A9-3B4451D6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39FB9-74E9-4BA4-B865-01927AA8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88331-1A80-41EB-916A-B83BB1B1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F2875-8454-45E3-8052-909DA7A9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FF08-E69D-442C-9FFB-680D0164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904C7-3BA9-40B2-9537-C90169FC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7BACF-7D5C-449C-B10D-DC839D10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8B5E2-862D-4B52-B9A7-E8D85EFF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9014C-E342-4D67-867F-43112306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63ABD-1110-49DA-9A98-75A4C4E3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FB281-7188-4668-8AE5-15F06867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3389F-7695-460B-9999-F48EC0DD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13574-F79E-4DAF-8755-A243979F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669D8-582F-4316-BBB2-E5943B58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21817-C897-4615-AA84-3FF0337E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A32B-D8D5-486F-AC08-CC517093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DCBFA-5F94-4F43-8EAE-303775CD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CA3C4-32C8-49D1-87CD-C04412EF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DEB19-8BA4-415D-8D54-76767785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BA6A1-47AB-4BB8-80B7-6FC02DD4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77F83-1591-49C2-A6BA-B74F8717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6B940-C13A-4B32-8FFD-4F84974A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2848A-CD17-40B1-9C71-47A539CA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8AA24-AC38-4DAD-9A24-5332B878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EBDF4-7340-47FE-8A31-8B13A37C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BCA4B-5788-4CCF-9CC2-12122176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5580-2B95-40A3-90C2-8A0CA82D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F0945-E65E-44A0-8100-504E7B86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42A70-5E92-4C3D-A601-8806D2AA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6C321-584F-491F-ADCA-F3B8DBD3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D7F77-719A-44E9-87B5-A0B08E9E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0971C-B7B6-458F-92FB-A3978FAA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EAEA6-45AE-4B75-B52E-59E3EFE1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A363F-65E5-46BD-8EA3-CB2FDCE9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1A92D-5F88-48FE-B2AF-9AFC0D3E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EA78E-2573-4EE3-8F97-7D56C9AB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4AD78-157C-43ED-880D-1189DB0D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8A14-72C2-4A38-9380-8AC398B4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34837-6668-45CB-9FFE-80D81FAE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13EA6-44E0-4AFB-9FC4-5EE9CCFC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747DE-E53D-4252-930A-E6FCC5F8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813A7-7884-4A74-A2D6-F019A405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5BD34-6309-428D-816A-F56000E7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A523E-51C4-4942-8D62-F1AC8260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F26FF-6143-4C60-BE11-040A1583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C7090-D30C-443D-8ADC-7C77B1CB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CEAA4-CCBB-4B4C-B69F-6BB2D289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FD732-9C19-465E-AE28-E9DF0F07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0BC0-CA14-46B7-B530-3A5C2543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9BA4C-7BD8-41E2-B975-0C46CD5B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17478-A5C4-4173-A766-BCB51368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88E2D-C6E9-4DED-AEE5-8EC46E31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59FF1-B3D4-4075-B9C1-AA07311C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3F2A3-9E82-4551-B185-57BEE78D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452-18CF-43ED-85E3-6601DBCC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DF95-9926-40A3-88B0-32414DA55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552F-CD26-4A7C-89EB-D5F6E8AADA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98EA-1A5B-48C9-979B-2AB90330CE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443B-C563-4490-B515-35207B5583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3266-A7D6-47E6-A102-60511799C7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3FFB-0887-41FA-8790-CC7A4CA7DB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3308-CA77-47CD-AE4C-7ACA53E6C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hyperlink" Target="http://images.google.com/imgres?imgurl=http://www.campussafetymagazine.com/images/Articles/CS7abusiveP2_opening.jpg&amp;imgrefurl=http://www.campussafetymagazine.com/Articles/%3FArticleID%3D105&amp;usg=__DnxOwprkseY11pMGmpYqPJCz01Q=&amp;h=280&amp;w=300&amp;sz=19&amp;hl=en&amp;start=4&amp;um=1&amp;itbs=1&amp;tbnid=9CoEcYUWZdkRlM:&amp;tbnh=108&amp;tbnw=116&amp;prev=/images%3Fq%3Dabusive%26um%3D1%26hl%3Den%26safe%3Dactive%26sa%3DN%26tbs%3Disch: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hyperlink" Target="http://i.treehugger.com/images/2007/10/24/lighting-and-tornado-storm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hyperlink" Target="http://www.sangrea.net/free-cartoons/sexes_affair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8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0"/>
            <a:ext cx="617220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Justin Greenlea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 rot="21173400">
            <a:off x="2971800" y="1600200"/>
            <a:ext cx="5489640" cy="40435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114800" y="609480"/>
            <a:ext cx="3886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Greenleaf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82000" y="4556160"/>
            <a:ext cx="47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 with cau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461320" y="2286000"/>
            <a:ext cx="694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Edwardian Script ITC"/>
              </a:rPr>
              <a:t>View discretion is advis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hoose fire to be the punishment because kills you slowly and that what cheating d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>
            <a:hlinkClick r:id="rId1" action="ppaction://hlinksldjump"/>
          </p:cNvPr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rId2" action="ppaction://hlinksldjump"/>
          </p:cNvPr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they should keep burning no p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rId1" action="ppaction://hlinksldjump"/>
          </p:cNvPr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rId2" action="ppaction://hlinksldjump"/>
          </p:cNvPr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2971800" y="1600200"/>
            <a:ext cx="5791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to bear ar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Easy –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Tup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Curtis ( 50 C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rId1" action="ppaction://hlinksldjump"/>
          </p:cNvPr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rId2" action="ppaction://hlinksldjump"/>
          </p:cNvPr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nishment would be attached by a rocket launcher, like a gun it kills innocent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>
            <a:hlinkClick r:id="rId1" action="ppaction://hlinksldjump"/>
          </p:cNvPr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>
            <a:hlinkClick r:id="rId2" action="ppaction://hlinksldjump"/>
          </p:cNvPr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ell pity I think that people should have a right to bear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>
            <a:hlinkClick r:id="rId1" action="ppaction://hlinksldjump"/>
          </p:cNvPr>
          <p:cNvSpPr/>
          <p:nvPr/>
        </p:nvSpPr>
        <p:spPr>
          <a:xfrm>
            <a:off x="2971800" y="5715000"/>
            <a:ext cx="1600200" cy="304920"/>
          </a:xfrm>
          <a:custGeom>
            <a:avLst/>
            <a:gdLst>
              <a:gd name="textAreaLeft" fmla="*/ 71280 w 1600200"/>
              <a:gd name="textAreaRight" fmla="*/ 1528920 w 1600200"/>
              <a:gd name="textAreaTop" fmla="*/ 71280 h 304920"/>
              <a:gd name="textAreaBottom" fmla="*/ 23364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08184" y="5063"/>
                </a:lnTo>
                <a:lnTo>
                  <a:pt x="5063" y="5063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08184" y="16537"/>
                </a:lnTo>
                <a:lnTo>
                  <a:pt x="108184" y="5063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5063" y="16537"/>
                </a:lnTo>
                <a:lnTo>
                  <a:pt x="108184" y="16537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5063" y="5063"/>
                </a:lnTo>
                <a:lnTo>
                  <a:pt x="5063" y="165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LOWNING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LOWNINGWAY"/>
              </a:rPr>
              <a:t>I learned the one way out of hell is to not show aggression, but I learned not to show aggression with the help of Kendra. I learned not to use guns or be hit by a rocket launcher. Another thing I learned if you cheat you will be burned. I plan not to go to hell by livening a good life. This is what I learned and want to avoid from my trip to he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2133720"/>
            <a:ext cx="5638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ds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Scar Face Teds personal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Crimes are Bullying, Cheating, Murdering and the punishment are Burning, Freezing, No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) Ted fells story for the people that have to stave but no pity for freezing and b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) Good Hel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Kendra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3124440" cy="44193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352680" y="0"/>
            <a:ext cx="5029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4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HASE"/>
              </a:rPr>
              <a:t>Kendr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CHASE"/>
              <a:ea typeface="CHASE"/>
            </a:endParaRPr>
          </a:p>
        </p:txBody>
      </p:sp>
      <p:sp>
        <p:nvSpPr>
          <p:cNvPr id="423" name=""/>
          <p:cNvSpPr/>
          <p:nvPr/>
        </p:nvSpPr>
        <p:spPr>
          <a:xfrm>
            <a:off x="6019920" y="1828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867280" y="1752480"/>
            <a:ext cx="3029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dra is down to earth gir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 is very athletic. She is a star for playboy, and even appeared on Scary movie 4. She is married to Hank Basket and they have a son together. This is why I choose Kendra to be my tour gu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95480" y="-1898280"/>
            <a:ext cx="6019920" cy="54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819160" y="1523880"/>
            <a:ext cx="601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86200" y="990720"/>
            <a:ext cx="3181320" cy="59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"/>
              </a:rPr>
              <a:t>Greenleaf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2374920" cy="4267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5486400" y="1789200"/>
            <a:ext cx="2971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am a relaxed person. I have a funny side. Love to participate in sports. Like the weekends. Hang out with friend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1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>
            <a:hlinkClick r:id="rId2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167652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2895480" y="22860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Sports Two MT"/>
              </a:rPr>
              <a:t>Level 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Sports Two MT"/>
              <a:ea typeface="Sports Tw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8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19520" y="1911240"/>
            <a:ext cx="5790960" cy="32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PBELL"/>
              </a:rPr>
              <a:t>Physical aggression toward someone near or close 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PB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PBELL"/>
              </a:rPr>
              <a:t>Ike ( Tina turner Hus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PB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PBELL"/>
              </a:rPr>
              <a:t>Bill Parcels (NFL Football Co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PB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PBELL"/>
              </a:rPr>
              <a:t>Beck ( High School Football</a:t>
            </a:r>
            <a:r>
              <a:rPr b="1" lang="en-US" sz="1800" spc="-1" strike="noStrike">
                <a:solidFill>
                  <a:srgbClr val="000000"/>
                </a:solidFill>
                <a:latin typeface="CAMPBELL"/>
              </a:rPr>
              <a:t> coa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PB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punishment it would be a tornado because a tornado hits anybody in its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79200 w 1752480"/>
              <a:gd name="textAreaRight" fmla="*/ 1673280 w 17524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996" y="3750"/>
                </a:lnTo>
                <a:lnTo>
                  <a:pt x="3750" y="375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996" y="17850"/>
                </a:lnTo>
                <a:lnTo>
                  <a:pt x="78996" y="375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78996" y="1785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3200400"/>
            <a:ext cx="45720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fell no pity for what they did I think they should be hit by more tornados. Life to god to show aggressi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rId1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rId2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1752480"/>
            <a:ext cx="54864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ating on husband or spru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Tiger W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Jesse J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John Gosse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rId2" action="ppaction://hlinksldjump"/>
          </p:cNvPr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See full size image"/>
          <p:cNvPicPr/>
          <p:nvPr/>
        </p:nvPicPr>
        <p:blipFill>
          <a:blip r:embed="rId3"/>
          <a:stretch/>
        </p:blipFill>
        <p:spPr>
          <a:xfrm>
            <a:off x="3124080" y="4191120"/>
            <a:ext cx="4572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4-09T11:12:40Z</dcterms:modified>
  <cp:revision>44</cp:revision>
  <dc:subject/>
  <dc:title>Dante’s Inferno</dc:title>
</cp:coreProperties>
</file>