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FE6-E9AD-4E0B-8300-DDD5CCC7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BE4-40D2-44DB-97AB-DA983BDC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D1C-2400-41F9-9492-131EA7FD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0AB-7AAC-40C4-966D-30EA59D4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B18-30FB-4033-8937-FAAFF29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6E30-862E-47B4-A3A5-FD2AC16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CFC-2C31-484A-BC8F-E78D21E5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EDA-292A-468C-A2EB-397CF4B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3C6-CAEF-47C0-933E-594FE93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D132-4C20-4C11-B1A4-2B319E7F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86A4-15AA-4AC1-886B-3E1F0A00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ED2-DCF8-4B59-95F6-AB702DE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6BC-281F-4A01-A78D-E2F30F3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9DD2-96BF-42D4-B5E0-33752CB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7057-421D-4FBE-9734-E352B1E3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336-8439-4456-98D0-CB61751F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09F3-68FC-49BC-A815-B16EE25D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CDD5-050B-414D-8C40-41903DFF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87CC-967C-47E0-BA25-22B405B1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A860-1792-42B1-98EA-A98BFFD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AB93-29F5-469D-BE5F-703FB8FD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F750-F83E-4175-924C-5D1C4B4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5D2-50C4-4CF7-A4C0-DF78FED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A80A-030F-4E4D-A658-06F07A4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7654-9EF3-4CE0-87E0-D854283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654C-C3C8-4304-8B63-F55F6D2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4DDF-534E-40E3-9D10-0BBCC65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E28F-0470-490D-854B-63B8016C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9B73-BAB3-41C1-963D-AA7EA221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FF09-01EC-451D-BD9B-EE8C4999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8CC1-60B6-455B-A453-794E8CC0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B173-6473-4AB3-A8CC-661AE65D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6441-F771-4469-B161-990216B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72C-A210-4187-8BB4-CA7786E7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991E-9D7D-47D6-A842-6AF3B5AC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F681D-E6C4-4E73-9688-B9BECA83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7125-D927-42A4-8687-0C18E581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5832-7441-489D-ABFE-CF7F9D5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7B7A-6EC6-48EE-9A14-BA8B0B5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BC90-B87E-4A7E-8F55-04C53AF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73CA-60A1-4611-871D-CF8B2F4E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45C9-BC12-464C-A0D3-28D2F5A6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0A61-83EF-4177-A546-9DA732A3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8195-26D3-4D97-A8F2-5FB70866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067-358F-4BE4-8E07-38F932C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EAA4-2403-4BD3-8EFC-F7D61698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7899-A578-420E-B114-9E8104A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ADA95-51E5-4222-AD10-02DFFE40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475B-C5E6-4EC5-8AAE-8D697AF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9386-86D3-4C7C-A9D1-7CF8847D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44356-476A-4BB9-985E-9213E4A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2352-63AD-42EA-8E90-4F7A011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97B7-A7F3-4C67-AA9E-EA4914F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16F33-D080-4254-9132-D68C8FA2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0740-7B88-46CE-9305-FDC870EB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A69-C337-4CE3-AF1D-779037BD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CE5D-929F-4AE8-92D6-D885A59C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8135-698E-4286-B1B3-59C404A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82C27-688A-4E41-8B9C-3F231CD2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A524-BE7F-4959-974E-6066C18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5453-C705-4A76-90C1-F2756CB0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459E-F73D-4270-BA4D-C9EBF02B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50FE-C9A4-45A5-93E5-A2C31183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D358-A219-472D-842C-2EBF620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42BD-2E1A-469B-B457-0356BC4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AB42-7071-4DEB-A75F-AAA6F52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4D3-1AD1-48D9-893C-2482D2B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9E2E-733C-4CB4-932B-ECD3783A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A333-C016-4F7A-8F31-D09E918B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0818-3FF3-489A-8092-E237F69B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C7EEB-E61F-4338-99FA-A5A1CC8C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4644D-793E-42E5-A166-23AEFB1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65958-CE75-4BC3-AD38-6E5EE934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BC404-970C-4ED3-8B52-2CCEAA0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08AE7-4C61-4639-A6D5-BA4EA90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24CC5-5569-4413-9034-17FAEF93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564A-7811-4B96-8ACC-78D72C2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0AB-DC52-4E6D-9259-6444D1B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D125-FB9E-4FFF-B2AD-2A45C8B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B547-06CF-4F0B-819E-AE65A72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7241-AD4F-48CB-9E78-26BA0C3A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553D3-EBEF-4DC0-ABFE-387E7C15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80A5-8FEF-40DD-BF6B-AC4DF798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E64-8F77-48A1-8B17-79EDFAB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D7B-530F-4CBB-922A-5869B45F0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5DC9-E254-4F25-8D2F-51868B651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DC26-6221-485F-91CC-EA13ADE08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6887-760F-4E25-95B5-E6C231A36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2CE-4C9C-4032-8341-D7CB42DBD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FF8E-A522-4205-ADC8-B3C53BB9B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29D-DED6-4B1E-AF62-256C7EE7A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hyperlink" Target="http://images.google.com/imgres?imgurl=http://www.campussafetymagazine.com/images/Articles/CS7abusiveP2_opening.jpg&amp;imgrefurl=http://www.campussafetymagazine.com/Articles/%3FArticleID%3D105&amp;usg=__DnxOwprkseY11pMGmpYqPJCz01Q=&amp;h=280&amp;w=300&amp;sz=19&amp;hl=en&amp;start=4&amp;um=1&amp;itbs=1&amp;tbnid=9CoEcYUWZdkRlM:&amp;tbnh=108&amp;tbnw=116&amp;prev=/images%3Fq%3Dabusive%26um%3D1%26hl%3Den%26safe%3Dactive%26sa%3DN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hyperlink" Target="http://i.treehugger.com/images/2007/10/24/lighting-and-tornado-storm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hyperlink" Target="http://www.sangrea.net/free-cartoons/sexes_affai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61722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Justin Green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173400">
            <a:off x="2971800" y="1600200"/>
            <a:ext cx="5489640" cy="4043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114800" y="609480"/>
            <a:ext cx="3886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eenleaf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2000" y="45561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with ca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61320" y="2286000"/>
            <a:ext cx="69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Edwardian Script ITC"/>
              </a:rPr>
              <a:t>View discretion is advi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ose fire to be the punishment because kills you slowly and that what cheating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y should keep burning no p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ar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asy –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p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urtis ( 50 C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nishment would be attached by a rocket launcher, like a gun it kills innoc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l pity I think that people should have a right to bea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LOWNING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OWNINGWAY"/>
              </a:rPr>
              <a:t>I learned the one way out of hell is to not show aggression, but I learned not to show aggression with the help of Kendra. I learned not to use guns or be hit by a rocket launcher. Another thing I learned if you cheat you will be burned. I plan not to go to hell by livening a good life. This is what I learned and want to avoid from my trip to h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s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Scar Face Teds personal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rimes are Bullying, Cheating, Murdering and the punishment are Burning, Freezing, No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Ted fells story for the people that have to stave but no pity for freezing and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Good H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Kendra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12444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352680" y="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HASE"/>
              </a:rPr>
              <a:t>Kend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HASE"/>
              <a:ea typeface="CHASE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752480"/>
            <a:ext cx="3029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dra is down to earth gi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is very athletic. She is a star for playboy, and even appeared on Scary movie 4. She is married to Hank Basket and they have a son together. This is why I choose Kendra to be my tour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-1898280"/>
            <a:ext cx="6019920" cy="54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6200" y="990720"/>
            <a:ext cx="3181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Greenlea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374920" cy="4267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86400" y="1789200"/>
            <a:ext cx="2971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relaxed person. I have a funny side. Love to participate in sports. Like the weekends. Hang out with frie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95480" y="2286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ports Two MT"/>
              </a:rPr>
              <a:t>Level 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ports Two MT"/>
              <a:ea typeface="Sports Tw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1911240"/>
            <a:ext cx="57909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Physical aggression toward someone near or close 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Ike ( Tina turner 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ill Parcels (NFL Football C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eck ( High School Football</a:t>
            </a:r>
            <a:r>
              <a:rPr b="1" lang="en-US" sz="1800" spc="-1" strike="noStrike">
                <a:solidFill>
                  <a:srgbClr val="000000"/>
                </a:solidFill>
                <a:latin typeface="CAMPBELL"/>
              </a:rPr>
              <a:t> c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unishment it would be a tornado because a tornado hits anybody in it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00400"/>
            <a:ext cx="4572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ell no pity for what they did I think they should be hit by more tornados. Life to god to show aggress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husband or sp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iger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esse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John Gos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See full size image"/>
          <p:cNvPicPr/>
          <p:nvPr/>
        </p:nvPicPr>
        <p:blipFill>
          <a:blip r:embed="rId3"/>
          <a:stretch/>
        </p:blipFill>
        <p:spPr>
          <a:xfrm>
            <a:off x="3124080" y="41911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9T11:12:40Z</dcterms:modified>
  <cp:revision>44</cp:revision>
  <dc:subject/>
  <dc:title>Dante’s Inferno</dc:title>
</cp:coreProperties>
</file>