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096-2F76-415A-B71F-86F13166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8E3-80B8-40E3-BAC5-5DE931F1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DF6-140F-4192-84B2-6DB70F13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E8B-5B01-4034-952E-B43F2EA6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0F4-062B-43E4-B845-12666D76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0393-D92E-4A6B-9145-406CDE22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0D56-B0EF-4B68-9A54-721FCBEC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3CEF-D665-49BD-B22D-EE0BA45C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B9C-7F70-4762-95A8-4CC3A98E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7DCF-B9B6-4603-BBCF-F009CE31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24A5-047A-421A-AA74-E7C1AA6C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BB6-AF58-441C-8731-F11C4677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CB06-A3F4-4F4B-A713-1300D788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7CF9-3B86-4091-BD7D-6D172A3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169C-9AE4-401E-BE9D-711BB43B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0953-AFFD-43E0-8BCE-764C8634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3697-6B69-41D3-94CF-CDE64BE4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28237-98C8-437D-B35B-1D3CA72B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8218-A733-41CF-BCF3-CDBE5D00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ACFE-789A-4C96-AAF9-76C9A3E7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DFAA-1308-4AA9-97E9-436222B5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BE39-A513-471F-9AD2-1ACC0128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227-09FF-4327-BB93-5D11D30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730B-5E5B-4810-9B50-D943A6AD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9DE7D-80FF-46E9-BB5F-6352B7B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ED03-AFAB-4AEB-989E-84576A2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9D09-7185-40DE-8FE5-A69B8B33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F9D7-575A-4599-8A76-F10E01B5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754A-0A2B-49DD-92BF-E8B9B53B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5731-4BBA-4635-8283-B294D631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26868-43DC-4217-A798-76D7F8A0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7CB9B-193B-439F-A9A6-BB2D3649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03C5F-8AAA-4453-8179-A17305FF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1CD-D252-4B82-A276-55818513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1BA0-A02A-4C59-82A1-054EFC6A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F410-1A32-47B5-8B81-C3EDD20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D477-0615-4CA0-88D8-F48E97CB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01C4-26EF-4FB8-B755-753354D0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A7C9-D312-4BF0-81BE-1BB8A3CA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7CFB-FFC4-4D40-879A-59F00756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99CE-14DC-49E9-91D4-4D105F63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7291-B48F-48C2-960B-B4A0F229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976B-7E74-4A72-BFEE-C5F8B89A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D79D-A4C9-4769-AEA4-B7A253DB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B1B-AD83-4926-8B73-7CC0BFC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0418B-3E53-4220-A8A6-CBA5278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1C31-5032-4F0B-9634-3EDD2D17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F6579-95AD-44DF-A34B-E3DBC98F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7D16-CFA4-4667-B393-2683CD79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F20F7-C4E8-4E1A-8F3C-070B57DB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0EC5A-53B9-4A11-9BF8-FCBB44C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9B8C5-28E7-42A3-980D-AC52A470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435F6-D3DD-4737-A1FC-FDA3E588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2B3A-E8B7-4146-AC33-EF70227B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56A8A-E1A5-4F83-A9EB-7A258B93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317-E00E-47DE-B879-4CC98B40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2EE2D-93F9-47F0-97BB-E9D1CFC7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91CF9-06CF-4084-AF53-EA03ADD3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854D5-8CEC-4B7D-AF05-533B774F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6DC61-C6CC-4DA4-B79C-B7F1004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07BF8-5D0D-4BC7-8FAE-68F896D2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ABF4-70A5-4073-B06A-5C314898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363D-252F-4123-B8E1-0518671B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E4264-7043-46A9-B436-710CDDE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12861-7ABA-4EF6-8497-BBE4388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70B29-F048-49FF-8659-7F00BD60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A83-E704-4220-86DA-1FDB2B11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AE251-BB04-494B-9F4A-234A11C0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FE373-9112-4EA8-80C7-BCDB1C2C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93379-7C94-4722-BE72-CC22FBAE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196D-C9E1-43A2-97F4-6445281D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0353-4F1B-49D1-BCE3-7E8787D9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01AC-C541-4E6B-92E7-DB7B51A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FE708-52F2-4E45-ADBC-0D4DD954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19EE7-AEE6-4BFB-85D0-2CBFE2B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1AB3-177F-4BE4-B0FF-20AF97F7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5D232-5337-48B8-B16C-2694066E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636-B76B-4A12-806B-C24807F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8AD9D-A704-4F42-9360-AF5CC19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8D2F8-9E16-43D3-8AC4-467C1B67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988E-974A-482E-ADFB-0CD01AF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304A1-6C21-46BB-BE8B-6E219AED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98613-4624-4AED-8220-9D95645D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B9B-D8E2-42E8-BCC5-9BA627AF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60B7-8A4D-47D7-9C6D-42901B259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6A73-F20C-47C5-A7D3-119B4B5C1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D3C7-3382-41AB-A08C-CF82EA6A8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FDBE-4E94-4148-B90B-084ECA567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4843-DB7B-4018-9B5A-5BFFF3121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C8BA-4056-466B-B376-F9DDC219B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06BD-BE20-40F9-A074-FCE5B4CD3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hyperlink" Target="http://images.google.com/imgres?imgurl=http://www.campussafetymagazine.com/images/Articles/CS7abusiveP2_opening.jpg&amp;imgrefurl=http://www.campussafetymagazine.com/Articles/%3FArticleID%3D105&amp;usg=__DnxOwprkseY11pMGmpYqPJCz01Q=&amp;h=280&amp;w=300&amp;sz=19&amp;hl=en&amp;start=4&amp;um=1&amp;itbs=1&amp;tbnid=9CoEcYUWZdkRlM:&amp;tbnh=108&amp;tbnw=116&amp;prev=/images%3Fq%3Dabusive%26um%3D1%26hl%3Den%26safe%3Dactive%26sa%3DN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hyperlink" Target="http://i.treehugger.com/images/2007/10/24/lighting-and-tornado-storm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hyperlink" Target="http://www.sangrea.net/free-cartoons/sexes_affai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617220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Justin Green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173400">
            <a:off x="2971800" y="1600200"/>
            <a:ext cx="5489640" cy="4043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114800" y="609480"/>
            <a:ext cx="3886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eenleaf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2000" y="455616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with ca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61320" y="2286000"/>
            <a:ext cx="694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Edwardian Script ITC"/>
              </a:rPr>
              <a:t>View discretion is advi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oose fire to be the punishment because kills you slowly and that what cheating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y should keep burning no p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bear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asy –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up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urtis ( 50 C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nishment would be attached by a rocket launcher, like a gun it kills innoc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ll pity I think that people should have a right to bea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LOWNING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OWNINGWAY"/>
              </a:rPr>
              <a:t>I learned the one way out of hell is to not show aggression, but I learned not to show aggression with the help of Kendra. I learned not to use guns or be hit by a rocket launcher. Another thing I learned if you cheat you will be burned. I plan not to go to hell by livening a good life. This is what I learned and want to avoid from my trip to h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213372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ds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Scar Face Teds personal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Crimes are Bullying, Cheating, Murdering and the punishment are Burning, Freezing, No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Ted fells story for the people that have to stave but no pity for freezing and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 Good H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Kendra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124440" cy="441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352680" y="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HASE"/>
              </a:rPr>
              <a:t>Kend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HASE"/>
              <a:ea typeface="CHASE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1752480"/>
            <a:ext cx="3029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dra is down to earth gir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is very athletic. She is a star for playboy, and even appeared on Scary movie 4. She is married to Hank Basket and they have a son together. This is why I choose Kendra to be my tour gu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-1898280"/>
            <a:ext cx="6019920" cy="54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6200" y="990720"/>
            <a:ext cx="318132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Greenlea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374920" cy="4267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486400" y="1789200"/>
            <a:ext cx="2971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a relaxed person. I have a funny side. Love to participate in sports. Like the weekends. Hang out with frien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6765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95480" y="2286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ports Two MT"/>
              </a:rPr>
              <a:t>Level 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ports Two MT"/>
              <a:ea typeface="Sports Tw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1911240"/>
            <a:ext cx="57909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Physical aggression toward someone near or close 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Ike ( Tina turner 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ill Parcels (NFL Football C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eck ( High School Football</a:t>
            </a:r>
            <a:r>
              <a:rPr b="1" lang="en-US" sz="1800" spc="-1" strike="noStrike">
                <a:solidFill>
                  <a:srgbClr val="000000"/>
                </a:solidFill>
                <a:latin typeface="CAMPBELL"/>
              </a:rPr>
              <a:t> c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unishment it would be a tornado because a tornado hits anybody in it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200400"/>
            <a:ext cx="4572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fell no pity for what they did I think they should be hit by more tornados. Life to god to show aggress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ting on husband or sp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iger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esse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John Goss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See full size image"/>
          <p:cNvPicPr/>
          <p:nvPr/>
        </p:nvPicPr>
        <p:blipFill>
          <a:blip r:embed="rId3"/>
          <a:stretch/>
        </p:blipFill>
        <p:spPr>
          <a:xfrm>
            <a:off x="3124080" y="41911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9T11:12:40Z</dcterms:modified>
  <cp:revision>44</cp:revision>
  <dc:subject/>
  <dc:title>Dante’s Inferno</dc:title>
</cp:coreProperties>
</file>