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B53-CD7A-4678-9988-789C63F4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F28-49DB-41F3-9C03-5CC9CBCE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AFF-DA33-48BE-BA7B-260DDF1E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228-89FE-4E77-AECE-341F0F7F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9126-F9D1-4A8C-9643-7C0000CA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843F-972C-4DC0-B02A-47277D0F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939D-CA7F-4988-B3A6-57F3F004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BBDF-6AD9-4573-9259-39E7F4E6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04BB-5D8C-4D61-AD7B-EB934D8E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3938-7ADC-436D-81B8-2A463341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4AD4-469B-4825-A6DB-4D62C7BD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2B9-1886-492E-9D6F-C3C9B8C2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8B5D-62FA-474B-B92B-68F21295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F9D8-A743-453B-9444-2A3B55D4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DCD2-638F-4854-93C7-F791CE2C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5E5F-F979-488D-95E2-91FEABA4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293E-2E6B-4800-93E4-ACEA6904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8A1D8-6F84-4B45-984D-B337B05D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11D36-6C7E-4BDA-8F4F-AEE551AE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08BF1-9867-46ED-9264-B9FC9BEC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FD9F1-EDD5-41A0-8C48-32D215F7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A4C2E-F4AA-49DE-83DD-BB5C317B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E94-6C85-44C3-BB59-F17026CC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FF3B-2AE1-45F3-BF4C-51DDD6EA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17B1-D2E6-482B-B3E5-1FEF2D43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D957F-E95D-4F03-8C8D-E461A3F2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1774F-7624-4DCB-9471-AB2D6C6C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5B87E-989E-41D4-8B02-7B3BBAB2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61EA6-494F-44E5-BC50-CAC65B4B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0503-8048-49FA-86EC-DEF6AFA9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B904-1321-4A72-B457-108B3BD9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99645-9643-48E8-BA5A-1D270EEC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7C0B4-0F4B-4B1C-85D5-80C0D351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86B6-2A67-477F-BAA3-D6618861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CF643-36FA-4CA2-825B-0A70848B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C89D9-CBF5-4DF3-BABA-1656B2B6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7461C-57B9-44EF-8C88-F193A368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69795-5063-4E61-B53A-2C6389DC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C027C-4C6D-43C7-BE92-49F658EE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3D3FD-213F-4CE2-8926-E2244BA5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04400-7463-4A7C-AEBB-8BAC64C9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584F5-23A0-47AE-95AE-1ED2C4C8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59866-D060-40C4-B932-04E80EDE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1649F-1441-4963-AAF4-DE1FC623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69D-D7A9-4FF2-A15D-F18E32F5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232D0-6C7A-43D5-80A1-4576D708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D0088-FD43-4A68-BDB2-534E8FFF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3B00F-08FE-4A67-A7F4-9B5905CF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C6EA6-C198-49BA-8558-42B21F08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83BCE-86E6-4545-B1FA-A1BF60A0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DD346-7CD1-4CFD-80F5-9EEB44D1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048CB-CA1A-41D2-848E-3958A1BE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3B181-FBC9-424F-AD17-B76B2192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08358-88B7-4B16-B1F5-AB5E4A59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48F6C-61B8-45C0-BDA0-75D47F2F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C74-2D50-4EDF-BD4F-25785119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09C88-52D3-4695-8A6A-442925CE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94FEB-BD35-4145-A96B-546FDF1B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FC577-4D70-4807-B417-9AECB198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2B848-9481-4FD4-95CE-EBFBA76A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76818-F707-4E5D-BCBD-9135D923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3C0AC-F7E0-4E78-9D96-4A36121E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E8C35-FD43-40FD-990D-A0DB049F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054FE-3A66-466A-B7F2-59C6577F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715A6-8F0A-45B2-AC0D-BD061C6B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EDDAD-EAC9-45D3-873C-4A322FBA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A6E-3D49-44E1-AD9C-E5C2FBE1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E8569-3B36-41D2-8895-D3A90ECD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EA1A0-4390-4CD9-A1E9-636BFD49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9B56E-6A49-416B-8A8D-960C4080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43E93-2BD9-4FFC-B56E-A46FC97C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5053C-DD19-455A-BF94-96449BEA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201D5-65FC-41E3-90C9-1970813F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3B7C6-80F7-4F53-9834-47246FF8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781BB-747B-49C9-916D-C13C86B3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463D1-E1F4-4B23-92D7-A34E5752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506A9-1820-4D2E-9324-2DA6D1DE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2CE-1EFC-436D-A6F1-EF18399E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F7A03-0D48-4930-A9AC-EE43DEDC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69F55-3484-48E9-A976-939DCE2B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2C7D4-399F-4F83-96B7-0D6B2012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8B7F1-1935-4824-9596-63FCF715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9DEDD-259C-48BD-A906-8D4059DB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269-B762-4883-99B2-D9322588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A64D-7423-4A9E-8799-6384A49A7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E7A1-4427-4D11-B363-0DFDFD42B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C7B8-BA36-4F3D-A8DC-009911274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7A2A-BBD2-44E0-83A9-C2ED4ECC3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0AFD-C1C9-404D-919B-CB22FE6A4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1BA5-A370-45EC-859E-46C223D49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D6D9-DB4C-47E4-B242-04A713EAD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hyperlink" Target="http://images.google.com/imgres?imgurl=http://www.campussafetymagazine.com/images/Articles/CS7abusiveP2_opening.jpg&amp;imgrefurl=http://www.campussafetymagazine.com/Articles/%3FArticleID%3D105&amp;usg=__DnxOwprkseY11pMGmpYqPJCz01Q=&amp;h=280&amp;w=300&amp;sz=19&amp;hl=en&amp;start=4&amp;um=1&amp;itbs=1&amp;tbnid=9CoEcYUWZdkRlM:&amp;tbnh=108&amp;tbnw=116&amp;prev=/images%3Fq%3Dabusive%26um%3D1%26hl%3Den%26safe%3Dactive%26sa%3DN%26tbs%3Disch: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hyperlink" Target="http://i.treehugger.com/images/2007/10/24/lighting-and-tornado-storm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hyperlink" Target="http://www.sangrea.net/free-cartoons/sexes_affair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0"/>
            <a:ext cx="617220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Justin Greenlea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 rot="21173400">
            <a:off x="2971800" y="1600200"/>
            <a:ext cx="5489640" cy="4043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114800" y="609480"/>
            <a:ext cx="3886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reenleaf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82000" y="4556160"/>
            <a:ext cx="47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 with cau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61320" y="2286000"/>
            <a:ext cx="694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Edwardian Script ITC"/>
              </a:rPr>
              <a:t>View discretion is advi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hoose fire to be the punishment because kills you slowly and that what cheating d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they should keep burning no p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2971800" y="1600200"/>
            <a:ext cx="5791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to bear ar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Easy –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up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Curtis ( 50 C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nishment would be attached by a rocket launcher, like a gun it kills innocen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ell pity I think that people should have a right to bear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LOWNING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OWNINGWAY"/>
              </a:rPr>
              <a:t>I learned the one way out of hell is to not show aggression, but I learned not to show aggression with the help of Kendra. I learned not to use guns or be hit by a rocket launcher. Another thing I learned if you cheat you will be burned. I plan not to go to hell by livening a good life. This is what I learned and want to avoid from my trip to h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213372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ds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Scar Face Teds personal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Crimes are Bullying, Cheating, Murdering and the punishment are Burning, Freezing, No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Ted fells story for the people that have to stave but no pity for freezing and b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) Good Hel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Kendra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124440" cy="44193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352680" y="0"/>
            <a:ext cx="5029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4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HASE"/>
              </a:rPr>
              <a:t>Kendr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HASE"/>
              <a:ea typeface="CHASE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1828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867280" y="1752480"/>
            <a:ext cx="3029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dra is down to earth gir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is very athletic. She is a star for playboy, and even appeared on Scary movie 4. She is married to Hank Basket and they have a son together. This is why I choose Kendra to be my tour gu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480" y="-1898280"/>
            <a:ext cx="6019920" cy="54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1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6200" y="990720"/>
            <a:ext cx="3181320" cy="59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"/>
              </a:rPr>
              <a:t>Greenleaf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2374920" cy="4267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486400" y="1789200"/>
            <a:ext cx="2971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am a relaxed person. I have a funny side. Love to participate in sports. Like the weekends. Hang out with friend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167652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895480" y="2286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ports Two MT"/>
              </a:rPr>
              <a:t>Level 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ports Two MT"/>
              <a:ea typeface="Sports Tw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19520" y="1911240"/>
            <a:ext cx="579096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Physical aggression toward someone near or close 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Ike ( Tina turner Hus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Bill Parcels (NFL Football Co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Beck ( High School Football</a:t>
            </a:r>
            <a:r>
              <a:rPr b="1" lang="en-US" sz="1800" spc="-1" strike="noStrike">
                <a:solidFill>
                  <a:srgbClr val="000000"/>
                </a:solidFill>
                <a:latin typeface="CAMPBELL"/>
              </a:rPr>
              <a:t> co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punishment it would be a tornado because a tornado hits anybody in its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200400"/>
            <a:ext cx="45720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fell no pity for what they did I think they should be hit by more tornados. Life to god to show aggress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752480"/>
            <a:ext cx="5486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ting on husband or spr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iger W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Jesse J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John Gosse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See full size image"/>
          <p:cNvPicPr/>
          <p:nvPr/>
        </p:nvPicPr>
        <p:blipFill>
          <a:blip r:embed="rId3"/>
          <a:stretch/>
        </p:blipFill>
        <p:spPr>
          <a:xfrm>
            <a:off x="3124080" y="4191120"/>
            <a:ext cx="4572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9T11:12:40Z</dcterms:modified>
  <cp:revision>44</cp:revision>
  <dc:subject/>
  <dc:title>Dante’s Inferno</dc:title>
</cp:coreProperties>
</file>