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AA1-EF52-430E-832C-21D72E3D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B1D-D19E-4FF9-AFD8-B044F7B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504-3BF4-4022-BA41-27F6536B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1EF-D997-4154-9D7F-E92B98EC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2BC9-F2FF-4D7C-8FC2-3CC9477F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8A5-ED9B-45A0-AB6A-BF410364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5F20-62AA-4B3E-B50C-8021E822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56C5-8C30-4573-8590-095EED59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A11F-7499-4245-BB80-663CDD66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09AB-3765-4A8D-8DDA-18AC624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80C-7E34-498D-94FC-D5057633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0BB-3503-415C-BE56-7F1247D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E2E-3FF0-4D81-8319-D5EF3CF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8310-64DE-40D8-9928-16B6D852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9160-CEEF-44B8-94BA-F7539D08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6A2D-76FD-4520-90C3-2C622143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F7E-A652-4CF2-90C2-8B35B8B8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7A85-63C4-4320-B977-F26C409B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91FDF-A09E-4E3C-9DBA-94A4AA02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B9D7B-2B6F-4C4A-AF31-C073359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580C-02AC-487F-A170-3F941DB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D2C6-B2AB-4FC5-9873-919BAF61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E40-5152-49BD-9C23-4AF964F9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F3D3-8B30-496B-8462-487C8CB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352E-D8BE-440C-8FC4-37611715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F770-C5A6-4CF1-AF90-315AAA9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E4A5-2290-4A90-A7F9-5E10D3A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B8C8-CD09-45F5-9F87-54F04168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2F77-8AE9-4028-B340-A8DC227B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259C-4357-4C0F-95AD-7166AC49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F2DF-7540-4F6C-B8B4-FDC9DB88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6CB4-A8F8-4B90-A884-6315887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F913-05E9-4DD0-B270-D54E2EFB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E51-5A6F-4E4C-9B1C-5B2B559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DCF4-DC50-4472-965C-59713FD2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826DE-2F09-48F2-8061-E6DB0ABC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442F-1E68-4DB0-90C0-EDF5600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A857-2822-41E6-AED0-F53DDB3F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1165-4DAA-4918-BB7C-0FDF35C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5CE9E-7953-49D9-BA1A-C6F65A6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DD65-83E4-4897-AC71-20CB867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0A97-FA7B-4EE4-B060-49E451A5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3019-4C6D-4508-9C3B-88F29673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0B372-47F1-4AC3-B277-704A912E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668-2310-420B-80B7-13426BE6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1024-3CE7-4513-BEA6-EE85D59A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8FA67-178B-4792-BDEB-1B2D4A76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1AC8-8B6A-4655-9129-71F984F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BDFC-FBD5-400A-96A6-DF0CA67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0F80-914F-42BA-8E5F-2968DB2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6888-503F-4071-9B5B-38E4ECA3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B826-CE7E-4F3D-905F-F31A426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E9DC-3742-4BF1-9390-E061249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205A-2588-47D3-9DC6-A56D217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2C27-E8E9-467B-B715-CFECEDEB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EE5-2C98-4D22-95EF-6B5CA0B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7DE1-7E11-4997-932F-61CC7B8D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32A13-1105-4222-A194-80777F9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F27C-59BF-4F41-B7C2-59FC8AD9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EBAE-CCE3-4FA9-8622-C89328A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5A3E-4F5B-48FB-A893-8376B82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C0C24-19D2-4700-94E4-C247D75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5D30-B726-4B6E-8DE2-0E758E51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B15D-F969-480B-A63B-1887F3B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439B-C64D-4E23-A547-B5170C0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4CF74-2FEE-4E56-A47D-DBD92C5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ED2-2A2F-409B-9451-D4E8025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B64D7-BABF-4020-99FD-2C3AC780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140A4-2C97-4A05-BE59-8B600DB0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00C5-5C70-4127-B4CE-F079D8B3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7E93-54B7-47FA-9DF6-7564CCB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73869-30D3-472D-ADF1-4249B08D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7D0A-CDEE-4451-B31E-89BBB29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CC3B7-32AC-443C-AB99-0D9E390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1BCF-258A-46DC-8353-BF63EA5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A5C6-8312-4981-B8B1-D36EC9F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9C9EE-80C8-4C6B-87B7-FB9DB7F6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5B4-260D-4EA5-9F4E-70F5488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B97C-5811-44CB-9ECB-4D249FE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4CE6-A411-402A-9184-12BE9AA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CB0A3-DF06-4073-97F7-27F3CB1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2049-B20A-4E9A-893F-07E8E989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71CAB-1291-48BD-A39B-D7D336B8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481-4AE6-4AFB-AC65-E061BA25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8AA-7ED9-498B-BFD4-4DB2D22E2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C08-CFDC-4527-B75C-6063EB322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1000-4423-4104-9E47-537FD77A3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5BD3-ACD6-4179-9F1D-096D34E2F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7BAD-26DE-4ADA-9B89-B0037057C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F839-56ED-485B-9FE0-337F438B8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F255-22F2-4E31-AC6E-0814DCA22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hyperlink" Target="http://images.google.com/imgres?imgurl=http://www.campussafetymagazine.com/images/Articles/CS7abusiveP2_opening.jpg&amp;imgrefurl=http://www.campussafetymagazine.com/Articles/%3FArticleID%3D105&amp;usg=__DnxOwprkseY11pMGmpYqPJCz01Q=&amp;h=280&amp;w=300&amp;sz=19&amp;hl=en&amp;start=4&amp;um=1&amp;itbs=1&amp;tbnid=9CoEcYUWZdkRlM:&amp;tbnh=108&amp;tbnw=116&amp;prev=/images%3Fq%3Dabusive%26um%3D1%26hl%3Den%26safe%3Dactive%26sa%3DN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hyperlink" Target="http://i.treehugger.com/images/2007/10/24/lighting-and-tornado-storm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hyperlink" Target="http://www.sangrea.net/free-cartoons/sexes_affai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617220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Justin Greenlea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 rot="21173400">
            <a:off x="2971800" y="1600200"/>
            <a:ext cx="5489640" cy="4043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114800" y="609480"/>
            <a:ext cx="3886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eenleaf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2000" y="45561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with ca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61320" y="2286000"/>
            <a:ext cx="694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Edwardian Script ITC"/>
              </a:rPr>
              <a:t>View discretion is advi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hoose fire to be the punishment because kills you slowly and that what cheating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at they should keep burning no p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o bear ar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Easy –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up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urtis ( 50 C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nishment would be attached by a rocket launcher, like a gun it kills innocent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l pity I think that people should have a right to bear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LOWNING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LOWNINGWAY"/>
              </a:rPr>
              <a:t>I learned the one way out of hell is to not show aggression, but I learned not to show aggression with the help of Kendra. I learned not to use guns or be hit by a rocket launcher. Another thing I learned if you cheat you will be burned. I plan not to go to hell by livening a good life. This is what I learned and want to avoid from my trip to h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213372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s 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Scar Face Teds personal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Crimes are Bullying, Cheating, Murdering and the punishment are Burning, Freezing, No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Ted fells story for the people that have to stave but no pity for freezing and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) Good He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Kendra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124440" cy="4419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352680" y="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HASE"/>
              </a:rPr>
              <a:t>Kend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HASE"/>
              <a:ea typeface="CHASE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1752480"/>
            <a:ext cx="3029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dra is down to earth gir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is very athletic. She is a star for playboy, and even appeared on Scary movie 4. She is married to Hank Basket and they have a son together. This is why I choose Kendra to be my tour gu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-1898280"/>
            <a:ext cx="6019920" cy="54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6200" y="990720"/>
            <a:ext cx="3181320" cy="59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"/>
              </a:rPr>
              <a:t>Greenlea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374920" cy="4267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486400" y="1789200"/>
            <a:ext cx="2971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am a relaxed person. I have a funny side. Love to participate in sports. Like the weekends. Hang out with frien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16765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95480" y="2286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ports Two MT"/>
              </a:rPr>
              <a:t>Level 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ports Two MT"/>
              <a:ea typeface="Sports Tw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19520" y="1911240"/>
            <a:ext cx="579096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Physical aggression toward someone near or close 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Ike ( Tina turner Hus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ill Parcels (NFL Football C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PBELL"/>
              </a:rPr>
              <a:t>Beck ( High School Football</a:t>
            </a:r>
            <a:r>
              <a:rPr b="1" lang="en-US" sz="1800" spc="-1" strike="noStrike">
                <a:solidFill>
                  <a:srgbClr val="000000"/>
                </a:solidFill>
                <a:latin typeface="CAMPBELL"/>
              </a:rPr>
              <a:t> co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MPB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unishment it would be a tornado because a tornado hits anybody in it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200400"/>
            <a:ext cx="45720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ell no pity for what they did I think they should be hit by more tornados. Life to god to show aggress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ting on husband or sp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iger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Jesse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John Goss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See full size image"/>
          <p:cNvPicPr/>
          <p:nvPr/>
        </p:nvPicPr>
        <p:blipFill>
          <a:blip r:embed="rId3"/>
          <a:stretch/>
        </p:blipFill>
        <p:spPr>
          <a:xfrm>
            <a:off x="3124080" y="4191120"/>
            <a:ext cx="4572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9T11:12:40Z</dcterms:modified>
  <cp:revision>44</cp:revision>
  <dc:subject/>
  <dc:title>Dante’s Inferno</dc:title>
</cp:coreProperties>
</file>