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A8D-8119-4EF1-81A3-FC62B96D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400-4BC8-4CEA-A327-FDB5C220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158-FB17-48F2-A756-D1790A65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650-76C0-46D0-90CF-46E33A5B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E6B-CE36-4F3F-A435-33D746FC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161-FCA7-4B36-8610-6665BF7D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B56-A166-477D-B9EB-B4FDFD09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248-C67F-44D4-9B6B-73F5C197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17C-254C-4B7B-9D79-3282D15E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E9A-43E0-4512-B0AF-EE7CCA77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AA9-1C51-4D4B-8FC6-7CBC454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E44-0433-46E7-B858-C9F15FD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5D2B-869C-4A90-9D87-AA49738D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 Dod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1994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í en 21 de Julio en Poughkeepsie, Nueva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co meses después, me mudé a Shelby Township Mich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í en Michigan por seis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onces, me mudé a Montgomeryville, Pennsylv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010280" y="2362320"/>
            <a:ext cx="1903680" cy="2133360"/>
            <a:chOff x="7010280" y="2362320"/>
            <a:chExt cx="1903680" cy="21333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7010280" y="2362320"/>
              <a:ext cx="1903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7010280" y="2362320"/>
              <a:ext cx="190368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514600" cy="176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29400" y="502920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ra joven, iba a Montgomery Element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 el fútbol con 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 con jug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or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 bailo con mis amigos cada jueves por la no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y a la escuela en North Pe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salir con mis amigos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futuro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7:08:54Z</dcterms:created>
  <dc:creator>NPSD</dc:creator>
  <dc:description/>
  <dc:language>en-US</dc:language>
  <cp:lastModifiedBy>NCO</cp:lastModifiedBy>
  <dcterms:modified xsi:type="dcterms:W3CDTF">2010-02-17T03:43:42Z</dcterms:modified>
  <cp:revision>3</cp:revision>
  <dc:subject/>
  <dc:title>Mi Vida</dc:title>
</cp:coreProperties>
</file>