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5D0-E3F5-4E4C-91E9-2EF6C1CD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307-469A-4CA1-8DED-8379BF8E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263-2AC8-42FB-802A-B0F533E6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C14-86C7-44A4-90B1-0128312E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B0D-59CA-4B4D-98D0-4E63E51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E74-3060-472C-AB1E-CBE903DD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8EA-07D2-403B-89B4-83F5A36E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976-294A-412D-9668-F7388DD2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F3C-B215-418D-9BBC-D7694ABD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BC7-6784-4512-9D59-7B0F03B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D4A-EFBA-44FB-A230-E182194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83A-AB55-4A61-90EB-52697F2A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674F-10C2-48C8-85E9-9CE541FC6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 Dod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1994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í en 21 de Julio en Poughkeepsie, Nueva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co meses después, me mudé a Shelby Township Mich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ví en Michigan por seis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onces, me mudé a Montgomeryville, Pennsylv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010280" y="2362320"/>
            <a:ext cx="1903680" cy="2133360"/>
            <a:chOff x="7010280" y="2362320"/>
            <a:chExt cx="1903680" cy="21333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7010280" y="2362320"/>
              <a:ext cx="1903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7010280" y="2362320"/>
              <a:ext cx="190368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514600" cy="176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29400" y="502920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era joven, iba a Montgomery Element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 el fútbol con 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 con jug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or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 bailo con mis amigos cada jueves por la no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y a la escuela en North Pen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salir con mis amigos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futuro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7:08:54Z</dcterms:created>
  <dc:creator>NPSD</dc:creator>
  <dc:description/>
  <dc:language>en-US</dc:language>
  <cp:lastModifiedBy>NCO</cp:lastModifiedBy>
  <dcterms:modified xsi:type="dcterms:W3CDTF">2010-02-17T03:43:42Z</dcterms:modified>
  <cp:revision>3</cp:revision>
  <dc:subject/>
  <dc:title>Mi Vida</dc:title>
</cp:coreProperties>
</file>