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FF2B-7F64-4E59-9F97-02A021149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C6F4-C0AC-4B4A-9C04-64F14F2E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1846-91B4-4A45-9F49-3B2DA948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471B-A865-4031-8E62-4D269EA84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6868-E7FB-4315-9BD3-2B818F93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A254-DC48-4F02-8F8B-CF8007B2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94FB-4019-4845-8FE0-80BA3B6F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FCA8-D191-4079-A2B2-F5E1F7C2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1758-AB34-42E6-96AD-E99CB507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071C-3909-43E8-B2B8-15EC42F9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0BE6-F95E-4AAE-9F28-79AF214A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6437-08E5-4891-BD8D-A9F018D8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492C-2182-4CA3-840C-B7E467AD4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V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n Dod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1994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í en 21 de Julio en Poughkeepsie, Nueva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nco meses después, me mudé a Shelby Township Michi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ví en Michigan por seis 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onces, me mudé a Montgomeryville, Pennsylvan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010280" y="2362320"/>
            <a:ext cx="1903680" cy="2133360"/>
            <a:chOff x="7010280" y="2362320"/>
            <a:chExt cx="1903680" cy="213336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7010280" y="2362320"/>
              <a:ext cx="19036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 txBox="1"/>
            <p:nvPr/>
          </p:nvSpPr>
          <p:spPr>
            <a:xfrm>
              <a:off x="7010280" y="2362320"/>
              <a:ext cx="1903680" cy="21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514600" cy="1761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629400" y="5029200"/>
            <a:ext cx="228600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ndo era joven, iba a Montgomery Elementa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gaba el fútbol con K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gaba con jugue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hor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o bailo con mis amigos cada jueves por la noc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y a la escuela en North Pen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 gusta salir con mis amigos muc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el futuro .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7:08:54Z</dcterms:created>
  <dc:creator>NPSD</dc:creator>
  <dc:description/>
  <dc:language>en-US</dc:language>
  <cp:lastModifiedBy>NCO</cp:lastModifiedBy>
  <dcterms:modified xsi:type="dcterms:W3CDTF">2010-02-17T03:43:42Z</dcterms:modified>
  <cp:revision>3</cp:revision>
  <dc:subject/>
  <dc:title>Mi Vida</dc:title>
</cp:coreProperties>
</file>