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1085-2206-42E7-A43F-03732347C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BC34-7009-4C78-9664-72FF3C51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8D5E-034B-4234-A27B-401DA908B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B085-AD07-4D98-A1A3-5D7B9AB9E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1995-A0BB-4325-B26E-9039DA2B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1335-D0F8-4451-AE87-4E7BB342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3362-6B20-4407-976D-D2881DDE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6294-C646-4015-80DE-FA5EA751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055A-C5BD-4ADC-B5BD-AD255D5D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056A-3977-42D4-8C2C-14F96706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6645-633E-43DB-A51D-771D21D1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90B6-7CD2-424F-A547-90E593DA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0952-88DA-4973-AE63-ADD4837BA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V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n Dod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1994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cí en 21 de Julio en Poughkeepsie, Nueva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nco meses después, me mudé a Shelby Township Michi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ví en Michigan por seis 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onces, me mudé a Montgomeryville, Pennsylvan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010280" y="2362320"/>
            <a:ext cx="1903680" cy="2133360"/>
            <a:chOff x="7010280" y="2362320"/>
            <a:chExt cx="1903680" cy="2133360"/>
          </a:xfrm>
        </p:grpSpPr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7010280" y="2362320"/>
              <a:ext cx="19036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 txBox="1"/>
            <p:nvPr/>
          </p:nvSpPr>
          <p:spPr>
            <a:xfrm>
              <a:off x="7010280" y="2362320"/>
              <a:ext cx="1903680" cy="21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514600" cy="1761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629400" y="5029200"/>
            <a:ext cx="228600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ndo era joven, iba a Montgomery Elementa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gaba el fútbol con K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gaba con jugue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hor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Yo bailo con mis amigos cada jueves por la noch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y a la escuela en North Pen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 gusta salir con mis amigos muc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el futuro .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7:08:54Z</dcterms:created>
  <dc:creator>NPSD</dc:creator>
  <dc:description/>
  <dc:language>en-US</dc:language>
  <cp:lastModifiedBy>NCO</cp:lastModifiedBy>
  <dcterms:modified xsi:type="dcterms:W3CDTF">2010-02-17T03:43:42Z</dcterms:modified>
  <cp:revision>3</cp:revision>
  <dc:subject/>
  <dc:title>Mi Vida</dc:title>
</cp:coreProperties>
</file>