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277-2CE4-4C3E-AD22-2D552F48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37D-A8A9-45D7-BA8F-8E1F82EE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4D3-CD63-40E0-B0DB-D187C392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F0D-4B60-4E77-AA31-6410D00A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5B31-13FF-4FCF-B88F-0C199B7F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AE4C-1F5B-4885-8E3E-9D1A0E10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7D2C-5BCC-497B-987E-59EF4E2F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6A2E-6F0F-4AF0-B59A-C8106666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EF4-2420-4314-AC0A-D39BB19D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B856-B34B-4CF3-AC98-847869BF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F65F-0751-41AF-B35B-881196B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B38-7949-4606-AFA2-28D51990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19FB-FF1C-4F54-B376-43FD18D6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442D-CB02-4124-9AA7-881121E5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D1DA-9B63-49DA-AA2F-5C5CF59A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A343-FDDA-4CD0-8B38-8FB1BCA2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7A7A-F887-4D5D-A482-12073178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C0B7-F45E-4D36-8D28-D0F3B474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A066-A4A5-4880-8208-D45CEFCE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D3FD-D17D-44F1-8E41-50E76F38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86EE-AD23-4CB9-A5A5-3D79F44B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D410D-2C8D-4E6F-B235-FB44AEFB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3FB-E67A-493E-BB9A-3B91916B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F13CE-13DD-4B5C-9AD9-34FC5FB1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08BA-AE60-4780-9DFA-9CBD33D6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0BE64-1C49-4800-BECD-F9914B8B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63792-23F5-43B6-BC86-A6E49519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5D3A-3EC9-4F68-A1F1-0C716CC9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9449-59ED-40FD-92A6-EFB1CA9D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16F0-05DF-460C-AA01-F33D9A17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9D902-320A-475F-A2FB-3509179C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B82BB-F779-4198-BCD1-B810C009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972FB-1541-4EC3-A9E3-CE534C38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E8B-20A7-42F0-9843-252D4F3B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72B1-70E3-4B37-9A9C-9C35EAE5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EC7EB-E07A-44E2-B4FB-E073D5D1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84F0B-1E4F-4411-B46E-5BC381F1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2333-37EA-4941-99B4-ED051A4C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40B7-A352-43D0-9933-BCF55CCB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3D9CA-8260-404D-A82A-AF0B7497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E8A0A-63EC-45D2-850B-6D886A31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0FE6-9B40-4F8A-8D49-382A0211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0C66-197B-4932-B27C-698E9991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0C6A-CFEA-401B-B604-14A63781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607-A899-47F2-AE54-85B5BEC3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B0D26-CD19-4D2F-808D-8F34513B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07ECA-27A9-4836-B428-E43B8389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5DBA7-A0DE-4F44-946E-BAFC8BF0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3AA9C-F186-4275-9CD9-87618EBF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D63E0-9D99-4A84-A920-026247C6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D653-CE07-4357-B58E-40239A83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9B243-7FB3-4CCC-B378-FC2FE587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A114-E680-4535-9B6A-7FEC26B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911A-9F88-4B4D-A51F-F6D395D9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CC9A1-16C0-4B92-B43F-56C31C9B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A7F-A8C2-433C-8437-A507C9EE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32603-DE77-45D2-A9FB-9E6D5B4E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6149-3B89-4855-A98A-FCF9AC43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185D5-4128-43BC-AA32-86CE50DC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BFAA-5599-4631-BE0A-BC5E7BF5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14ECC-79C6-4235-9360-9A933B98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B92E4-FDC7-4762-B570-8A939DD8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8F272-56AF-48CC-85D7-1DFB21B2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A721B-5401-481F-AD0B-63B1DF9F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C5F6C-7FE4-4AC6-844A-A8E08CBF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37044-1203-4278-A297-275260F8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793-6D96-4963-BB7D-7B6E7B1B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C9D17-9D30-4A99-8B60-95AF95D9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4CDE-3C0F-4D1E-89DA-35166303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70CC1-1D83-4CF0-8FB8-0B6BF948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31A3B-6CE3-4A3B-9E38-C1265ABD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D50E8-9406-49A7-B5C3-24B08116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E8105-8602-4D9F-B53F-8BC8D23D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A1EC7-B84E-4441-9599-81D21B57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833F1-7E1D-415F-8B77-6776CF51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710F0-B0DE-43BF-A47F-FA4390EE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DCAA1-7289-4567-BF58-710EE888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B14-31EE-4D65-B4C7-05953BEC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6058A-F086-47CE-B936-EAC13233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2FDE3-070C-4237-838D-8DC0295A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CB2E1-98D4-4489-91AE-30C5CB90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B0CFD-68F6-4087-92CF-6D82E33B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430E3-F426-4295-BDFB-AC07E7B4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BFC-0D2B-4EA4-AE3A-787D832C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BB77-438B-4718-B19B-82DE4D1E9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EE1E-7BED-4DA2-92EE-8BA2D8DE8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9D89-0A56-4A5D-9399-A18143375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A4D7-6A21-464C-BB69-2482A4537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3030-5492-4449-9A8E-6F6618836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CB0C-0563-40B8-919B-41C750875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B6BC-4CA4-41DD-A4A3-A149F6042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n3.ioffer.com/img/item/964/909/19/W5PE0l1clsQ5ir9.jpg&amp;imgrefurl=http://www.ioffer.com/c/Body-Piercing-1015698/gauge%2520lot&amp;usg=__npyTnSV_qA7YSz-Ac8a8WldK870=&amp;h=250&amp;w=300&amp;sz=18&amp;hl=en&amp;start=61&amp;itbs=1&amp;tbnid=zZboYG5JcH06wM:&amp;tbnh=97&amp;tbnw=116&amp;prev=/images%3Fq%3Dear%2Bgauges%26start%3D60%26hl%3Den%26safe%3Dactive%26sa%3DN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bjournalism.files.wordpress.com/2009/09/lying-main_full1.jpg&amp;imgrefurl=http://ubjournalism.wordpress.com/tag/citizen-journalism/&amp;usg=__HEpwaqkTQGGJnvrj5Iqyr8u3NS8=&amp;h=392&amp;w=554&amp;sz=28&amp;hl=en&amp;start=15&amp;itbs=1&amp;tbnid=tePJ4PoURurB_M:&amp;tbnh=94&amp;tbnw=133&amp;prev=/images%3Fq%3DLying%26hl%3Den%26safe%3Dactive%26sa%3DX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ole Mesza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ving is the punishment for glutto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ss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C crime is 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level C you killed someone and therefore you will have the worst punish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 is feeling the pain you caused everyone you killed and their fami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earned that in the three levels of hell there were different punishment and each of them fit the cr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733920"/>
            <a:ext cx="2971800" cy="22971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uide is Carl F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a North Penn High School student in tenth grade. He likes screamo music and likes graphic de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name is Nicole Meszaros. I’m a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r at North Pen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4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137160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1981080"/>
            <a:ext cx="60958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me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 A is lying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this level of hell is because you are a compulsive liar. When you promise to do something you break it right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become blind because you blinded every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ied to from the truth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87120 w 1752480"/>
              <a:gd name="textAreaRight" fmla="*/ 1665360 w 1752480"/>
              <a:gd name="textAreaTop" fmla="*/ 87120 h 457200"/>
              <a:gd name="textAreaBottom" fmla="*/ 3700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621" y="4125"/>
                </a:lnTo>
                <a:lnTo>
                  <a:pt x="4125" y="41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621" y="17475"/>
                </a:lnTo>
                <a:lnTo>
                  <a:pt x="78621" y="41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125" y="17475"/>
                </a:lnTo>
                <a:lnTo>
                  <a:pt x="78621" y="174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125" y="4125"/>
                </a:lnTo>
                <a:lnTo>
                  <a:pt x="4125" y="174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3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ttony - is an excessive desire to drink and eat more than one requir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enter this level of hell than you were a greedy person while you l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8:27Z</dcterms:modified>
  <cp:revision>43</cp:revision>
  <dc:subject/>
  <dc:title>Dante’s Inferno</dc:title>
</cp:coreProperties>
</file>