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BC7-65E8-4B0A-82B3-4F3DCAFB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CB8-2BC2-4B72-8768-75D3814F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CF0-7500-41E3-8B77-16826FEC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A31-C33C-4A7C-95CE-F96B2148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E20A-79F6-4D2C-A568-E74B6D0A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B032-0D83-4565-A300-7FA55F22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39AE-EC46-4295-A356-DCA62E6C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1E6B-86E1-44E6-BF9A-E598501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91A1-E17A-4790-8467-B43431E9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7CA2-0C3E-4EE2-AD1C-85F8E8A1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DFA-7BCD-466E-B7B2-930F32C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3B7-0530-49E0-BE64-940926D7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D2CA-E5D9-4191-9971-3B351E9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720E-9E4D-4FC6-B573-350BC61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EB6C-24D6-43DD-85BA-040462AB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850A-530C-4030-A845-1BF507A3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D883-2F83-402E-9244-DC9D01CF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989E-200A-48DA-8D00-9A9BCB7B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9E2E-E216-4E68-A475-CDDF2488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DB08-16CB-4504-AA02-5A62B2D2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D84E-E910-42E0-9D10-C7A0BFA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1135-B27F-4F4F-9959-8C8DABEE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FCD-C282-4D61-8501-FB78F1F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D565-FAE6-4FA4-83BC-342633A4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2E1E-FC46-4124-BEBA-9F947CB0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1F8E-1E05-4F13-ADDC-C670373B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63AB-0445-4CAC-A5E3-CC3B5A8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BB12-00C2-42A8-9543-C529BBAE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87A17-7496-4F28-8EFF-B408C483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F278-BAA0-45CF-B6A7-B9C3A59C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DFF74-A963-4EDC-87F4-4FBEDEDF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EEE5-85DB-4AFF-9777-1A6BED3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6776B-86EF-4575-B4F9-E2C0D7F8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7E6-6BAA-43BA-9EB2-F30D05A5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91517-3C0B-4A74-9DDE-7931AC71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118E-E740-4EBB-8AE7-06C30BAA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CA0E-588B-42B2-9ECB-13DB881B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F488-CD65-44C9-BD6C-1E48B654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ED9F-704E-433D-ADF4-8B18509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E5DD-3201-4655-9975-B2333577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7989-1189-4F23-A6A8-09C2FB8A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B77B1-76AA-4B19-9077-27789852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0491-A6C6-4637-B8AF-AFA81DA4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B9FAA-D0AE-4031-913C-7954AF25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993-C201-486C-A785-E2A7EB2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20FC-0EAB-4B7C-A459-A36EB9DC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082E9-5BE8-4A04-BF8B-7A40D4F7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6620-6040-4BC7-8DFA-0265B912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E469A-DED4-45A9-8EE5-D0B8C1C5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721D9-47A9-44F7-93A5-8850EF17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9DBA-415B-4998-961E-D8592DEF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A0FE-1527-4793-8D3E-78E5CC05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99B58-A484-4F2B-A62A-3E4B1089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40748-747A-4ABA-B367-27B4A4E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6C148-C7CE-4C4A-9C4B-9CD8C167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791-066B-4792-B84F-682BB450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966A-4884-44AA-A060-B08897E9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B1F92-2D40-4B04-AA2F-002B4816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7C735-CE5D-4E4A-B725-568BEF1F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CC354-3CCB-4AFE-943F-74D1461C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2D83B-FB49-4189-87BB-64B3EE90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4CF1E-2CC0-4FA1-8241-15CB253B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9CAF-D55C-4B70-AFA6-8039D996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42A7-AB7B-4574-842A-2ECCB5B1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D29C-180A-4238-A411-B79F57C7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3A040-F2BB-4A7C-BF6A-BFA134C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A88-7C38-48E1-BC94-FF394AB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65A1-EABC-4E03-8E33-0130AC0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1F470-2663-4CA2-9AED-3AB6929F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1E545-455F-46D0-A777-9361038D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BF23-80AD-4A93-BB64-94399546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505A-40A6-420F-9C90-60AD3F5F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D6A5-E976-457D-961C-34579183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A28F8-A526-45A7-A110-B2C05BE5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720D-E33C-4C32-B27A-FB706BEC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5D8B-4414-4E5E-A4EE-928120AE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EC2FB-FF7E-4094-96C4-F371471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68B-3F0C-4659-BAC6-E62EDB69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18FAA-D323-4C73-841F-C1759D6D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EBC6-7BD3-47B5-8AE5-92E684D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D8DD-4B2F-4982-BE89-8FBCFE0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F05E2-7E9E-45B1-9044-F9426DD2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73634-3D41-4550-B7D7-06CB3C05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352-C3D0-4D82-9966-390ED900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31B0-1A1F-4CB6-827B-3DDF8E173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D1C3-1B6D-42CF-9AF4-FFEDB23FF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B08A-D28E-48D3-B7FF-B7F2C42F8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BD7A-2CFB-4D20-B5A7-300FD0A02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D1E-25BD-4DEC-B543-A3638C4CF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FDAC-BAAD-4B77-A560-8B1BCD9C3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A29A-F583-4DCC-97B7-66BF83C29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3.ioffer.com/img/item/964/909/19/W5PE0l1clsQ5ir9.jpg&amp;imgrefurl=http://www.ioffer.com/c/Body-Piercing-1015698/gauge%2520lot&amp;usg=__npyTnSV_qA7YSz-Ac8a8WldK870=&amp;h=250&amp;w=300&amp;sz=18&amp;hl=en&amp;start=61&amp;itbs=1&amp;tbnid=zZboYG5JcH06wM:&amp;tbnh=97&amp;tbnw=116&amp;prev=/images%3Fq%3Dear%2Bgauges%26start%3D6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journalism.files.wordpress.com/2009/09/lying-main_full1.jpg&amp;imgrefurl=http://ubjournalism.wordpress.com/tag/citizen-journalism/&amp;usg=__HEpwaqkTQGGJnvrj5Iqyr8u3NS8=&amp;h=392&amp;w=554&amp;sz=28&amp;hl=en&amp;start=15&amp;itbs=1&amp;tbnid=tePJ4PoURurB_M:&amp;tbnh=94&amp;tbnw=133&amp;prev=/images%3Fq%3DLying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ole Mesza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ving is the punishment for glutto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C crime is 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level C you killed someone and therefore you will have the worst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 is feeling the pain you caused everyone you killed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rned that in the three levels of hell there were different punishment and each of them fit the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uide is Carl F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North Penn High School student in tenth grade. He likes screamo music and likes graphic de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Nicole Meszaros. I’m a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 at North Pen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1371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1981080"/>
            <a:ext cx="6095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m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A is l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this level of hell is because you are a compulsive liar. When you promise to do something you break it righ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come blind because you blinded every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ed to from the truth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87120 w 1752480"/>
              <a:gd name="textAreaRight" fmla="*/ 1665360 w 1752480"/>
              <a:gd name="textAreaTop" fmla="*/ 87120 h 457200"/>
              <a:gd name="textAreaBottom" fmla="*/ 3700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621" y="4125"/>
                </a:lnTo>
                <a:lnTo>
                  <a:pt x="4125" y="41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621" y="17475"/>
                </a:lnTo>
                <a:lnTo>
                  <a:pt x="78621" y="41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125" y="17475"/>
                </a:lnTo>
                <a:lnTo>
                  <a:pt x="78621" y="174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125" y="4125"/>
                </a:lnTo>
                <a:lnTo>
                  <a:pt x="4125" y="174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ttony - is an excessive desire to drink and eat more than one requir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enter this level of hell than you were a greedy person while you l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8:27Z</dcterms:modified>
  <cp:revision>43</cp:revision>
  <dc:subject/>
  <dc:title>Dante’s Inferno</dc:title>
</cp:coreProperties>
</file>