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902-A201-40BF-981C-A79A9B3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B25-8209-456B-9638-0FC3894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0FC-8933-4F7B-A4CD-08F36CBC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67E-128D-47E9-87EC-0D5EB99D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8DBC-8D31-4329-8DEB-A8849860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BBB3-1049-4076-B6B1-37FF343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F64-C004-45D2-978A-7A73244D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FFB6-8F06-4F43-96F3-9DD05D6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3CA-152A-4F12-A7E4-B05F640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2B6-6523-47E7-A7B8-55FB1A9A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EC24-158B-4BA3-9DCC-AEB9B06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D84-9534-4B4A-89A6-066FE1E0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D96-52B1-4A0E-8D4C-F29CEBF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08FA-2246-4D5B-A3C4-9DAD95E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008-A9E8-4EFA-BE83-9EA4AA5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A39-1705-42D5-96E2-25E32DE1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BE7B-416F-457B-9A2E-061C73D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0CBB-2AA0-4A0A-8A20-45589F5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0E90-FB22-44CA-A799-E28BA70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7998-9E97-4A62-B96B-475D22B3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90D7-9C45-4284-813E-CD824ED4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465F-7223-4CDC-BC16-45D9785E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190-05C7-4EE6-81E4-9057E3BA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002B-2B24-4326-B298-EB38C80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F365-C150-4396-8D5D-E6E9A68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B414-D172-4DB3-8CAA-1DA5F7C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97F4-DF28-4AE5-814F-27D39F4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71590-DCD6-420E-AD8D-8464516E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0C02-69FD-49A9-8670-8F50EF72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5BEA-149D-42D5-A579-BBF8BD02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05919-FBBD-484A-A78C-BFC08031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8830-09CE-4521-8E20-933BFAB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811C-4EEE-4030-A4F9-AEBFDB1A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26C-F9CA-48C8-8418-0CD50574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002C-C3EC-4FA2-83E1-B3766389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9B53-EE84-4227-A5DB-636C8C8C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26A1-E926-4240-8908-8062E12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B11F-83BB-44FD-A5B0-3E4B27F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383C-0970-44A4-995B-8ED9D4B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88BE-DD76-4199-A919-78D71C9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BBF5F-41C7-4095-8D61-1C1EBC5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AF16-177A-4CA5-B0BF-21BF8DB9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3368-2C24-420F-8869-0C40319A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F594-C634-4EDC-AC8C-6D286C94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3C7-0124-4304-8C8F-9FB8CA9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9B6A0-E54D-4C0F-A277-BF76B28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9628-E712-463D-A2A2-D8740DC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BF545-52EE-463A-BFCF-EF96718D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031DA-1A01-4366-8D63-8AD1891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66BA4-256A-4666-8BCA-D4B26ACC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EB68-B9F0-4BA5-B21D-21E7636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E3F3-323A-4FC0-9FB9-7270F9F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7DBD1-71C3-47BB-83C2-A151503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4348-E5F8-496F-A9A5-09D84833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085A1-3D1D-4321-8F70-B7E3DB01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867-DBDF-46D8-9F22-74B1389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7D8B-872E-4C87-8D1D-A6148082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4EC71-90BA-40F8-97C2-872AC4D5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BED8D-71F5-4E37-836A-91E14E22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E7C3-C1F4-4186-B094-CF7947C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502D-8F38-43EB-AF42-969D9B6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516B0-D794-428B-93AD-315DA16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6176-9534-4762-A071-CD35C64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F7652-5BC2-44E9-8337-E36DCBC3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178C-7943-4A29-8962-14E36B2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06D9-A67F-4086-A022-C005138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C86-F26F-4848-8649-DCF2D7A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26D64-0C25-4BC9-AF11-AC2A12C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E6DE-B31D-45B4-BB52-47F6FE8B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8A67-A13E-431F-8332-F35797A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7C0C-8500-4F39-919E-6E63C2D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4079-FF5C-40FF-BDBB-A9C0B5D1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D039-FF5F-469F-BBB9-35B8599A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F8D8-5542-46F6-A486-419DE15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66072-945C-4746-A47C-3065BB22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BF0ED-44E1-42F2-98EE-E04C5C69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6343D-ECD6-449F-B0C2-93C0E8FE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05C-0F3E-4E41-A7FA-E5B10E7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51392-397F-4A85-B6FD-367B487B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4476D-22A9-428A-AF3F-4F6DD06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5B92-607B-44F5-87DC-1AF1F970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39B4-99DE-45B8-9325-16E77F4F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06E1F-9569-41B3-BA04-75C27395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34D-59D2-4471-BFB6-781069E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3E2-B3AF-4229-BFFF-942C06BF9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7EE-AD00-445F-BE3F-E12B65FE8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A4A-080E-4038-BC61-2F3B537F8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B1B0-9C2D-427F-B487-4DC480430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E790-013B-4457-A0D1-A8AB2C58D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5C50-E448-444F-91A7-93DC86696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1D37-896E-4A20-BBFD-CF3748C86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8:27Z</dcterms:modified>
  <cp:revision>43</cp:revision>
  <dc:subject/>
  <dc:title>Dante’s Inferno</dc:title>
</cp:coreProperties>
</file>