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843-C500-4EC7-8544-B148E7F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73F-8450-44C3-A30C-F4463F78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6D6-121A-4A0E-A408-129DD20E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337-CD93-40BF-82B5-368DE4F4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F9C0-5B8B-424F-B705-D37BC5D3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A733-7886-41F1-8129-5AB9DD80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548F-97D0-426C-B237-5351A4E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CF6E-850A-4AA8-A0B4-3D6B62B6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23B3-86C0-419B-B85B-58C5159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998E-D440-4FE1-AC9C-2FB954B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4AF-62F7-4857-8DBB-26E7003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8B7-CE56-4060-B88D-28E5748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1F58-ADEF-4CAF-B637-ED0A9A0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197-959A-4EAD-8F0C-DAE5D76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62EC-A077-4EAC-80CD-0047D9AD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6495-38AB-4B60-98C6-3E3D2D24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FFF-1D1F-43B3-8C4D-DA8790E5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2F30-AE02-4FED-97DC-2F0C9187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6560-D7AE-49B4-BBCE-C13BC09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88E7-B63E-43E1-8541-38E5E474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2724-E25B-46BB-ADCD-CCA73AF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B7AC-C722-4231-8688-70181B5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8CE-B554-4D14-B250-1414A53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5245-BB1F-4F1B-A421-120988CA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E8D7-2A1C-436F-86AC-9933EC3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6077-3FA5-4B7C-B460-875D374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A7E2-AAA2-462E-B465-E5325AE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3E1B-A841-414A-AB35-01154528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0A97-4805-433F-A118-F91BED6A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D908-599C-43EF-A32E-A9DBE3B8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CE76-CDEE-45EF-A155-435362AD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1CE8-E063-4DFE-8B92-F2ADA79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2745-3398-41E7-99AD-632D2AA2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F5E-272A-40BF-B89E-1F73BB4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0987-733C-4620-B3A2-A7AE0923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5D4D-D51F-44D3-BF43-97176FF7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3448-75C8-403C-8DE6-E4D67DD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F8CD-0C10-4C08-8E76-3C7120B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DD4B-3D5B-48F0-BE14-EF1B06F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B936-42AC-4331-801F-0E6BE26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845D-ADCB-4C81-B3F1-DF813A61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4280-C8A3-4E65-A90C-1550861F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E524-E6FC-4191-9CE4-30E2D6FF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A127-C507-4C67-8986-5F07535C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3F0-23B9-4202-9022-2DEC947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DA1F-16B8-435C-A660-F1FFC63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C30A-C722-4104-BF76-8BE0336A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9A1D-96FE-4C5C-AA61-68EF06C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6C57-0944-41DC-9F5D-4CB367C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E7A7-DEBE-4D98-8DB5-1A66CA85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1F85-DD49-4357-B777-A176974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A036-A809-4099-93CF-68E5161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24AF-D335-4E08-BD94-9E289F2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131F-3B4F-4BE2-B664-7FE4697A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5C35A-80EC-4A4D-A2F9-9179BC8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A20-9BD8-42A0-8AA2-0AB0ED6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58C6-F3C6-4A5E-B891-AB8D51E1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BC05-E4CF-46EB-A3D2-5D51D873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DDE9-D403-4489-BF64-D91FD336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9BA4-5AC5-4FF5-8A15-010BB49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5FC7-4AB4-41DF-80AF-14DB026A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7833-8314-4C98-BF34-A8B7E847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30B6-6851-46EB-BB0A-3C0D574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D73E-7539-49D5-8C56-FC9624F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6B633-BDFF-41E8-B131-E81A70B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4022-AC07-42A2-B0C8-72ECA7B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081-19CA-4BF8-974B-D194BAE2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172B-7562-4A34-8D22-E35818FA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C29B-48E8-4D26-AC10-F44E036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8BFD-B640-40A4-B18C-8435D868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EBC5-0095-4F0E-A58D-901FF29D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A983-FA26-44A9-AB9E-F3F9F8A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1AAD-147B-4301-82E5-4B365C6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7EA33-9533-4710-B310-BDCED61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710A9-5CA5-4AB6-BF9C-B2237347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F106-7F5A-498F-8F86-4733E9D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3A02-8181-49F1-9BB6-7B444CD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D70-4C76-4878-9583-8EE69A1C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4F58-92A8-4DB5-AEAE-F01DB01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2200-F046-4F1B-B6C6-25465C6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A63B-157D-47C6-A273-0B3689FF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18869-60D1-4EA8-87EA-0569C25C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1212-8E5A-419A-8E98-52D502B1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D8C-8952-4309-90A0-3A1D6A1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125-039C-45BE-B59A-08968FD95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3E2-050A-4C5D-9803-8C4DC9755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3DF-8F30-45AA-B53A-584692410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B010-A137-4230-A9B5-CACFC967B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44F0-33F6-4462-B52D-8EF3387BA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6A6-901E-450C-A693-F58453F55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0583-5447-4529-8F84-3F5A991B5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8:27Z</dcterms:modified>
  <cp:revision>43</cp:revision>
  <dc:subject/>
  <dc:title>Dante’s Inferno</dc:title>
</cp:coreProperties>
</file>