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427D-8AE6-45A5-937D-45833909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1748-A904-40D6-A429-A07354F4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398B-0AB8-4D6A-809C-26B085571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A507-993C-46A7-AF6E-BE138BBF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FECF-D43C-4940-85F5-07FBA67F2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7906-CA5C-4D5F-8AE6-7AEC29F6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7157-1E2A-4368-BC34-033CAB58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9E59-6218-486F-A805-42CD2557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64B3-AA25-4C79-916E-5CDD5900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A37D-E4CA-4BC3-88BA-E5CAD3F4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4A8A-D3E9-456E-8207-11F91999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77F3-AFDD-4A3B-B358-E3B7E14F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1AC4-1610-4E2B-8F69-44A4144B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B70C-6B9D-484F-B847-3D82BD8D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B1FF-05CA-4F64-A63A-430638CB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F831-1230-47D9-B656-1F73A9599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742B-3F2A-42D0-9962-85D2A7D7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5C01-BF0A-4D23-9A72-0E1E793C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990A-67E6-47C3-889B-F5AC6E11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64A0-0BA4-4ACC-B32B-46FD732C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4D6A-8D66-4122-B579-7EC37637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4127-7B96-46FF-8DCF-B8265A50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B4B1-A492-4A30-A0A4-0B10F55C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C4E9-A0EA-46B5-A151-92FA32EB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7718-9881-4715-950A-7A87DE7C37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7D83-1506-4980-86B2-9E44955881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rachwal.wikispaces.com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msu.edu/~defores1/gre/roots/gre_rts_afx2.ht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ccsc.k12.in.us/hsmedia/hot_words_SAT.htm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quizlet.com/207969/100-most-common-sat-words-flash-cards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itical Rea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ntence Completion Strate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swer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rrect answer is (E)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Gradu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dieval kingdom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did no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become constitutional republic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overnigh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on the contrary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 the change wa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gradua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eps for Solving Sentence Comple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 the sentence careful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k of a word or words that will fit the blanks appropriate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through the five answer choices for the word.  If it’s not there, move on to the next ste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eps for Solving Sentence Comple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ine the sentence for clues to the missing wo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iminate any answers choices that are ruled out by the clu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he ones that are left and pick whichever is be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me to Practice our Mad Skills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go to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rachwal.wikispaces.co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go to the “SAT prep” page to find links to a few practice tests that the website will score for you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e at least three of the tes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d luck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entence Completion Questions Test Two Main Attributes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trength of your vocabula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general verbal ability, especially your ability to understand the logic of senten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0" y="3962520"/>
            <a:ext cx="36576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pa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improve your verbal ability, read as widely as you can and look up words you do not recogniz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nything: newspapers, articles, articulate blogs, short stories…just keep reading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114800" y="4572000"/>
            <a:ext cx="18367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pa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in and Greek Roo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://www.msu.edu/~defores1/gre/roots/gre_rts_afx2.h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many websites like the link above that list common prefixes, suffixes, and root words.  Study them; they will help you figure out words you don’t know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ans “bitter,” “sour”, or “sharp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cerb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ld woman smiled when children came to visit her in the nursing ho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do you think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cerbi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swer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⋅cer⋅b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əˈsɜr bɪk/ [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uh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sur-bik]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–ad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 or astringent in taste: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Lemon juice is acerb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sh or severe, as of temper or expression: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acerbic criticis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paration (continue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 Words Ho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nccsc.k12.in.us/hsmedia/hot_words_SAT.h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find these lists online or in any SAT prep boo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ite groups the words by defini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suggest you group the words in some way yourself, maybe even alphabetically, and work on them a chunk at a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ash cards are the bomb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pa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Quizle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ven has SAT word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quizlet.com/207969/100-most-common-sat-words-flash-cards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ntence Completion Question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section of questions will be preceded by a set of directions and an example for your referenc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ad the sent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oose the word or set of words that, when inserted in the sentence, best fits the meaning of the sente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ntence Completion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AMPLE QUES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dieval kingdoms did not become constitutional republics overnight; on the contrary, the change was ________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npopu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n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ad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9:10:06Z</dcterms:created>
  <dc:creator>NPSD</dc:creator>
  <dc:description/>
  <dc:language>en-US</dc:language>
  <cp:lastModifiedBy>NPSD</cp:lastModifiedBy>
  <dcterms:modified xsi:type="dcterms:W3CDTF">2010-01-28T19:55:07Z</dcterms:modified>
  <cp:revision>50</cp:revision>
  <dc:subject/>
  <dc:title>Critical Reading</dc:title>
</cp:coreProperties>
</file>