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ACB-CD0A-4C01-A0CA-73E088BD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721-2C41-4C91-A17B-862B98DD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D1B-4DB0-4A27-BDA0-4E76C202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8F1-D3FD-4D4D-817D-AB633D04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A411-14F7-4C5A-8D90-F5EA7FD3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EA93-5BC2-4B98-BE54-72CC7F2A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1C26-AC28-4AAE-A271-0444394C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5029-4150-4E14-AF78-09AF4DCA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E1AF-F076-4189-AFF4-DCFF9563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FB38-2967-4093-BA40-35A4293B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835A-77AE-4067-A91F-D72D9D8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1E7-B7B8-4468-A1A6-CC7138C7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D3FC-7DF4-4CA6-A1CF-ED7F599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EABE-37CE-4525-9635-812CDBF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1E9-8F7A-4D32-A221-8BA49AC9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B524-AC06-4BA3-8AAA-A685D199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FF0C-6C85-4825-A5FE-21118F8E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81A-3606-4B2C-B5D8-48C8BDA2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D97-0371-46CD-AC97-1FF254C3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0CB-92B4-4D63-95C5-7A3C99EF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723-C46D-4526-9911-4D7AF04F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9DE-FF48-4FE3-9D8D-E75CCB62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3C9-C8EC-4073-9428-04A9956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1B4-BA20-4D7D-AD85-4A16EEC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1223-D278-42EE-923A-AA34EE295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4DD5-1537-4F00-9F6E-09BFD5B754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chwal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msu.edu/~defores1/gre/roots/gre_rts_afx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ccsc.k12.in.us/hsmedia/hot_words_SAT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quizlet.com/207969/100-most-common-sat-words-flash-card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ical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 Completion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rrect answer is (E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adu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eval kingdo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d no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ecome constitutional republic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vernigh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 the contrar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the change w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radua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the sentence carefu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a word or words that will fit the blanks appropr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through the five answer choices for the word.  If it’s not there, move on to the next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the sentence for clues to the missing w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any answers choices that are ruled out by the cl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he ones that are left and pick whichever is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 to Practice our Mad Skill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go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rachwal.wikispaces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go to the “SAT prep” page to find links to a few practice tests that the website will score for you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at least three of the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ntence Completion Questions Test Two Main Attribu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rength of your vocabul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eneral verbal ability, especially your ability to understand the logic of sent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mprove your verbal ability, read as widely as you can and look up words you do not recogniz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nything: newspapers, articles, articulate blogs, short stories…just keep read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4572000"/>
            <a:ext cx="1836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in and Greek Ro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://www.msu.edu/~defores1/gre/roots/gre_rts_afx2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websites like the link above that list common prefixes, suffixes, and root words.  Study them; they will help you figure out words you don’t k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ans “bitter,” “sour”, or “shar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erb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ld woman smiled when children came to visit her in the nursing ho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 you think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cerb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⋅cer⋅b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əˈsɜr bɪk/ [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sur-bik]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–ad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 or astringent in tast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mon juice is acerb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sh or severe, as of temper or expression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cerbic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Words Ho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nccsc.k12.in.us/hsmedia/hot_words_SAT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find these lists online or in any SAT prep boo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ite groups the words by defin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suggest you group the words in some way yourself, maybe even alphabetically, and work on them a chunk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sh cards are the bomb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Quizl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ven has SAT word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quizlet.com/207969/100-most-common-sat-words-flash-cards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Ques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ection of questions will be preceded by a set of directions and an example for your refer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 the 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oose the word or set of words that, when inserted in the sentence, best fits the meaning of the sente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E QUES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eval kingdoms did not become constitutional republics overnight; on the contrary, the change was _______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pop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d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10:06Z</dcterms:created>
  <dc:creator>NPSD</dc:creator>
  <dc:description/>
  <dc:language>en-US</dc:language>
  <cp:lastModifiedBy>NPSD</cp:lastModifiedBy>
  <dcterms:modified xsi:type="dcterms:W3CDTF">2010-01-28T19:55:07Z</dcterms:modified>
  <cp:revision>50</cp:revision>
  <dc:subject/>
  <dc:title>Critical Reading</dc:title>
</cp:coreProperties>
</file>