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2246-368C-40D4-85C4-8CCE0862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FD68-9D33-405D-8475-F1E04F22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93BB-111B-406A-BD39-34686010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073A-AF7B-4DC8-BE27-190970A4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1496-96B5-4356-A617-89DADFA1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ACAE-B22A-46DD-9677-D26EB5A5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9D70-6BA8-4EA4-9DDA-FD9EE0EB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BB11-C27B-41CA-A6DA-02F3B4DF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DF71-4A3C-4060-9EBB-D9ECB178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4307-6A58-4430-8175-943480C2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9310-643B-4E99-8D34-A0B69145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CC58-FAC4-4B91-8778-2180BFDE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1ABD-DC5C-434E-A1DB-2C156515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7013-4B59-4532-ACB3-58ACAC58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8853-1066-48C5-BA99-8455E5D3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828D-C664-4D0A-9F93-F1A31836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1852-7E4A-4434-8FA2-4529E92A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0CA5-DEFC-4C09-B13E-DA23E523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6B82-706F-4342-99B0-D55015B7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6A79-2DBC-4EEB-8007-F98109A8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76F8-1C7E-4B7E-8AD3-E72DD21A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DFD-8AAB-4187-AB97-4C4C6AC5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E6BB-2D5B-4CF0-A161-C438E4B3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D82C-A20C-49D3-B076-1A236B73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9617-F6AA-4740-985C-D7CB24A071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8605-E211-420F-823A-5292A6A166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achwal.wikispaces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msu.edu/~defores1/gre/roots/gre_rts_afx2.ht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ccsc.k12.in.us/hsmedia/hot_words_SAT.ht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quizlet.com/207969/100-most-common-sat-words-flash-cards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itical Rea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tence Completion Strate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swe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rrect answer is (E)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radu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dieval kingdom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id no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become constitutional republic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vernigh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n the contrary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the change wa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gradua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eps for Solving Sentence Comple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 the sentence careful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k of a word or words that will fit the blanks appropriate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through the five answer choices for the word.  If it’s not there, move on to the next ste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eps for Solving Sentence Comple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ine the sentence for clues to the missing wo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any answers choices that are ruled out by the clu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he ones that are left and pick whichever is b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me to Practice our Mad Skills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go to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rachwal.wikispaces.co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go to the “SAT prep” page to find links to a few practice tests that the website will score for you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at least three of the tes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ntence Completion Questions Test Two Main Attribut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trength of your vocabul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general verbal ability, especially your ability to understand the logic of senten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0" y="396252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a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improve your verbal ability, read as widely as you can and look up words you do not recogniz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nything: newspapers, articles, articulate blogs, short stories…just keep reading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114800" y="4572000"/>
            <a:ext cx="1836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a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in and Greek Roo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://www.msu.edu/~defores1/gre/roots/gre_rts_afx2.h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many websites like the link above that list common prefixes, suffixes, and root words.  Study them; they will help you figure out words you don’t know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ans “bitter,” “sour”, or “sharp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cerb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ld woman smiled when children came to visit her in the nursing ho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do you think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cerbi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swe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⋅cer⋅b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əˈsɜr bɪk/ [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uh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sur-bik]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–ad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 or astringent in taste: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Lemon juice is acerb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sh or severe, as of temper or expression: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acerbic criticis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aration (continue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 Words Ho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nccsc.k12.in.us/hsmedia/hot_words_SAT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find these lists online or in any SAT prep boo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ite groups the words by defin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suggest you group the words in some way yourself, maybe even alphabetically, and work on them a chunk at a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ash cards are the bomb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a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Quizl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ven has SAT word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quizlet.com/207969/100-most-common-sat-words-flash-cards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ntence Completion Question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section of questions will be preceded by a set of directions and an example for your referen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ad the sent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oose the word or set of words that, when inserted in the sentence, best fits the meaning of the sente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ntence Completion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AMPLE QUES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eval kingdoms did not become constitutional republics overnight; on the contrary, the change was ________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popu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ad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9:10:06Z</dcterms:created>
  <dc:creator>NPSD</dc:creator>
  <dc:description/>
  <dc:language>en-US</dc:language>
  <cp:lastModifiedBy>NPSD</cp:lastModifiedBy>
  <dcterms:modified xsi:type="dcterms:W3CDTF">2010-01-28T19:55:07Z</dcterms:modified>
  <cp:revision>50</cp:revision>
  <dc:subject/>
  <dc:title>Critical Reading</dc:title>
</cp:coreProperties>
</file>