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2D6-2BD2-416B-B88B-92CDA102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F69-0D4D-46D7-B60A-0F2B3766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D90-F39C-4059-B02C-8C38C775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49B-BBD3-4133-A7EB-921CB48A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D5C2-368D-4280-B636-13FAC194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2226-19EB-4EDC-AB3B-9948AEEB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7003-1834-4229-8FD7-EC412827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2603-5AD4-46CF-A2DA-779995C5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0702-4B42-4D00-A2F5-FB9F50A0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954C-6BA0-4988-AA85-872BB68B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ECE7-E5F1-46D0-8ACC-C419C8B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07C-C928-4A9D-BA63-7945D440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BB2F-32F6-43E6-A222-CF170848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F96F-216F-4A4F-92DA-CB09B15D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927E-3CEB-4922-A49A-8B070B64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EEF0-C710-475A-A9CE-96C0EBCA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D4E9-D13C-42A6-A999-5AE2817E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702-E26D-4B8A-941B-1A4E0E55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6E6-36E2-4DEA-94C6-2272DFA8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28C-3B6C-4ACD-81BC-D32A0FEF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54B-11EB-4FCE-B75A-1CBE8B52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98D-7179-4484-84D0-41F52726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C04-7BAB-4864-BCE9-3F82A792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489-0141-4EF6-8A20-BB129059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2940-4FB1-43F5-BD7D-18AEA90F36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ADE5-8DE4-4781-B025-C41FA79BA9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chwal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msu.edu/~defores1/gre/roots/gre_rts_afx2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ccsc.k12.in.us/hsmedia/hot_words_SAT.ht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quizlet.com/207969/100-most-common-sat-words-flash-card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itical Re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tence Completion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rrect answer is (E)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radu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dieval kingdom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id no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become constitutional republic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vernigh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n the contrary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 the change w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radua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the sentence carefu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a word or words that will fit the blanks appropr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through the five answer choices for the word.  If it’s not there, move on to the next st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eps for Solving Sentence Comple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ine the sentence for clues to the missing w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any answers choices that are ruled out by the cl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he ones that are left and pick whichever is b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 to Practice our Mad Skill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go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rachwal.wikispaces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go to the “SAT prep” page to find links to a few practice tests that the website will score for you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at least three of the te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ntence Completion Questions Test Two Main Attribu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rength of your vocabul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general verbal ability, especially your ability to understand the logic of sente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mprove your verbal ability, read as widely as you can and look up words you do not recogniz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nything: newspapers, articles, articulate blogs, short stories…just keep read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14800" y="4572000"/>
            <a:ext cx="1836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in and Greek Ro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://www.msu.edu/~defores1/gre/roots/gre_rts_afx2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many websites like the link above that list common prefixes, suffixes, and root words.  Study them; they will help you figure out words you don’t k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ans “bitter,” “sour”, or “shar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cerb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ld woman smiled when children came to visit her in the nursing ho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do you think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cerb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⋅cer⋅b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əˈsɜr bɪk/ [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sur-bik]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–ad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 or astringent in taste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mon juice is acerb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sh or severe, as of temper or expression: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acerbic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 Words Ho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nccsc.k12.in.us/hsmedia/hot_words_SAT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find these lists online or in any SAT prep boo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ite groups the words by defin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suggest you group the words in some way yourself, maybe even alphabetically, and work on them a chunk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ash cards are the bomb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Quizl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ven has SAT word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quizlet.com/207969/100-most-common-sat-words-flash-cards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Ques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section of questions will be preceded by a set of directions and an example for your refere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d the 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oose the word or set of words that, when inserted in the sentence, best fits the meaning of the sente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tence Completion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MPLE QUES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eval kingdoms did not become constitutional republics overnight; on the contrary, the change was ________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popu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d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9:10:06Z</dcterms:created>
  <dc:creator>NPSD</dc:creator>
  <dc:description/>
  <dc:language>en-US</dc:language>
  <cp:lastModifiedBy>NPSD</cp:lastModifiedBy>
  <dcterms:modified xsi:type="dcterms:W3CDTF">2010-01-28T19:55:07Z</dcterms:modified>
  <cp:revision>50</cp:revision>
  <dc:subject/>
  <dc:title>Critical Reading</dc:title>
</cp:coreProperties>
</file>