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4F0-CAE0-434F-B661-E95B1133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7BA-F79E-49F7-8419-39C584D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ED9-5109-4D30-9E97-A0F2433E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0D8-590A-4AF2-9835-635F87E4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5F8B-A9A0-4DC4-AA25-BB64CB0C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511-B5A5-4C22-B71E-42C9457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A6E6-C56B-41D0-B50D-278F1B8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61B5-2B43-405F-AD7C-43688FB1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BD5B-A935-4B2A-914E-02448653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8CBB-6E63-4AB6-95EB-71324EB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C0EC-7F7F-461D-870A-3F7F3B3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AA7-1DC2-4288-9274-C56C2567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9C25-7C5D-4607-9B4E-0ECA224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A32A-80D9-4894-B9E0-7197A249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A338-A572-4D01-B783-7B064938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6284-87D9-4745-85E8-B78FAA56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6DCC-6A95-461F-9066-154905D4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448-1E7A-41BF-901F-21A104D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3B2-E5B4-4921-B506-19DAB051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8F4-D21E-4D9C-B7BC-F628266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956-A769-4276-A2E7-2EB87788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869-B387-4BA4-A165-5EC7F96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26D-A9D5-4847-B453-A610786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9D6-9BC7-43B2-A704-C472741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9169-EFF1-4219-AB56-6F7D1BA18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37DB-639E-4614-A5FB-0617AB93D9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chwal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su.edu/~defores1/gre/roots/gre_rts_afx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ccsc.k12.in.us/hsmedia/hot_words_SA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quizlet.com/207969/100-most-common-sat-words-flash-card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 Complet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ct answer is (E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a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eval kingdo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d n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ecome constitutional republic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vernigh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the contrar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e change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adu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sentence carefu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a word or words that will fit the blanks appropr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through the five answer choices for the word.  If it’s not there, move on to the next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the sentence for clues to the missing w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any answers choices that are ruled out by the c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ones that are left and pick whichever i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 our Mad Skill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rachwal.wikispace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go to the “SAT prep” page to find links to a few practice tests that the website will score for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t least three of the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tence Completion Questions Test Two Main Attribu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rength of your vocabul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eneral verbal ability, especially your ability to understand the logic of sent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your verbal ability, read as widely as you can and look up words you do not recogni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ything: newspapers, articles, articulate blogs, short stories…just keep read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836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in and Greek Ro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msu.edu/~defores1/gre/roots/gre_rts_afx2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websites like the link above that list common prefixes, suffixes, and root words.  Study them; they will help you figure out words you don’t k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“bitter,” “sour”, or “shar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erb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ld woman smiled when children came to visit her in the nursing h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thin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erb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⋅cer⋅b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əˈsɜr bɪk/ [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sur-bik]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–ad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 or astringent in tast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mon juice is acerb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sh or severe, as of temper or expression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cerbic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Words Ho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ccsc.k12.in.us/hsmedia/hot_words_SAT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find these lists online or in any SAT prep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ite groups the words by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suggest you group the words in some way yourself, maybe even alphabetically, and work on them a chunk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 cards are the bomb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Quiz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 has SAT word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quizlet.com/207969/100-most-common-sat-words-flash-card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Ques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ection of questions will be preceded by a set of directions and an example for your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the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ose the word or set of words that, when inserted in the sentence, best fits the meaning of the sent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eval kingdoms did not become constitutional republics overnight; on the contrary, the change was 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pop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0:06Z</dcterms:created>
  <dc:creator>NPSD</dc:creator>
  <dc:description/>
  <dc:language>en-US</dc:language>
  <cp:lastModifiedBy>NPSD</cp:lastModifiedBy>
  <dcterms:modified xsi:type="dcterms:W3CDTF">2010-01-28T19:55:07Z</dcterms:modified>
  <cp:revision>50</cp:revision>
  <dc:subject/>
  <dc:title>Critical Reading</dc:title>
</cp:coreProperties>
</file>