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7.jpeg" ContentType="image/jpeg"/>
  <Override PartName="/ppt/media/image6.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DE53F-A333-4262-AF1B-E3B1AAA3E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07733-E774-44FC-AC06-70996F6D9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3D501-54F4-4C52-9722-F7D914ED3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7B8CD-3984-44B4-B3ED-15519D400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39E45-AADD-440C-A72B-B50A8C6D1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539DF-46E3-4CC6-9D77-707F27EFF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3DB1A-F1D6-4031-8F2C-D6AFD0D6E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623DC-7C3F-4CE0-8804-7E5BFAEF0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5FE85-3A1D-4E65-8442-374BCDF1C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51CB5-C684-4500-8938-0168BE884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6E35B-E2F1-444B-969E-60A12D33B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4B097-7433-4944-ADE9-7B4773BAC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534AD-B89A-4527-B342-F39E54547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AA74F-A0BD-4EA0-80E9-CBEA3525E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4D5CF-B614-4823-9D4E-DC6A4535F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AB0BF-26EB-4F1B-8DA5-38C242256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F8E5F-4046-464F-A5D9-41F228AFF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172DFC-DB91-4131-9E86-299EF54557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9F3AA3-B926-41C4-95E6-7A7F3878C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7A0241-1BCE-4EED-85A2-A78E892AF0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44DAD-A4E8-43A6-90A5-54469F131F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7DE6BB-D388-4E40-B7D4-C35DFF79EA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A9576-06D0-4873-AC4C-D510366A8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7ADDDB-8B3C-4CE9-BF8D-F1E82C44A2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C3EB1-DCF4-4834-B617-72E949B0B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54597-0554-4AE6-BDFD-F438DDCCD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9873A-CD9C-4BC0-A875-0AD599D48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37CE3-A6E1-40F4-BBA5-38C90B684B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D60819-2EF2-4F91-8597-8A54F59D74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0266A-1B3B-4EFB-947C-0950CCB06F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9FD976-BD8A-471B-9854-D09EF1CCD5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034FE-8550-449F-A409-4C3A41015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8899E-FDBF-4DD9-BB0E-46D4E2221B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F10EA-498D-459F-8BD7-AE4D52D24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06314-43EB-4BB7-BDB7-088FF29F8B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C122D-AE41-445F-80A7-2552D74EDD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EE5AE-F4B7-4A67-9D30-44C13B4FD3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6541E-7754-4FD7-83DF-8E2552CB3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A0068-709C-4419-89DF-C05F11ECC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5D084-E6F6-4455-A622-11438388ED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16D1AD-C064-4B5E-9B9B-882E474DAD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0E1953-A13A-423F-95C0-B83816B3CE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AE2AA8-7E49-462E-A582-86E58A3F72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45D9CC-BA4D-4B32-943E-6DB1812044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59DC6-B283-4275-B8CD-D64864AA0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D5E703-68B0-451C-8612-ED3D4B311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DCE255-8153-4C0F-ABBE-41AABE7DC2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709C18-F93C-4FE4-ADCF-2E514924A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E88F22-13DC-492F-89D4-02356B8603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0CE00B-9B93-41DA-9F0E-1938397C83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573E2-7BEB-4CCC-AE77-6FBCEE810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03D74-6EBB-4E12-B52C-D89B3550E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E7EEDC-DC44-44A4-92F7-38DAA6122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5F4A4D-45DB-4D82-96FF-FB8FB5ADB4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4EE40D-47FC-46D0-8FC6-83E4BD59F3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BBC27-93E7-45F6-A995-F4B0AD37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4FC83C-D9C5-4B08-A37A-5F7A295FC2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FBA67B-AA5E-4108-8EEB-97CD173016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B1FFD2-E0F6-4308-9C55-68538E3AD0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5FB3A4-715F-4C94-9A10-BCF9B6CF50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38267C-F60E-4BD2-9849-BBC4DF2744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7C0DC4-FB32-447F-B12A-CFC4B7EA0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3860B8-4A5B-4BD7-8DB1-6DAB487615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FE8AB2-C0D8-4AA8-92DB-0CF421B65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41710C-0E05-4383-9A05-AB09C4784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EB9B5-9F07-4261-85FE-1ABE1CBB05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1A23-5FC0-4779-AA23-16ADD03D8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6703F0-896E-4C02-948A-70636ADAA7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D1C391-E912-4CFF-94EB-9B52FC71D0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0DE9E0-5960-4DBA-BB2E-EFBA52ACD0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1C6CC6-D4FF-4422-AEF5-88DF58AB94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1D37AA-1845-4CD8-9D93-9BC8B63738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4C4E2C-9210-45A0-98A4-233E9E69E6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B311A1-C69D-4ADC-8D0E-422CB49EDA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97F798-152A-4D9C-9CC1-F513AE4B05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558ED3-25F6-4C8C-9BD4-DDB5999EF9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21CA5-A553-41E3-8E4B-2721DC9FE3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650D-B0CD-420E-977E-FEEFB625E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CB8E4C-4DD7-49FD-93C9-26D25019A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12B1E-9205-4294-9E7D-3701C23806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D9AEDB-668D-4245-80C0-19CE4A3474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A866E4-82A2-49BE-90BC-E220AC9EB0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6A65B1-33FC-453C-A6D1-484963CAB6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78CDA-DF26-4333-BA4B-03F25082B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340F-E4F8-4FF3-8CCD-3912967F81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76F1-DC2B-4BB8-8DF4-6F7975E47A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AD5B-AB48-4B46-BF8C-3B4A5EFA06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BB1D-408D-41AB-B9A7-1100828F3B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A534-DDA3-4416-9EF9-8E47860D7F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D14C-7C19-4E0E-9AD6-B05FABED57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7297-9D51-4095-8B79-9C21E91C02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8.pn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666880" y="1351080"/>
            <a:ext cx="6477120" cy="4821120"/>
          </a:xfrm>
          <a:prstGeom prst="rect">
            <a:avLst/>
          </a:prstGeom>
          <a:ln w="0">
            <a:noFill/>
          </a:ln>
        </p:spPr>
      </p:pic>
      <p:sp>
        <p:nvSpPr>
          <p:cNvPr id="416" name=""/>
          <p:cNvSpPr/>
          <p:nvPr/>
        </p:nvSpPr>
        <p:spPr>
          <a:xfrm>
            <a:off x="3657600" y="2895480"/>
            <a:ext cx="41911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Lucida Calligraphy"/>
              </a:rPr>
              <a:t>Sanjida Nasri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17" name="" descr=""/>
          <p:cNvPicPr/>
          <p:nvPr/>
        </p:nvPicPr>
        <p:blipFill>
          <a:blip r:embed="rId2"/>
          <a:stretch/>
        </p:blipFill>
        <p:spPr>
          <a:xfrm>
            <a:off x="3657600" y="6324480"/>
            <a:ext cx="304920" cy="30492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17"/>
                    </p:tgtEl>
                  </p:cond>
                </p:stCondLst>
                <p:childTnLst>
                  <p:par>
                    <p:cTn id="3" fill="hold">
                      <p:stCondLst>
                        <p:cond evt="onClick">
                          <p:tgtEl>
                            <p:spTgt spid="417"/>
                          </p:tgtEl>
                        </p:cond>
                      </p:stCondLst>
                      <p:childTnLst>
                        <p:par>
                          <p:cTn id="4" fill="hold">
                            <p:stCondLst>
                              <p:cond delay="0"/>
                            </p:stCondLst>
                            <p:childTnLst>
                              <p:par>
                                <p:cTn id="5" nodeType="clickEffect" fill="hold" presetClass="mediacall" presetID="1">
                                  <p:stCondLst>
                                    <p:cond delay="0"/>
                                  </p:stCondLst>
                                  <p:childTnLst>
                                    <p:cmd type="call" cmd="playFrom(0.0)">
                                      <p:cBhvr>
                                        <p:cTn id="6" dur="1679" fill="hold"/>
                                        <p:tgtEl>
                                          <p:spTgt spid="4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he punishment in level B is to stay in a hot room with fire all around.</a:t>
            </a:r>
            <a:endParaRPr b="0" lang="en-US" sz="3200" spc="-1" strike="noStrike">
              <a:solidFill>
                <a:srgbClr val="000000"/>
              </a:solidFill>
              <a:latin typeface="Arial"/>
            </a:endParaRPr>
          </a:p>
        </p:txBody>
      </p:sp>
      <p:sp>
        <p:nvSpPr>
          <p:cNvPr id="460"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1"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2"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think the people in level B deserve this punishment because these people tortured others.   </a:t>
            </a:r>
            <a:endParaRPr b="0" lang="en-US" sz="3200" spc="-1" strike="noStrike">
              <a:solidFill>
                <a:srgbClr val="000000"/>
              </a:solidFill>
              <a:latin typeface="Arial"/>
            </a:endParaRPr>
          </a:p>
        </p:txBody>
      </p:sp>
      <p:sp>
        <p:nvSpPr>
          <p:cNvPr id="465"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Frauds</a:t>
            </a:r>
            <a:endParaRPr b="0" lang="en-US" sz="3600" spc="-1" strike="noStrike">
              <a:solidFill>
                <a:srgbClr val="000000"/>
              </a:solidFill>
              <a:latin typeface="Arial"/>
            </a:endParaRPr>
          </a:p>
        </p:txBody>
      </p:sp>
      <p:sp>
        <p:nvSpPr>
          <p:cNvPr id="468"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9"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1" name="" descr=""/>
          <p:cNvPicPr/>
          <p:nvPr/>
        </p:nvPicPr>
        <p:blipFill>
          <a:blip r:embed="rId1"/>
          <a:stretch/>
        </p:blipFill>
        <p:spPr>
          <a:xfrm>
            <a:off x="3886200" y="2362320"/>
            <a:ext cx="396252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4"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5"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2895480" y="1600200"/>
            <a:ext cx="60199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C is fraud. Fraud is  damage done to another individual. Fraud can be committed through mail, phone, and internet. The people in this level is Johnny, Maya, and Jul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unishment in level C is that both of your hands will be tied tighten with a strong rope.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81"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2"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feel that frauds deserve this punishment because they did harm to other people.</a:t>
            </a:r>
            <a:endParaRPr b="0" lang="en-US" sz="3200" spc="-1" strike="noStrike">
              <a:solidFill>
                <a:srgbClr val="000000"/>
              </a:solidFill>
              <a:latin typeface="Arial"/>
            </a:endParaRPr>
          </a:p>
        </p:txBody>
      </p:sp>
      <p:sp>
        <p:nvSpPr>
          <p:cNvPr id="485"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Calligraphy"/>
              </a:rPr>
              <a:t>	</a:t>
            </a:r>
            <a:r>
              <a:rPr b="0" lang="en-US" sz="2000" spc="-1" strike="noStrike">
                <a:solidFill>
                  <a:srgbClr val="ffffff"/>
                </a:solidFill>
                <a:latin typeface="Lucida Calligraphy"/>
              </a:rPr>
              <a:t>I learned  that hell is a very bad place to be. I will make sure that I never commit gluttony which is eating too much food. Another sin I will make sure I do not commit violence which is injury or abuse to another person or people. Final sin I will make sure I do not commit is fraud which is damage to another individual. In conclusion hell is </a:t>
            </a:r>
            <a:r>
              <a:rPr b="0" lang="en-US" sz="2000" spc="-1" strike="noStrike" u="sng">
                <a:solidFill>
                  <a:srgbClr val="ffffff"/>
                </a:solidFill>
                <a:uFillTx/>
                <a:latin typeface="Lucida Calligraphy"/>
              </a:rPr>
              <a:t>not</a:t>
            </a:r>
            <a:r>
              <a:rPr b="0" lang="en-US" sz="2000" spc="-1" strike="noStrike">
                <a:solidFill>
                  <a:srgbClr val="ffffff"/>
                </a:solidFill>
                <a:latin typeface="Lucida Calligraphy"/>
              </a:rPr>
              <a:t> a fun place to be.</a:t>
            </a:r>
            <a:endParaRPr b="0" lang="en-US" sz="2000" spc="-1" strike="noStrike">
              <a:solidFill>
                <a:srgbClr val="000000"/>
              </a:solidFill>
              <a:latin typeface="Arial"/>
            </a:endParaRPr>
          </a:p>
        </p:txBody>
      </p:sp>
      <p:sp>
        <p:nvSpPr>
          <p:cNvPr id="48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Barack Obama</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600" spc="-1" strike="noStrike">
                <a:solidFill>
                  <a:srgbClr val="ffffff"/>
                </a:solidFill>
                <a:latin typeface="Times New Roman"/>
              </a:rPr>
              <a:t>Barack Obama is the 44th President of the United States. In January 2009, he became the President of the United States, and the first African-American ever elected to that position. He was born on August 4, 196 in Hawaii. He has two daughters named Malia Obama and Sasha Obama. In October 2009,  he won the Nobel Peace Prize. He enjoys playing basketball.</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0" name="" descr=""/>
          <p:cNvPicPr/>
          <p:nvPr/>
        </p:nvPicPr>
        <p:blipFill>
          <a:blip r:embed="rId1"/>
          <a:stretch/>
        </p:blipFill>
        <p:spPr>
          <a:xfrm>
            <a:off x="4495680" y="3814920"/>
            <a:ext cx="2514600" cy="235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Sanjida Nasri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y name is Sanjida Nasrin. I am in tenth grade. I go to North Penn High School. I am sixteen years old. My favorite food is pizza. My favorite color is purple. My favorite subject in school is math. </a:t>
            </a:r>
            <a:endParaRPr b="0" lang="en-US" sz="2000" spc="-1" strike="noStrike">
              <a:solidFill>
                <a:srgbClr val="000000"/>
              </a:solidFill>
              <a:latin typeface="Arial"/>
            </a:endParaRPr>
          </a:p>
        </p:txBody>
      </p:sp>
      <p:pic>
        <p:nvPicPr>
          <p:cNvPr id="423" name="" descr=""/>
          <p:cNvPicPr/>
          <p:nvPr/>
        </p:nvPicPr>
        <p:blipFill>
          <a:blip r:embed="rId1"/>
          <a:stretch/>
        </p:blipFill>
        <p:spPr>
          <a:xfrm>
            <a:off x="2743200" y="4648320"/>
            <a:ext cx="1752480" cy="1328760"/>
          </a:xfrm>
          <a:prstGeom prst="rect">
            <a:avLst/>
          </a:prstGeom>
          <a:ln w="0">
            <a:noFill/>
          </a:ln>
        </p:spPr>
      </p:pic>
      <p:pic>
        <p:nvPicPr>
          <p:cNvPr id="424" name="" descr=""/>
          <p:cNvPicPr/>
          <p:nvPr/>
        </p:nvPicPr>
        <p:blipFill>
          <a:blip r:embed="rId2"/>
          <a:stretch/>
        </p:blipFill>
        <p:spPr>
          <a:xfrm>
            <a:off x="6885000" y="4724280"/>
            <a:ext cx="2259000" cy="1309680"/>
          </a:xfrm>
          <a:prstGeom prst="rect">
            <a:avLst/>
          </a:prstGeom>
          <a:ln w="0">
            <a:noFill/>
          </a:ln>
        </p:spPr>
      </p:pic>
      <p:pic>
        <p:nvPicPr>
          <p:cNvPr id="425" name="" descr=""/>
          <p:cNvPicPr/>
          <p:nvPr/>
        </p:nvPicPr>
        <p:blipFill>
          <a:blip r:embed="rId3"/>
          <a:stretch/>
        </p:blipFill>
        <p:spPr>
          <a:xfrm>
            <a:off x="4876920" y="3581280"/>
            <a:ext cx="2057400" cy="154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7" name="PlaceHolder 2"/>
          <p:cNvSpPr>
            <a:spLocks noGrp="1"/>
          </p:cNvSpPr>
          <p:nvPr>
            <p:ph/>
          </p:nvPr>
        </p:nvSpPr>
        <p:spPr>
          <a:xfrm>
            <a:off x="3124080" y="152388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6600"/>
                </a:solidFill>
                <a:uFillTx/>
                <a:latin typeface="Arial"/>
              </a:rPr>
              <a:t>Gluttony</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 descr=""/>
          <p:cNvPicPr/>
          <p:nvPr/>
        </p:nvPicPr>
        <p:blipFill>
          <a:blip r:embed="rId3"/>
          <a:stretch/>
        </p:blipFill>
        <p:spPr>
          <a:xfrm>
            <a:off x="2819520" y="2201760"/>
            <a:ext cx="6095880" cy="33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3124080" y="1676520"/>
            <a:ext cx="5486400" cy="46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A is glutton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erson who eats or consumes immoderate amounts of food and drinks are in this level. The people in this level is Billy, Bob, and Ev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
          <p:cNvSpPr/>
          <p:nvPr/>
        </p:nvSpPr>
        <p:spPr>
          <a:xfrm>
            <a:off x="3048120" y="1523880"/>
            <a:ext cx="5486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3124080" y="160020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nly meal you will receive</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level A is bread and wa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2"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3"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I think it is unhealthy to eat too much food and it is bad for your health. I feel that people who indulged too much food deserve this punish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Violence</a:t>
            </a:r>
            <a:endParaRPr b="0" lang="en-US" sz="4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44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50"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52" name="" descr=""/>
          <p:cNvPicPr/>
          <p:nvPr/>
        </p:nvPicPr>
        <p:blipFill>
          <a:blip r:embed="rId3"/>
          <a:stretch/>
        </p:blipFill>
        <p:spPr>
          <a:xfrm>
            <a:off x="4267080" y="2514600"/>
            <a:ext cx="335304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400" spc="-1" strike="noStrike">
                <a:solidFill>
                  <a:srgbClr val="ffffff"/>
                </a:solidFill>
                <a:latin typeface="Arial"/>
              </a:rPr>
              <a:t>The crime in level B is violence. Violence is the physical force to injure or abuse another person. The people in this level is Brian, Molly, and Ashely.</a:t>
            </a:r>
            <a:endParaRPr b="0" lang="en-US" sz="2400" spc="-1" strike="noStrike">
              <a:solidFill>
                <a:srgbClr val="000000"/>
              </a:solidFill>
              <a:latin typeface="Arial"/>
            </a:endParaRPr>
          </a:p>
        </p:txBody>
      </p:sp>
      <p:sp>
        <p:nvSpPr>
          <p:cNvPr id="455"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6"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6:31:31Z</dcterms:modified>
  <cp:revision>48</cp:revision>
  <dc:subject/>
  <dc:title>Dante’s Inferno</dc:title>
</cp:coreProperties>
</file>