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2DE2-72F0-4CF1-A451-D10E78D82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slide. For later– you’ve heard about them, can you spo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entence is tricky because of the compound subject, which makes “side” easily confused for the sub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E64-621D-4D76-94EE-74AB972E1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9E78-6E2D-497F-89EB-A9483BDD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7FBD-8F15-414D-936A-9C021ED4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36C7-06E1-49B8-92AA-6F6E4BC4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3A57-079D-4F8D-A17D-35EAE0FC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DF87-D02E-49E3-9659-F09F99F7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EA9D-2CCB-4543-B923-2129511F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8FCE-FFF0-483A-B72D-379CE80A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4590-4F63-48E0-A85E-5276BABF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E727-A09F-435E-93C7-ADB6BFE7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DCAA-689F-4CCC-9625-E49A6EC7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1513-7838-4B0D-A308-60AEB294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2F7C-E632-42B8-8B71-3ED04B7F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1974-24A1-45CC-BC14-55EEF2F5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C7A9-7673-49EB-A20F-25D2CA68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8D03-9386-4813-A1BD-FA17AA93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93A6-316E-4246-AD44-FB0D2938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6FE1-85C6-4E51-AA02-0DC382C3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9019-7A4A-4AB1-B5E9-14AB95D2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08BC-4F8F-4B46-84D4-3C6F739B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58C3-6CB1-4B2A-975E-4151F82C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B070-404A-4C21-BC87-42AE4523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ABA-892F-4674-8404-971D845C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EA91-40DA-4165-BD36-A3AD4151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D23F-C140-48CA-9B82-080C52CE77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9BB4-61AE-4A69-AEC8-C0F35DA76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Subject-Verb Agreement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paghetti and meatbal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s a place on many men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paghetti and meatbal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cting as a unit, as a singular su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ing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Each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Ev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ac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singular pronou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fore, they require singular verb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lying sauce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low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81280" y="4952880"/>
            <a:ext cx="1371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ing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Each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Ev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WA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lways use a singular verb wi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ach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even if they precede subjects joined b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ac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ien hand and foo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eav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distinct pri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14800" y="5029200"/>
            <a:ext cx="1270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pound Subjects Joined By Words Like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Or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 when your subjects are joined by the following wo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ither . . . 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ither . . . nor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only . . . but (also)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pound Subjects Joined By Words Like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such cases, the verb agrees with the subject nearest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                                                 Either the instructors or the student knows the answ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to ignore everything before the final su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pound Subjects Joined By Words Like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ither the instructors or 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know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answ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ingular subjec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quires the singular verb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know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2286000"/>
            <a:ext cx="38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86240" y="2819520"/>
            <a:ext cx="857160" cy="971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876920" y="2666880"/>
            <a:ext cx="1790640" cy="2438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952880" y="266688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2438280"/>
            <a:ext cx="198108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48769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724280" y="2514240"/>
            <a:ext cx="1981440" cy="243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f the Subject is an Indefinite Pronoun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definite Pronou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fer to nonspecific people or things.  They are usuall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requi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erb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f the Subject is an Indefinite Pronoun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llowing common Indefinite Pronouns usually take singular verb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other     each       everything     nothing anybody    either     neither           somebody anyone      every       nobody          someone anything   everyone   no one         something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f the Subject is an Indefinite Pronoun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WARE!  A few indefinite pronouns—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one, some, more, most, any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—can be either singular or plural, depending on the contex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our stream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luted;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m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lutio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versible, bu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lutio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threat to n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43800" y="3581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king Verbs Agree With the Antecedents of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, Which, and Th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o, Which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T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arts a clause, the verb agrees with the noun or pronoun to whic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o, Which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T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fers (it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teced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eep Your Eyes Ope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help avoid these errors, we will discuss: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ow to make Subjects and Verbs agree in number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at to do with tricky subjects like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ac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at to do with compound su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 to spot and correct these errors and become a believ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king Verbs Agree With the Antecedents of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, Which, and Th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cientist will share information with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o work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rge Jones is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 who work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la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ing Singular Verbs with Titles and Term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tles and terms are treated as singular subjects–even if they contain plural word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es Miserables 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popular musical.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isciplinary measures” i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euphemism for punish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You’ve Been Warn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 if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spot Subject-Verb Agreement err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ubjec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erb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ust agree in nu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 with subjects lik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ach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—these are singul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y close attention to subjects joined with words lik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—these subjects can be either singular or plur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formation Cited and Paraphrased fro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oyka, Lynn Q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Quick Access: Referenc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or Writ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d. New Jers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ntice Hall, 200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ognizing Subjects and Verb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omplete sentence must have a SUBJECT and a VER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bj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at performs the a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r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action wor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pot the Subject and Verb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ayers on our side are str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lay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n our si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r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Player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is the subject and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is the verb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ce you’ve identifi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bj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r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you have to make sure they agree i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gular subjects require singular verbs and plural subjects require plural verb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Next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easy way to make your subjects and verbs agree is to think about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, plura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ou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nd with the lette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singula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ou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 n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bs are the opposi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he most part, singula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verb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nd with the lette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plura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verb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 n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refore . . .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, but the car ru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ural nou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a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akes the plural verb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u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There is only on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pai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ingular nou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akes the singular verb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u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Again, There is only on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pai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W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ound subjects do not end wi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ead, compound subjects consist of two or more subjects joined b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treat these subjects like any other plural su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 and the instru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ork long h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W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 and the instru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ork long h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bject consists of two people.  Therefore, it is plur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629400" y="3200400"/>
            <a:ext cx="2070000" cy="2819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010120" y="3371760"/>
            <a:ext cx="8571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W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subjects are joined b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combine to form a single thing or person, they are treated like a singular subjec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a singular verb with such compound subj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1T14:35:54Z</dcterms:created>
  <dc:creator>Undergraduate Studies</dc:creator>
  <dc:description/>
  <dc:language>en-US</dc:language>
  <cp:lastModifiedBy>NPSD</cp:lastModifiedBy>
  <dcterms:modified xsi:type="dcterms:W3CDTF">2010-02-18T21:10:33Z</dcterms:modified>
  <cp:revision>52</cp:revision>
  <dc:subject/>
  <dc:title>Subject-Verb Agreement</dc:title>
</cp:coreProperties>
</file>