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EC8B-D981-4267-880C-BD14CFB38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slide. For later– you’ve heard about them, can you spo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entence is tricky because of the compound subject, which makes “side” easily confused for the su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A40-B9F1-4DBC-BB38-97E8E76A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936-6DA6-4114-AE70-2B5FC653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B78-B39F-47D5-B8FA-C6E7960C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9DD-78E0-41BD-9AB1-69CCFE73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4126-58DA-49E6-8CEC-6DC669E8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16B4-56E2-472F-859B-28675235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EB2C-3B06-41B1-B89A-7D306FF4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3979-E7AC-401B-9402-8AA384FB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701F-9662-42AA-9430-A8E81CF9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050B-5719-49D2-B7C1-B67EE28B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7F8A-8215-454B-95E2-B8DD19CC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A14-2AE8-43B4-8B02-A5B06E76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DA8F-ABDF-422D-A691-BE25C144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B705-6AD3-47CD-A1BD-AA8886C6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328D-C21E-446B-9ADF-FEB4E219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37A0-A08D-4EB0-8EC7-95B29AA3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3E7F-28C1-47BF-BE38-B2C7B32C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3B3-2629-4361-9BD6-AA6E5374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32D-07C4-4599-9204-F8BBEAA7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826-0410-4F0B-A147-2BB10980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440-5154-4F9C-A26F-0CC66C8E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0F0-3AA1-4A65-88C8-21D1569B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19F-75D8-40A4-9D5C-3EDFFCBE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084-EEE2-4730-BFA1-DE25CCD4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B850-D568-4D12-BA5E-AAE33D78B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A858-3B85-4FAE-A5B5-955158E0F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Subject-Verb Agreement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aghetti and meatbal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a place on many men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aghetti and meatbal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cting as a unit, as a singular su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ac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singular pro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, they require singular ver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ying sauc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low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ac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A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lways use a singular verb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even if they precede subjects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ien hand and foo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distinct pri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14800" y="5029200"/>
            <a:ext cx="1270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when your subjects are joined by the following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ther . . . 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ther . . . n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only . . . but (also)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uch cases, the verb agrees with the subject nearest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                                                 Either the instructors or the student knows the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ignore everything before the final su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ther the instructors or 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n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ngular subjec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quires the singular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n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28600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86240" y="2819520"/>
            <a:ext cx="857160" cy="971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1790640" cy="243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52880" y="26668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2438280"/>
            <a:ext cx="198108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76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724280" y="2514240"/>
            <a:ext cx="198144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definite Pro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fer to nonspecific people or things.  They are usuall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requi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common Indefinite Pronouns usually take singular verb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ther     each       everything     nothing anybody    either     neither           somebody anyone      every       nobody          someone anything   everyone   no one         something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ARE!  A few indefinite pronouns—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ne, some, more, most, any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can be either singular or plural, depending on the contex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our stre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ed;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versible, bu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threat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43800" y="3581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ing Verbs Agree With the Antecedents of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, Which, and Th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, Which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rts a clause, the verb agrees with the noun or pronoun to whic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, Which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fers (it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tece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ep Your Eyes Op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elp avoid these errors, we will discuss: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to make Subjects and Verbs agree in number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to do with tricky subjects lik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to do with compound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to spot and correct these errors and become a belie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ing Verbs Agree With the Antecedents of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, Which, and Th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cientist will share information with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 work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rge Jones i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who work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la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Singular Verbs with Titles and Ter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s and terms are treated as singular subjects–even if they contain plural word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s Miserables 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popular musical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sciplinary measures” 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euphemism for punish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’ve Been Warn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if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spot Subject-Verb Agreement err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je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ust agree in nu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with subjects li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these are singu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y close attention to subjects joined with words li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these subjects can be either singular or pl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on Cited and Paraphrased fr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oyka, Lynn Q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Quick Access: Referen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 Writ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d. New Jers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ntice Hall, 200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gnizing Subjects and Verb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plete sentence must have a SUBJECT and a VER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performs the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ction wo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ot the Subject and Ver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yers on our side are st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ay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n our si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layer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the subject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the ver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you’ve identifi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you have to make sure they agree i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ular subjects require singular verbs and plural subjects require plural ver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asy way to make your subjects and verbs agree is to think about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, plur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d with the lett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sin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bs are the opposi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most part, sin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d with the lett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plur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refore . . 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, but the car ru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ural nou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kes the plural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u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There is only o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ngular nou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kes the singular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Again, There is only o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und subjects do not end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ead, compound subjects consist of two or more subjects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treat these subjects like any other plural su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and the instr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long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and the instr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long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bject consists of two people.  Therefore, it is pl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2070000" cy="2819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0120" y="3371760"/>
            <a:ext cx="857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subjects are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combine to form a single thing or person, they are treated like a singular subjec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 singular verb with such compound sub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4:35:54Z</dcterms:created>
  <dc:creator>Undergraduate Studies</dc:creator>
  <dc:description/>
  <dc:language>en-US</dc:language>
  <cp:lastModifiedBy>NPSD</cp:lastModifiedBy>
  <dcterms:modified xsi:type="dcterms:W3CDTF">2010-02-18T21:10:33Z</dcterms:modified>
  <cp:revision>52</cp:revision>
  <dc:subject/>
  <dc:title>Subject-Verb Agreement</dc:title>
</cp:coreProperties>
</file>