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C047-5770-431A-9DB8-0E4451A3E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slide. For later– you’ve heard about them, can you spo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entence is tricky because of the compound subject, which makes “side” easily confused for the su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F85-4990-4D4A-B7AE-3C37CB50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E87-A310-489E-BA0E-1700F8AA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BAC-88BF-4674-B03E-AC9B8F49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4B6-4C65-4A77-B5FA-DA27F637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99BE-CF70-4AFC-BBE0-7D2E8BDA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F7C8-A847-4E57-9781-05E5EC50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2077-4769-4FEC-B183-A9CA543D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F3A3-468F-4E65-9CD2-D19D7A3E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C70A-4451-4021-B65B-8D72304E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1A75-6A90-442B-8C57-EBC85D6D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564E-F14F-46BD-8A10-74B332F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D1E-400E-42CE-8EA8-25882B53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89CF-5FAF-4E06-B5BC-05819E4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3B33-462A-4BFA-9E7F-4699F27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199B-F95A-48F4-975D-E7A1190D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6699-1682-4385-BE30-3B78BD8F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EA19-E0E7-47A5-A1C6-857156C4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D59-5497-4334-9DE0-7906EC79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E31-6977-4934-B5A8-24B7FD86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0B8-7EAA-4F84-B997-E2DB5D81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0A0-36DD-4112-BDA1-0DCA4E98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34F-FA31-4DC3-80EC-C375204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00C-42CE-49DD-885A-2C015339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B3B-9DE8-4303-8807-11056BF5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209B-0C4C-4E82-A5FC-7AC1FAA5D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0D7C-E175-40F4-86DC-3DCCF2A0F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Subject-Verb Agreemen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a place on many men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cting as a unit, as a singular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singular pro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they require singular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ying sauc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low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lways use a singular verb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ven if they preced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ien hand and foo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distinct pr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1270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hen your subjects are joined by the follow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. . . 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ther . . . 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only . . . but (also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uch cases, the verb agrees with the subject neare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                                                 Either the instructors or the student knows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ignore everything before the final 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the instructors or 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subj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quir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2860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86240" y="2819520"/>
            <a:ext cx="857160" cy="971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1790640" cy="243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2880" y="2666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2438280"/>
            <a:ext cx="198108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724280" y="2514240"/>
            <a:ext cx="198144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definite Pro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 to nonspecific people or things.  They are usuall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requi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common Indefinite Pronouns usually take singular verb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ther     each       everything     nothing anybody    either     neither           somebody anyone      every       nobody          someone anything   everyone   no one         something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  A few indefinite pronouns—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ne, some, more, most, any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can be either singular or plural, depending on the contex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our stre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ed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versible, bu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threat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43800" y="3581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rts a clause, the verb agrees with the noun or pronoun to whic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s (i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tece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ep Your Eyes Op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avoid these errors, we will discuss: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to make Subjects and Verbs agree in number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tricky subjects lik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compound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to spot and correct these errors and become a belie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ientist will share information with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 work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rge Jones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who wor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Singular Verbs with Titles and Ter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s and terms are treated as singular subjects–even if they contain plural word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s Miserables 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popular musical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ciplinary measures” 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uphemism for pun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’ve Been Warn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if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spot Subject-Verb Agreement err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st agree in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ith subject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are singu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y close attention to subjects joined with word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subjects can be either singular or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 Cited and Paraphrased fr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yka, Lynn Q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ick Access: Referen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 Wri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d. New Jers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ntice Hall, 200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gnizing Subjects and Ver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plete sentence must have a SUBJECT and a VER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performs th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ction wo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ot the Subject and Ver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s on our side are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our si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subject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ver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you’ve identifi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you have to make sure they agree i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ular subjects require singular verbs and plural subjects require plural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asy way to make your subjects and verbs agree is to think about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,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bs are the oppos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most part,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refore . . 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, but the car ru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ural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plural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Again,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und subjects do not end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, compound subjects consist of two or mor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reat these subjects like any other plural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ject consists of two people.  Therefore, it is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070000" cy="2819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0120" y="3371760"/>
            <a:ext cx="857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ubjects are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combine to form a single thing or person, they are treated like a singular subjec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singular verb with such compound su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35:54Z</dcterms:created>
  <dc:creator>Undergraduate Studies</dc:creator>
  <dc:description/>
  <dc:language>en-US</dc:language>
  <cp:lastModifiedBy>NPSD</cp:lastModifiedBy>
  <dcterms:modified xsi:type="dcterms:W3CDTF">2010-02-18T21:10:33Z</dcterms:modified>
  <cp:revision>52</cp:revision>
  <dc:subject/>
  <dc:title>Subject-Verb Agreement</dc:title>
</cp:coreProperties>
</file>