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6805-0BCD-40EB-8AC8-2C3DEB0F6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slide. For later– you’ve heard about them, can you spo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entence is tricky because of the compound subject, which makes “side” easily confused for the su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A16-96D9-4BA3-9761-E485BCC2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16A-58D4-4D16-98F9-75748098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4D6-D614-4CFF-AE13-2F4CC27A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05F-B430-4007-9F01-5BD4E871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7DDA-F661-491A-B596-208F3FA5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A97B-9756-4A4E-AC47-961AD4D7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8CE6-9142-4597-A986-EDE21023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E78B-E2E3-4BA8-8C30-BB4525FD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267B-47F4-436E-AFD8-25969947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04C9-4457-4D6C-BD9F-56D0623A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7875-1313-493E-8C2F-FCAF44FD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3F9-63A1-4166-97B1-16C91928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79CA-9AE7-4574-855E-CFAB6D33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47AC-0E13-4D96-89A8-DE0CD505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4AFD-5C71-4CE5-869C-FB6E751E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E83A-CA89-4496-A3C6-C915CDD4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8614-B601-498C-A182-C24959BE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089-A3E9-4100-8C5B-287CBBAC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113-B6B0-42C9-8402-01B9A0D3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906-835A-4648-B296-05464E5F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EF3-F345-49B4-B3B9-D1D3E534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64F-1445-40F0-8025-70B9C692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F81-79DA-4E03-B8F1-8EE155CB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992-F939-417B-8F09-3237269C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C04F-8608-4BDF-9EA3-8F2407BCB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0277-E191-48A9-8834-D213EAD3D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Subject-Verb Agreement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aghetti and meatbal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a place on many men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aghetti and meatbal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cting as a unit, as a singular su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ac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v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singular pro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fore, they require singular ver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ying sauc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low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ac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v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WA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lways use a singular verb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even if they precede subjects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ien hand and foo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distinct pri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14800" y="5029200"/>
            <a:ext cx="1270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 when your subjects are joined by the following wo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ther . . . 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ther . . . n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only . . . but (also)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uch cases, the verb agrees with the subject nearest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                                                 Either the instructors or the student knows the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o ignore everything before the final su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ther the instructors or 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no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ngular subjec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quires the singular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no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28600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86240" y="2819520"/>
            <a:ext cx="857160" cy="971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1790640" cy="243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52880" y="266688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2438280"/>
            <a:ext cx="198108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876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724280" y="2514240"/>
            <a:ext cx="198144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definite Pro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fer to nonspecific people or things.  They are usuall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requi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common Indefinite Pronouns usually take singular verb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other     each       everything     nothing anybody    either     neither           somebody anyone      every       nobody          someone anything   everyone   no one         something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WARE!  A few indefinite pronouns—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ne, some, more, most, any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can be either singular or plural, depending on the contex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our stre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ed;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versible, bu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threat to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43800" y="3581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king Verbs Agree With the Antecedents of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, Which, and Th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, Which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rts a clause, the verb agrees with the noun or pronoun to whic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, Which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fers (it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tece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ep Your Eyes Op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help avoid these errors, we will discuss: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w to make Subjects and Verbs agree in number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to do with tricky subjects lik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to do with compound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to spot and correct these errors and become a belie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king Verbs Agree With the Antecedents of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, Which, and Th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cientist will share information with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 work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rge Jones is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who work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la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Singular Verbs with Titles and Ter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s and terms are treated as singular subjects–even if they contain plural word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s Miserables 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popular musical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sciplinary measures” 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euphemism for punish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You’ve Been Warn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if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spot Subject-Verb Agreement err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je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ust agree in nu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 with subjects lik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these are singul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y close attention to subjects joined with words lik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these subjects can be either singular or plu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on Cited and Paraphrased fr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oyka, Lynn Q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Quick Access: Referen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 Writ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d. New Jers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ntice Hall, 200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gnizing Subjects and Verb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plete sentence must have a SUBJECT and a VER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performs the 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action wo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ot the Subject and Verb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yers on our side are st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ay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n our si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layer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the subject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the verb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you’ve identifi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you have to make sure they agree i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ular subjects require singular verbs and plural subjects require plural ver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asy way to make your subjects and verbs agree is to think about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, plur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d with the lett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singula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bs are the opposi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most part, singula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d with the lett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plur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refore . . 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, but the car ru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ural nou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akes the plural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u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There is only o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p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ngular nou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akes the singular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Again, There is only o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p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und subjects do not end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ead, compound subjects consist of two or more subjects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treat these subjects like any other plural su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and the instr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k long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and the instr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k long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bject consists of two people.  Therefore, it is plu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29400" y="3200400"/>
            <a:ext cx="2070000" cy="2819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10120" y="3371760"/>
            <a:ext cx="8571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subjects are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combine to form a single thing or person, they are treated like a singular subjec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 singular verb with such compound sub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4:35:54Z</dcterms:created>
  <dc:creator>Undergraduate Studies</dc:creator>
  <dc:description/>
  <dc:language>en-US</dc:language>
  <cp:lastModifiedBy>NPSD</cp:lastModifiedBy>
  <dcterms:modified xsi:type="dcterms:W3CDTF">2010-02-18T21:10:33Z</dcterms:modified>
  <cp:revision>52</cp:revision>
  <dc:subject/>
  <dc:title>Subject-Verb Agreement</dc:title>
</cp:coreProperties>
</file>