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42A-C0C5-4A32-AF3D-2734A5CDF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slide. For later– you’ve heard about them, can you spo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entence is tricky because of the compound subject, which makes “side” easily confused for the su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DE4-6B79-4399-8535-7790F093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257-C2B1-4FDD-AF3B-2D3320AA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7D9-183D-4E36-B767-DCD609CC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C6E-B6B0-473D-86C4-6BC52EE1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096-B660-41EC-BAAF-F4B03F4A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DBFC-8F48-4411-B0FE-EA0F192A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BA7-8BFD-40E2-9E18-B9379B40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4B07-085C-4168-987D-F2A3C0B6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EC33-06D5-4702-A720-F86C1CAC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3859-EFDF-4F94-979C-3B6B6880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270A-68EA-4F22-AD80-3F780E6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5D5-A154-479C-B8E7-0A23C932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A48-39BB-406C-B8F4-39A597EC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C60E-7048-42DC-B35B-607DDAE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D7EF-0C37-484F-BDC3-4E04C2C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1AB-9441-42B6-8E24-0A400FC3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D604-E9F3-4304-BD48-73715241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B10-7620-43EA-BB10-7F0BBBC1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6AA-49F9-45E4-966D-39299992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021-F34C-4F44-9260-E724CC74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A4E-3F3E-4BBC-BC59-99FBED7A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6C4-8B9F-408D-93F6-CC27D19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1FF-A6D2-4328-9743-3FD85BF6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B12-D99A-4D39-9AEB-43D918F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D0F1-A6CC-46E5-B5CF-E5C66554A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7104-4C1C-4CD8-AF09-27D470CB3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Subject-Verb Agre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a place on many men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paghetti and meatbal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cting as a unit, as a singular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singular prono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y require singular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ying sauc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low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ac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E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lways use a singular verb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ven if they preced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ien hand and foo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distinct pr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14800" y="5029200"/>
            <a:ext cx="127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hen your subjects are joined by the following wo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. . . 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ither . . . no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only . . . but (also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verb agrees with the subject nearest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                                                 Either the instructors or the student knows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ignore everything before the final su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ound Subjects Joined By Words Like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ther the instructors or 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subj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quir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now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2860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6240" y="2819520"/>
            <a:ext cx="8571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1790640" cy="243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2666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2438280"/>
            <a:ext cx="198108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76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724280" y="2514240"/>
            <a:ext cx="198144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definite Pro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 to nonspecific people or things.  They are usuall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requi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common Indefinite Pronouns usually take singular ver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    each       everything     nothing anybody    either     neither           somebody anyone      every       nobody          someone anything   everyone   no one         something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f the Subject is an Indefinite Pronoun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!  A few indefinite pronouns—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ne, some, more, most, any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can be either singular or plural, depending on the contex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our stream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ed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versible, bu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lu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threat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43800" y="3581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rts a clause, the verb agrees with the noun or pronoun to whic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, Which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fers (it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teced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Your Eyes Op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avoid these errors, we will discuss: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to make Subjects and Verbs agree in number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tricky subjects lik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a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at to do with compound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to spot and correct these errors and become a belie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ing Verbs Agree With the Antecedents of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Who, Which, and Th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ientist will share information with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 wo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rge Jones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who wor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Singular Verbs with Titles and Ter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and terms are treated as singular subjects–even if they contain plural word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es Miserables 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popular musical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sciplinary measures”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euphemism for pun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’ve Been Warn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if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pot Subject-Verb Agreement err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ust agree in nu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with subject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are sing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y close attention to subjects joined with 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these subjects can be either singular or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formation Cited and Paraphrased fr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yka, Lynn Q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Quick Access: Referen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Wri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d. New Jers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ntice Hall, 200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gnizing 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plete sentence must have a SUBJECT and a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performs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ction wo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ot the Subject and Verb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yers on our side are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 our si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ayer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subject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the ver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you’ve identifi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you have to make sure they agree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ular subjects require singular verbs and plural subjects require plural ver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asy way to make your subjects and verbs agree is to think about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,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bs are the oppos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most part, singula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d with the lette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plura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erb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refore . . 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, but the car r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ural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plural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ngular no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the singular verb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Again, There is only on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pa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 subjects do not end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compound subjects consist of two or more subjects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treat these subjects like any other plural su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udent and the instr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rk long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consists of two people.  Therefore, it is plu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2070000" cy="2819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0120" y="3371760"/>
            <a:ext cx="8571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W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ubjects are joined b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combine to form a single thing or person, they are treated like a singular subjec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ingular verb with such compound sub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4:35:54Z</dcterms:created>
  <dc:creator>Undergraduate Studies</dc:creator>
  <dc:description/>
  <dc:language>en-US</dc:language>
  <cp:lastModifiedBy>NPSD</cp:lastModifiedBy>
  <dcterms:modified xsi:type="dcterms:W3CDTF">2010-02-18T21:10:33Z</dcterms:modified>
  <cp:revision>52</cp:revision>
  <dc:subject/>
  <dc:title>Subject-Verb Agreement</dc:title>
</cp:coreProperties>
</file>