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B3084-1D1D-4B77-BF3B-D1AB63A58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D531-B580-4693-BBC1-84952B85C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2066C-53B5-4EB2-AF0D-F79195497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DD220-3103-4944-A23C-5AC23F12F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2BDE2-2B9B-47D5-BF04-458AA8E92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ED5E6-0058-4C48-942B-8DB44917E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98007-0C36-4F69-84D4-6EF0EABFC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E83C2-BE14-4F05-9508-A9676EA27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2AFFB-6FF4-41D7-AF91-E7F29CCAE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92CAC-96B5-43E7-9DDD-5045EDEF3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61F31-3F49-499C-8010-2193EAA99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2D843-BA8F-4393-BC28-48D75AF48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252AD-7FC1-44A9-9D7C-5E973B0EF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100A2-748A-4180-B3DB-57CFEF4F8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CD39D-08D1-485D-B312-94A1EAE62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A25C5-88BB-4C5D-B83A-E1E6223AF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B62E7-39F3-4AB1-99EB-8F8303EAC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F6CDDA-267E-447E-BE30-FF8E63664D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6D4E7-E049-41E0-95A5-2380CF536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15D2C-9DA4-4B7C-BFC0-150A3CA1C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F1C9B-28D3-4B5F-8C52-18C822BAA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F4FD0-0B3F-41A6-BDFB-C03DFE7AF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A72F4-6615-4669-82D0-D962A92ED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EB4848-3072-4A51-8252-57DF53A2E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32A87-B0AE-4CBB-8308-A99481795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5591D-844F-4DC8-932F-E7325A385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ED835-3C33-4DA3-8CF8-E8D6D88A6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C171EE-44CA-4965-8983-86FE7C9787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EE7D73-8D27-4FFB-AB45-E674B18B7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9B9770-FBCA-4954-9155-4E862F6198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91B14A-47CE-47B0-822E-3B5D46F20B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47EFA-52A4-4999-97AF-F593F9DD1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C7041-3F01-4D44-BF39-A25D58D20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28478-0F97-4C71-A546-809D3037A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8029C-41A4-4B33-A238-344B9A1CA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7ED3C-46D2-4542-8810-9B40C66E1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3A1C4-91B0-4F2A-B359-EDE4D41B4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2BF7A-103E-4ECB-8050-1D910D1CE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930E6-BE5D-4755-A230-52BB6A169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A4991-3204-478A-97BA-7552540E4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CA3164-D6C6-49DE-A40C-3F33A94126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842ACB-3B26-47FE-819D-B41687193C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0B9B32-6609-4AC8-900D-46B16AF2C3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2D1D71-1053-4A41-B480-A3BEBCE946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6D3B1-0F90-4CAE-971B-5E2DB77CA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BB2B19-F684-4673-8757-CF00135476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557731-F936-403E-B3AE-AD2A34BEB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DF596-79F7-453D-927C-400241755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B0839-2184-4716-86C9-ACBA9D57D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83F533-3778-4451-87B6-8272CB4C07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A24178-DA02-4DB7-8788-D28FCAA08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AA714-6392-456D-9DBB-59015AC41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0AE42-CE11-432D-8D37-328077403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73E8F-6CCF-464F-B997-D13E3A7A0F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E4C801-3DF5-44C6-9C94-DEFE75B8A5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D4965-717C-41AE-BD35-DD181A85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8C5483-096B-452D-8751-A0B8832FC0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03A242-B0DB-4E8F-8B01-4F0C9ECDA8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425D7B-59BB-460B-9D5E-98E072F771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D61C25-5410-4BA1-B3FF-E0E14EA2BA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A5494-C31F-4212-B22C-53ABC83A7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1AB62-2482-4885-8596-D1DDADAAE3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0679BF-B79E-464F-8643-0C19B1A39A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1A2A8-D284-4C6B-AF63-44DD8BC27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8E73F-DC53-4B47-B777-168EC1915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B2440-CCEB-43E0-BEB4-A6B5EC7E93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0CE2-1687-4939-9641-D886C94BF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D5DA52-0FF9-48A5-A32B-DDD7B0588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6B89A8-89C2-45FE-91BF-6B0781EE59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478D8D-5297-4F7A-A503-5C31690D25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D7FA59-2129-4C52-87FD-D4E161F6EA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F8ECD6-D8FA-4B8B-BD6D-255EF1A82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95E97E-4C7C-4F6D-8F5F-C363CA044C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F3DA6-5242-48F5-8BAF-7138B65C77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700E84-6E44-454B-A782-F04898073F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5999C0-201D-4E49-9235-022AB52459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2FF3F-F0D0-4793-94FF-855900CDA8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81552-D7D9-45C5-A6D5-050C35D26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A870E-02E3-4A6F-9459-60D9827CE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842044-56E1-4D52-A1A5-2E6479103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7759A-F2F5-4FD4-8396-4F2582A976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54503B-24E3-4D5D-A1C3-5644812221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8DDBA0-72E6-4D7D-97F5-AD1A941EF9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F65A9-74E7-43BA-B68D-F089D85D8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451E-8C6E-48E6-BD7B-A3317A6BDE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D4F1-D0A5-4971-9496-5F490FF67A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D224-11F3-47E1-B081-358C04698B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BCB4-C5AF-4C64-917B-DA8936402B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83F9-175F-491D-AF09-5EA7BEF395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9622-E370-4DE3-83DB-808605DA13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976F-56BB-4525-8DC2-CFDEB1C039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forevasauced.files.wordpress.com/2010/02/blob.jpg&amp;imgrefurl=http://forevasauced.wordpress.com/&amp;usg=__bf4rF4bn-cuYZNYYKbTvxYMv_vg=&amp;h=432&amp;w=392&amp;sz=45&amp;hl=en&amp;start=1&amp;itbs=1&amp;tbnid=_G9JnWvAC4zUvM:&amp;tbnh=126&amp;tbnw=114&amp;prev=/images%3Fq%3Dblob%26hl%3Den%26safe%3Dactive%26gbv%3D2%26tbs%3Disch:1" TargetMode="External"/><Relationship Id="rId3" Type="http://schemas.openxmlformats.org/officeDocument/2006/relationships/image" Target="../media/image2.jpeg"/><Relationship Id="rId4"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9.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anvir Shajahan</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3581280" y="6400800"/>
            <a:ext cx="304920" cy="304920"/>
          </a:xfrm>
          <a:prstGeom prst="rect">
            <a:avLst/>
          </a:prstGeom>
          <a:ln w="0">
            <a:noFill/>
          </a:ln>
        </p:spPr>
      </p:pic>
      <p:pic>
        <p:nvPicPr>
          <p:cNvPr id="416" name="" descr="">
            <a:hlinkClick r:id="rId2"/>
          </p:cNvPr>
          <p:cNvPicPr/>
          <p:nvPr/>
        </p:nvPicPr>
        <p:blipFill>
          <a:blip r:embed="rId3"/>
          <a:stretch/>
        </p:blipFill>
        <p:spPr>
          <a:xfrm>
            <a:off x="2895480" y="2362320"/>
            <a:ext cx="3581640" cy="3352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 heavy metal singers are that they will constantly choke on a piece of rock for a year and then sing normally. If they fail then they must scream for the rest of their LIFE!</a:t>
            </a:r>
            <a:endParaRPr b="0" lang="en-US" sz="3200" spc="-1" strike="noStrike">
              <a:solidFill>
                <a:srgbClr val="000000"/>
              </a:solidFill>
              <a:latin typeface="Arial"/>
            </a:endParaRPr>
          </a:p>
        </p:txBody>
      </p:sp>
      <p:sp>
        <p:nvSpPr>
          <p:cNvPr id="459"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0"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1"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ey deserve this punishment because I absolutely hate metal rock songs. They are annoying and pointless. </a:t>
            </a:r>
            <a:endParaRPr b="0" lang="en-US" sz="3200" spc="-1" strike="noStrike">
              <a:solidFill>
                <a:srgbClr val="000000"/>
              </a:solidFill>
              <a:latin typeface="Arial"/>
            </a:endParaRPr>
          </a:p>
        </p:txBody>
      </p:sp>
      <p:sp>
        <p:nvSpPr>
          <p:cNvPr id="464"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0" name="" descr="WEED.jpg WEED image by daffy_duck09"/>
          <p:cNvPicPr/>
          <p:nvPr/>
        </p:nvPicPr>
        <p:blipFill>
          <a:blip r:embed="rId3"/>
          <a:stretch/>
        </p:blipFill>
        <p:spPr>
          <a:xfrm>
            <a:off x="3124080" y="1523880"/>
            <a:ext cx="601992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is level of hell is for drug dealers. Some people that are here in this level of hell is Lil Wayne, Birdman, and many other rap artist that make bread money.</a:t>
            </a:r>
            <a:endParaRPr b="0" lang="en-US" sz="3200" spc="-1" strike="noStrike">
              <a:solidFill>
                <a:srgbClr val="000000"/>
              </a:solidFill>
              <a:latin typeface="Arial"/>
            </a:endParaRPr>
          </a:p>
        </p:txBody>
      </p:sp>
      <p:sp>
        <p:nvSpPr>
          <p:cNvPr id="473"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4"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se losers are that they must eat fire for the rest of their lives and they must burn in fire as they eat it for eternity. </a:t>
            </a:r>
            <a:endParaRPr b="0" lang="en-US" sz="3200" spc="-1" strike="noStrike">
              <a:solidFill>
                <a:srgbClr val="000000"/>
              </a:solidFill>
              <a:latin typeface="Arial"/>
            </a:endParaRPr>
          </a:p>
        </p:txBody>
      </p:sp>
      <p:sp>
        <p:nvSpPr>
          <p:cNvPr id="478"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9"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0"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at the punishment is harsh but they probably deserve. That’s because they messed up their brains like that and it is a bad influence for the young generations. </a:t>
            </a:r>
            <a:endParaRPr b="0" lang="en-US" sz="3200" spc="-1" strike="noStrike">
              <a:solidFill>
                <a:srgbClr val="000000"/>
              </a:solidFill>
              <a:latin typeface="Arial"/>
            </a:endParaRPr>
          </a:p>
        </p:txBody>
      </p:sp>
      <p:sp>
        <p:nvSpPr>
          <p:cNvPr id="483"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87" name="PlaceHolder 2"/>
          <p:cNvSpPr>
            <a:spLocks noGrp="1"/>
          </p:cNvSpPr>
          <p:nvPr>
            <p:ph/>
          </p:nvPr>
        </p:nvSpPr>
        <p:spPr>
          <a:xfrm>
            <a:off x="2895480" y="1600200"/>
            <a:ext cx="293400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9" name=""/>
          <p:cNvSpPr/>
          <p:nvPr/>
        </p:nvSpPr>
        <p:spPr>
          <a:xfrm>
            <a:off x="3124080" y="1981080"/>
            <a:ext cx="556272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hiller"/>
              </a:rPr>
              <a:t>THERE IS NO WAY OUT! HAHAHAHHAHAHAHAAHAHAHAHAHAHAHAHAHAHAHHAHAHAHAHAHAHAHAHAHAHAHAHAHAHAHAHAHAHA!</a:t>
            </a:r>
            <a:endParaRPr b="0" lang="en-US" sz="4800" spc="-1" strike="noStrike">
              <a:solidFill>
                <a:srgbClr val="000000"/>
              </a:solidFill>
              <a:latin typeface="Arial"/>
            </a:endParaRPr>
          </a:p>
        </p:txBody>
      </p:sp>
      <p:pic>
        <p:nvPicPr>
          <p:cNvPr id="490" name="" descr=""/>
          <p:cNvPicPr/>
          <p:nvPr/>
        </p:nvPicPr>
        <p:blipFill>
          <a:blip r:embed="rId1"/>
          <a:stretch/>
        </p:blipFill>
        <p:spPr>
          <a:xfrm>
            <a:off x="29718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4990"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Guide is the infamous beast Homer Simpson. Homer is a person that is in a show called the Simpson. He is a crazy funny guy that is very lazy and he is stuck there for eternity for laziness and mischievous ways.</a:t>
            </a:r>
            <a:endParaRPr b="0" lang="en-US" sz="2800" spc="-1" strike="noStrike">
              <a:solidFill>
                <a:srgbClr val="000000"/>
              </a:solidFill>
              <a:latin typeface="Arial"/>
            </a:endParaRPr>
          </a:p>
        </p:txBody>
      </p:sp>
      <p:pic>
        <p:nvPicPr>
          <p:cNvPr id="419" name="" descr=""/>
          <p:cNvPicPr/>
          <p:nvPr/>
        </p:nvPicPr>
        <p:blipFill>
          <a:blip r:embed="rId1"/>
          <a:stretch/>
        </p:blipFill>
        <p:spPr>
          <a:xfrm>
            <a:off x="6019920" y="3505320"/>
            <a:ext cx="2590560" cy="2743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name is Tanvir Shajahan. I am 16 and I go to North Penn High School. I am extremely built and I won Mr. Galaxy only 3 times. And I save the universe like everyday.</a:t>
            </a:r>
            <a:endParaRPr b="0" lang="en-US" sz="2800" spc="-1" strike="noStrike">
              <a:solidFill>
                <a:srgbClr val="000000"/>
              </a:solidFill>
              <a:latin typeface="Arial"/>
            </a:endParaRPr>
          </a:p>
        </p:txBody>
      </p:sp>
      <p:pic>
        <p:nvPicPr>
          <p:cNvPr id="422" name="" descr=""/>
          <p:cNvPicPr/>
          <p:nvPr/>
        </p:nvPicPr>
        <p:blipFill>
          <a:blip r:embed="rId1"/>
          <a:stretch/>
        </p:blipFill>
        <p:spPr>
          <a:xfrm>
            <a:off x="5715000" y="3048120"/>
            <a:ext cx="2895480" cy="320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NewBoyz-02-big.jpg new boyz  bunzzz image by cyl0816"/>
          <p:cNvPicPr/>
          <p:nvPr/>
        </p:nvPicPr>
        <p:blipFill>
          <a:blip r:embed="rId1"/>
          <a:stretch/>
        </p:blipFill>
        <p:spPr>
          <a:xfrm>
            <a:off x="3352680" y="1371600"/>
            <a:ext cx="4191120" cy="3809880"/>
          </a:xfrm>
          <a:prstGeom prst="rect">
            <a:avLst/>
          </a:prstGeom>
          <a:ln w="0">
            <a:noFill/>
          </a:ln>
        </p:spPr>
      </p:pic>
      <p:pic>
        <p:nvPicPr>
          <p:cNvPr id="424" name="" descr=""/>
          <p:cNvPicPr/>
          <p:nvPr/>
        </p:nvPicPr>
        <p:blipFill>
          <a:blip r:embed="rId2"/>
          <a:srcRect l="22228" t="11115" r="16671" b="0"/>
          <a:stretch/>
        </p:blipFill>
        <p:spPr>
          <a:xfrm>
            <a:off x="3352680" y="4876920"/>
            <a:ext cx="4114800" cy="1218960"/>
          </a:xfrm>
          <a:prstGeom prst="rect">
            <a:avLst/>
          </a:prstGeom>
          <a:ln w="0">
            <a:noFill/>
          </a:ln>
        </p:spPr>
      </p:pic>
      <p:sp>
        <p:nvSpPr>
          <p:cNvPr id="42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6"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7" name="">
            <a:hlinkClick r:id="rId3"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8" name="">
            <a:hlinkClick r:id="rId4"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9" name="" descr=""/>
          <p:cNvPicPr/>
          <p:nvPr/>
        </p:nvPicPr>
        <p:blipFill>
          <a:blip r:embed="rId5"/>
          <a:stretch/>
        </p:blipFill>
        <p:spPr>
          <a:xfrm>
            <a:off x="4419720" y="3276720"/>
            <a:ext cx="304560" cy="304560"/>
          </a:xfrm>
          <a:prstGeom prst="rect">
            <a:avLst/>
          </a:prstGeom>
          <a:ln w="0">
            <a:noFill/>
          </a:ln>
        </p:spPr>
      </p:pic>
      <p:pic>
        <p:nvPicPr>
          <p:cNvPr id="430" name="" descr=""/>
          <p:cNvPicPr/>
          <p:nvPr/>
        </p:nvPicPr>
        <p:blipFill>
          <a:blip r:embed="rId6"/>
          <a:stretch/>
        </p:blipFill>
        <p:spPr>
          <a:xfrm>
            <a:off x="80773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8991" fill="hold"/>
                                        <p:tgtEl>
                                          <p:spTgt spid="429"/>
                                        </p:tgtEl>
                                      </p:cBhvr>
                                    </p:cmd>
                                  </p:childTnLst>
                                </p:cTn>
                              </p:par>
                            </p:childTnLst>
                          </p:cTn>
                        </p:par>
                        <p:par>
                          <p:cTn id="13" fill="hold">
                            <p:stCondLst>
                              <p:cond delay="48991"/>
                            </p:stCondLst>
                            <p:childTnLst>
                              <p:par>
                                <p:cTn id="14" nodeType="afterEffect" fill="hold" presetClass="mediacall" presetID="1">
                                  <p:stCondLst>
                                    <p:cond delay="0"/>
                                  </p:stCondLst>
                                  <p:childTnLst>
                                    <p:cmd type="call" cmd="playFrom(0.0)">
                                      <p:cBhvr>
                                        <p:cTn id="15" dur="48991"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4572000" y="3657600"/>
            <a:ext cx="2514600" cy="2057400"/>
          </a:xfrm>
          <a:prstGeom prst="rect">
            <a:avLst/>
          </a:prstGeom>
          <a:ln w="0">
            <a:noFill/>
          </a:ln>
        </p:spPr>
      </p:pic>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2"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3"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2971800" y="1828800"/>
            <a:ext cx="5943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The New Boyz are absolute jerks. They are the ones</a:t>
            </a:r>
            <a:r>
              <a:rPr b="0" lang="en-US" sz="2400" spc="-1" strike="noStrike">
                <a:solidFill>
                  <a:srgbClr val="ffffff"/>
                </a:solidFill>
                <a:latin typeface="Arial"/>
              </a:rPr>
              <a:t> </a:t>
            </a:r>
            <a:r>
              <a:rPr b="1" lang="en-US" sz="2400" spc="-1" strike="noStrike">
                <a:solidFill>
                  <a:srgbClr val="ffffff"/>
                </a:solidFill>
                <a:latin typeface="Chiller"/>
              </a:rPr>
              <a:t>the ones who have</a:t>
            </a:r>
            <a:r>
              <a:rPr b="0" lang="en-US" sz="2400" spc="-1" strike="noStrike">
                <a:solidFill>
                  <a:srgbClr val="ffffff"/>
                </a:solidFill>
                <a:latin typeface="Chiller"/>
              </a:rPr>
              <a:t> </a:t>
            </a:r>
            <a:r>
              <a:rPr b="1" lang="en-US" sz="2400" spc="-1" strike="noStrike">
                <a:solidFill>
                  <a:srgbClr val="ffffff"/>
                </a:solidFill>
                <a:latin typeface="Chiller"/>
              </a:rPr>
              <a:t>started the dance. Now where every you go you WILL see kids doing their dance. Also Audio Push belongs their because of their song “Teach me how to Jerk” has made the dance very popular too. The are here for while. Trust me a While even you.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The Punishment</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ir punishment is that their jerkin feet will be burned for 4 years but every year they get 10 minutes of ice on their feet. ( To Cool down. I m not that mean.) </a:t>
            </a:r>
            <a:endParaRPr b="0" lang="en-US" sz="3200" spc="-1" strike="noStrike">
              <a:solidFill>
                <a:srgbClr val="000000"/>
              </a:solidFill>
              <a:latin typeface="Arial"/>
            </a:endParaRPr>
          </a:p>
        </p:txBody>
      </p:sp>
      <p:sp>
        <p:nvSpPr>
          <p:cNvPr id="43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0" name=""/>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1" name=""/>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I think the jerks belong there. The world has gone crazy they are doing this dance that disturbs the elders. Respect the Elders!</a:t>
            </a: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6"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7"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8"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9" name="" descr=""/>
          <p:cNvPicPr/>
          <p:nvPr/>
        </p:nvPicPr>
        <p:blipFill>
          <a:blip r:embed="rId3"/>
          <a:stretch/>
        </p:blipFill>
        <p:spPr>
          <a:xfrm>
            <a:off x="4191120" y="1600200"/>
            <a:ext cx="3600360" cy="4038480"/>
          </a:xfrm>
          <a:prstGeom prst="rect">
            <a:avLst/>
          </a:prstGeom>
          <a:ln w="0">
            <a:noFill/>
          </a:ln>
        </p:spPr>
      </p:pic>
      <p:pic>
        <p:nvPicPr>
          <p:cNvPr id="450" name="" descr=""/>
          <p:cNvPicPr/>
          <p:nvPr/>
        </p:nvPicPr>
        <p:blipFill>
          <a:blip r:embed="rId4"/>
          <a:stretch/>
        </p:blipFill>
        <p:spPr>
          <a:xfrm>
            <a:off x="5257800" y="3048120"/>
            <a:ext cx="266760" cy="380880"/>
          </a:xfrm>
          <a:prstGeom prst="rect">
            <a:avLst/>
          </a:prstGeom>
          <a:ln w="0">
            <a:noFill/>
          </a:ln>
        </p:spPr>
      </p:pic>
      <p:pic>
        <p:nvPicPr>
          <p:cNvPr id="451" name="" descr=""/>
          <p:cNvPicPr/>
          <p:nvPr/>
        </p:nvPicPr>
        <p:blipFill>
          <a:blip r:embed="rId5"/>
          <a:stretch/>
        </p:blipFill>
        <p:spPr>
          <a:xfrm>
            <a:off x="3200400" y="4952880"/>
            <a:ext cx="304920" cy="30492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mediacall" presetID="1">
                                  <p:stCondLst>
                                    <p:cond delay="0"/>
                                  </p:stCondLst>
                                  <p:childTnLst>
                                    <p:cmd type="call" cmd="playFrom(0.0)">
                                      <p:cBhvr>
                                        <p:cTn id="21" dur="44626"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is level of Hell is for the Heavy Metal Singers. People that are in this hell are AC/DC and Led Zeppelin and other pointless singers. </a:t>
            </a:r>
            <a:endParaRPr b="0" lang="en-US" sz="3200" spc="-1" strike="noStrike">
              <a:solidFill>
                <a:srgbClr val="000000"/>
              </a:solidFill>
              <a:latin typeface="Arial"/>
            </a:endParaRPr>
          </a:p>
        </p:txBody>
      </p:sp>
      <p:sp>
        <p:nvSpPr>
          <p:cNvPr id="454"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5"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4:46:11Z</dcterms:modified>
  <cp:revision>44</cp:revision>
  <dc:subject/>
  <dc:title>Dante’s Inferno</dc:title>
</cp:coreProperties>
</file>