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19A02-4CFA-40AC-809A-9CBA99876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B1468-62E5-4B0B-B1EA-826E8D4D5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D89AE-3A1D-49AA-BCE0-B200F95FA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2AE2C-9108-4736-AF66-0BD9418E0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E38FD4-3B86-4F7D-8761-F61EE7719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E77A3-0861-4489-9014-EAF529149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BDC34-FC28-4C2D-B2F5-07BDBB6FC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8A07B-E3D3-4EDC-8B20-EA4C7AE40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42C2B-3A01-4EDA-BAAD-7D24C4C44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81B3D-CEA3-496D-9104-B465C7562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E9D9A-4BB6-4C6F-9977-257E76796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78123-CC1A-42D8-8E73-DDAB2D68E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D8CE2-162F-4D12-B0AB-FFB1610FC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5BC95-9F16-4BCE-8CE3-AC1AA778B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6344E-38D1-4AA1-9A91-8B02F362A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B30C56-7EF3-43A4-9E13-F7145FDFD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2486C0-DE96-44AF-95D6-B9A5B52202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471474-754A-4577-97B4-3B998014E7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873606-0CE2-41BD-B8DF-423E35F917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49655F-B893-457E-BAD3-C8C6958EAF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0EBDA7-4D37-449A-B2D4-0BF0AA0DDC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0BB8F2-D8DC-45A9-B883-A857946C0B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E0889-08E8-4C87-86F5-44D409566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B4586D-CC18-47B7-B18D-10BF633660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A9CE8D-542A-412B-82E0-69BA05C411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79755-EC38-4701-86D8-B45CDF7CAD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133624-8611-469E-9783-55D3FC2765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1558A4-A436-4C97-B1B5-90336872A8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E06A9C-521E-4794-94B4-80A22AA587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B042CC-9F81-4A2C-940C-E6420648E7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E6456C-EF58-4D18-A835-A5C7999D3D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B637A4-73A3-4D39-A635-B6F908B8AA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536DCE-B60D-4424-9531-BE0A5227C0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F2721-8EA1-43C9-A03D-335B6305F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8C4B1A-F6CB-479E-8E93-BB3F659E57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C8C5A6-C57F-41C8-84F4-75A8E22620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A212C8-934F-4019-B13C-B80D2BE46C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2B09B3-9612-4FAA-8CB0-D3B9A626C0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4F07F8-34B5-490C-8178-56725DDE5A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4CED66-46C0-463B-BC81-73220B4CFB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738362-DEB2-48ED-A743-71C254140C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1DBB3F-09F4-4536-B797-5E702B400B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F61779-F7E6-4559-9502-FC5C20B486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274E11-EB42-498E-B631-BA0B68CD59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35716-44D4-4ECC-926E-5CBEF3EEA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12565E-EC79-4F9C-BF56-1E24790928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555A8D-58F0-422F-A1CE-8ACE0EB0EB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07853F-67B4-4432-BCC6-986127ECC6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FD1BC3-EE55-438F-A1FB-7FF126C77B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7E3D9D-EE3B-40F9-8ECB-7C3189B0F7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B8C2F0-819F-4043-89B8-8BCB999B14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6C27E7-7BCC-486B-8A8C-C2ADEDD25B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1EF6D8-F4FC-42D3-8BE3-575FA0D71A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E50411-4725-486B-B459-28D4C06FD1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ECCE08-DA5A-460F-B760-DD97E5FB96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63A9E-7C3B-478D-B6D9-66CEEEF91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9033D8-7345-45AA-A743-AAD933692C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88F559-5B34-4B3D-BFBE-AEED204F1C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66A8CE-7311-4790-A409-DD0124FAF2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D53007-0A56-4F1C-8B90-2E62414786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7BD59D-BC7F-4824-AC57-3B99B41E7F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F3DE96-1ED9-4502-AEBA-4471CCC618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1C452C-D60A-4214-AED3-6E2C243192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3CDE28-25E3-420C-AD53-9190EEA2FA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B7D4B8-12F2-4209-864D-4D8069CCC8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2659AC-0CAD-4C57-B010-5EB28C6D81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30305-FE12-4E48-BECF-1AAD7760D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086E47-7E53-4BA8-8F28-5D64082221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C278D3-60A0-4321-84B7-12D8588110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2EE1A8-9C17-4625-94B1-D71503C8B3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B77827-732D-4E30-8B72-1B117C19E2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BC7B6F-5676-4A31-9C0D-1643606419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319165-2CCC-490F-B23C-4FE8FD3D6E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574D08-9633-4C31-A852-3B000FD48E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005FC0-C756-4AC1-A1D3-E5B556E762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7DA198-C3D7-41CF-A325-15C7FAE181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23B404-7C3B-414A-9D39-1D00EAC1B0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A9103-3FC0-442B-8FF5-A32FF4255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B34E32-7A43-4AAE-8F50-FFA1BB0E34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D2221D-AD6A-454A-9B15-7C8D8BD2FC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C8E09B-7105-4FFC-A97F-0128323AEE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3927EF-E2BF-4614-8C45-E6E0CFF9B3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8D9FAD-49D7-4370-AACE-41CE1E168E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2F3E4-F420-4C76-8A75-8629178C1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8F6D2-602E-4EF4-80C6-C70BD349F23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2F2B-1715-48B1-96A5-2F3EE56B4AA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CE26-A6A0-483D-9D49-6B8FC981768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867F2-9506-4217-831C-47DC67762EF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8524-0D6C-4A28-8F08-6BB3AC603D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F249-BB01-48B2-93F2-F377E94D5E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AA3C0-8E51-4A63-AAF1-8F427900235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forevasauced.files.wordpress.com/2010/02/blob.jpg&amp;imgrefurl=http://forevasauced.wordpress.com/&amp;usg=__bf4rF4bn-cuYZNYYKbTvxYMv_vg=&amp;h=432&amp;w=392&amp;sz=45&amp;hl=en&amp;start=1&amp;itbs=1&amp;tbnid=_G9JnWvAC4zUvM:&amp;tbnh=126&amp;tbnw=114&amp;prev=/images%3Fq%3Dblob%26hl%3Den%26safe%3Dactive%26gbv%3D2%26tbs%3Disch:1" TargetMode="External"/><Relationship Id="rId3" Type="http://schemas.openxmlformats.org/officeDocument/2006/relationships/image" Target="../media/image2.jpeg"/><Relationship Id="rId4"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image" Target="../media/image9.jpeg"/><Relationship Id="rId4"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2.xml"/><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7.xml"/><Relationship Id="rId3" Type="http://schemas.openxmlformats.org/officeDocument/2006/relationships/slide" Target="slide4.xml"/><Relationship Id="rId4"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1.png"/><Relationship Id="rId6"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anvir Shajahan</a:t>
            </a: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5" name="" descr=""/>
          <p:cNvPicPr/>
          <p:nvPr/>
        </p:nvPicPr>
        <p:blipFill>
          <a:blip r:embed="rId1"/>
          <a:stretch/>
        </p:blipFill>
        <p:spPr>
          <a:xfrm>
            <a:off x="3581280" y="6400800"/>
            <a:ext cx="304920" cy="304920"/>
          </a:xfrm>
          <a:prstGeom prst="rect">
            <a:avLst/>
          </a:prstGeom>
          <a:ln w="0">
            <a:noFill/>
          </a:ln>
        </p:spPr>
      </p:pic>
      <p:pic>
        <p:nvPicPr>
          <p:cNvPr id="416" name="" descr="">
            <a:hlinkClick r:id="rId2"/>
          </p:cNvPr>
          <p:cNvPicPr/>
          <p:nvPr/>
        </p:nvPicPr>
        <p:blipFill>
          <a:blip r:embed="rId3"/>
          <a:stretch/>
        </p:blipFill>
        <p:spPr>
          <a:xfrm>
            <a:off x="2895480" y="2362320"/>
            <a:ext cx="3581640" cy="33526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255" fill="hold"/>
                                        <p:tgtEl>
                                          <p:spTgt spid="4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he punishment for the heavy metal singers are that they will constantly choke on a piece of rock for a year and then sing normally. If they fail then they must scream for the rest of their LIFE!</a:t>
            </a:r>
            <a:endParaRPr b="0" lang="en-US" sz="3200" spc="-1" strike="noStrike">
              <a:solidFill>
                <a:srgbClr val="000000"/>
              </a:solidFill>
              <a:latin typeface="Arial"/>
            </a:endParaRPr>
          </a:p>
        </p:txBody>
      </p:sp>
      <p:sp>
        <p:nvSpPr>
          <p:cNvPr id="459"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60" name="">
            <a:hlinkClick r:id="rId1" action="ppaction://hlinksldjump"/>
          </p:cNvPr>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61" name="">
            <a:hlinkClick r:id="rId2" action="ppaction://hlinksldjump"/>
          </p:cNvPr>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I think they deserve this punishment because I absolutely hate metal rock songs. They are annoying and pointless. </a:t>
            </a:r>
            <a:endParaRPr b="0" lang="en-US" sz="3200" spc="-1" strike="noStrike">
              <a:solidFill>
                <a:srgbClr val="000000"/>
              </a:solidFill>
              <a:latin typeface="Arial"/>
            </a:endParaRPr>
          </a:p>
        </p:txBody>
      </p:sp>
      <p:sp>
        <p:nvSpPr>
          <p:cNvPr id="464"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8" name="">
            <a:hlinkClick r:id="rId1" action="ppaction://hlinksldjump"/>
          </p:cNvPr>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9" name="">
            <a:hlinkClick r:id="rId2" action="ppaction://hlinksldjump"/>
          </p:cNvPr>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70" name="" descr="WEED.jpg WEED image by daffy_duck09"/>
          <p:cNvPicPr/>
          <p:nvPr/>
        </p:nvPicPr>
        <p:blipFill>
          <a:blip r:embed="rId3"/>
          <a:stretch/>
        </p:blipFill>
        <p:spPr>
          <a:xfrm>
            <a:off x="3124080" y="1523880"/>
            <a:ext cx="6019920" cy="4572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7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his level of hell is for drug dealers. Some people that are here in this level of hell is Lil Wayne, Birdman, and many other rap artist that make bread money.</a:t>
            </a:r>
            <a:endParaRPr b="0" lang="en-US" sz="3200" spc="-1" strike="noStrike">
              <a:solidFill>
                <a:srgbClr val="000000"/>
              </a:solidFill>
              <a:latin typeface="Arial"/>
            </a:endParaRPr>
          </a:p>
        </p:txBody>
      </p:sp>
      <p:sp>
        <p:nvSpPr>
          <p:cNvPr id="473"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4" name="">
            <a:hlinkClick r:id="rId1" action="ppaction://hlinksldjump"/>
          </p:cNvPr>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5" name="">
            <a:hlinkClick r:id="rId2" action="ppaction://hlinksldjump"/>
          </p:cNvPr>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he punishment for these losers are that they must eat fire for the rest of their lives and they must burn in fire as they eat it for eternity. </a:t>
            </a:r>
            <a:endParaRPr b="0" lang="en-US" sz="3200" spc="-1" strike="noStrike">
              <a:solidFill>
                <a:srgbClr val="000000"/>
              </a:solidFill>
              <a:latin typeface="Arial"/>
            </a:endParaRPr>
          </a:p>
        </p:txBody>
      </p:sp>
      <p:sp>
        <p:nvSpPr>
          <p:cNvPr id="478"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9" name="">
            <a:hlinkClick r:id="rId1" action="ppaction://hlinksldjump"/>
          </p:cNvPr>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80" name="">
            <a:hlinkClick r:id="rId2" action="ppaction://hlinksldjump"/>
          </p:cNvPr>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8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I think that the punishment is harsh but they probably deserve. That’s because they messed up their brains like that and it is a bad influence for the young generations. </a:t>
            </a:r>
            <a:endParaRPr b="0" lang="en-US" sz="3200" spc="-1" strike="noStrike">
              <a:solidFill>
                <a:srgbClr val="000000"/>
              </a:solidFill>
              <a:latin typeface="Arial"/>
            </a:endParaRPr>
          </a:p>
        </p:txBody>
      </p:sp>
      <p:sp>
        <p:nvSpPr>
          <p:cNvPr id="483"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87" name="PlaceHolder 2"/>
          <p:cNvSpPr>
            <a:spLocks noGrp="1"/>
          </p:cNvSpPr>
          <p:nvPr>
            <p:ph/>
          </p:nvPr>
        </p:nvSpPr>
        <p:spPr>
          <a:xfrm>
            <a:off x="2895480" y="1600200"/>
            <a:ext cx="293400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
        <p:nvSpPr>
          <p:cNvPr id="489" name=""/>
          <p:cNvSpPr/>
          <p:nvPr/>
        </p:nvSpPr>
        <p:spPr>
          <a:xfrm>
            <a:off x="3124080" y="1981080"/>
            <a:ext cx="5562720" cy="667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hiller"/>
              </a:rPr>
              <a:t>THERE IS NO WAY OUT! HAHAHAHHAHAHAHAAHAHAHAHAHAHAHAHAHAHAHHAHAHAHAHAHAHAHAHAHAHAHAHAHAHAHAHAHAHA!</a:t>
            </a:r>
            <a:endParaRPr b="0" lang="en-US" sz="4800" spc="-1" strike="noStrike">
              <a:solidFill>
                <a:srgbClr val="000000"/>
              </a:solidFill>
              <a:latin typeface="Arial"/>
            </a:endParaRPr>
          </a:p>
        </p:txBody>
      </p:sp>
      <p:pic>
        <p:nvPicPr>
          <p:cNvPr id="490" name="" descr=""/>
          <p:cNvPicPr/>
          <p:nvPr/>
        </p:nvPicPr>
        <p:blipFill>
          <a:blip r:embed="rId1"/>
          <a:stretch/>
        </p:blipFill>
        <p:spPr>
          <a:xfrm>
            <a:off x="297180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mediacall" presetID="1">
                                  <p:stCondLst>
                                    <p:cond delay="0"/>
                                  </p:stCondLst>
                                  <p:childTnLst>
                                    <p:cmd type="call" cmd="playFrom(0.0)">
                                      <p:cBhvr>
                                        <p:cTn id="27" dur="4990"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My Guide is the infamous beast Homer Simpson. Homer is a person that is in a show called the Simpson. He is a crazy funny guy that is very lazy and he is stuck there for eternity for laziness and mischievous ways.</a:t>
            </a:r>
            <a:endParaRPr b="0" lang="en-US" sz="2800" spc="-1" strike="noStrike">
              <a:solidFill>
                <a:srgbClr val="000000"/>
              </a:solidFill>
              <a:latin typeface="Arial"/>
            </a:endParaRPr>
          </a:p>
        </p:txBody>
      </p:sp>
      <p:pic>
        <p:nvPicPr>
          <p:cNvPr id="419" name="" descr=""/>
          <p:cNvPicPr/>
          <p:nvPr/>
        </p:nvPicPr>
        <p:blipFill>
          <a:blip r:embed="rId1"/>
          <a:stretch/>
        </p:blipFill>
        <p:spPr>
          <a:xfrm>
            <a:off x="6019920" y="3505320"/>
            <a:ext cx="2590560" cy="2743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My name is Tanvir Shajahan. I am 16 and I go to North Penn High School. I am extremely built and I won Mr. Galaxy only 3 times. And I save the universe like everyday.</a:t>
            </a:r>
            <a:endParaRPr b="0" lang="en-US" sz="2800" spc="-1" strike="noStrike">
              <a:solidFill>
                <a:srgbClr val="000000"/>
              </a:solidFill>
              <a:latin typeface="Arial"/>
            </a:endParaRPr>
          </a:p>
        </p:txBody>
      </p:sp>
      <p:pic>
        <p:nvPicPr>
          <p:cNvPr id="422" name="" descr=""/>
          <p:cNvPicPr/>
          <p:nvPr/>
        </p:nvPicPr>
        <p:blipFill>
          <a:blip r:embed="rId1"/>
          <a:stretch/>
        </p:blipFill>
        <p:spPr>
          <a:xfrm>
            <a:off x="5715000" y="3048120"/>
            <a:ext cx="2895480" cy="3200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3" name="" descr="NewBoyz-02-big.jpg new boyz  bunzzz image by cyl0816"/>
          <p:cNvPicPr/>
          <p:nvPr/>
        </p:nvPicPr>
        <p:blipFill>
          <a:blip r:embed="rId1"/>
          <a:stretch/>
        </p:blipFill>
        <p:spPr>
          <a:xfrm>
            <a:off x="3352680" y="1371600"/>
            <a:ext cx="4191120" cy="3809880"/>
          </a:xfrm>
          <a:prstGeom prst="rect">
            <a:avLst/>
          </a:prstGeom>
          <a:ln w="0">
            <a:noFill/>
          </a:ln>
        </p:spPr>
      </p:pic>
      <p:pic>
        <p:nvPicPr>
          <p:cNvPr id="424" name="" descr=""/>
          <p:cNvPicPr/>
          <p:nvPr/>
        </p:nvPicPr>
        <p:blipFill>
          <a:blip r:embed="rId2"/>
          <a:srcRect l="22228" t="11115" r="16671" b="0"/>
          <a:stretch/>
        </p:blipFill>
        <p:spPr>
          <a:xfrm>
            <a:off x="3352680" y="4876920"/>
            <a:ext cx="4114800" cy="1218960"/>
          </a:xfrm>
          <a:prstGeom prst="rect">
            <a:avLst/>
          </a:prstGeom>
          <a:ln w="0">
            <a:noFill/>
          </a:ln>
        </p:spPr>
      </p:pic>
      <p:sp>
        <p:nvSpPr>
          <p:cNvPr id="42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6"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7" name="">
            <a:hlinkClick r:id="rId3"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8" name="">
            <a:hlinkClick r:id="rId4"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9" name="" descr=""/>
          <p:cNvPicPr/>
          <p:nvPr/>
        </p:nvPicPr>
        <p:blipFill>
          <a:blip r:embed="rId5"/>
          <a:stretch/>
        </p:blipFill>
        <p:spPr>
          <a:xfrm>
            <a:off x="4419720" y="3276720"/>
            <a:ext cx="304560" cy="304560"/>
          </a:xfrm>
          <a:prstGeom prst="rect">
            <a:avLst/>
          </a:prstGeom>
          <a:ln w="0">
            <a:noFill/>
          </a:ln>
        </p:spPr>
      </p:pic>
      <p:pic>
        <p:nvPicPr>
          <p:cNvPr id="430" name="" descr=""/>
          <p:cNvPicPr/>
          <p:nvPr/>
        </p:nvPicPr>
        <p:blipFill>
          <a:blip r:embed="rId6"/>
          <a:stretch/>
        </p:blipFill>
        <p:spPr>
          <a:xfrm>
            <a:off x="8077320" y="52578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48991" fill="hold"/>
                                        <p:tgtEl>
                                          <p:spTgt spid="429"/>
                                        </p:tgtEl>
                                      </p:cBhvr>
                                    </p:cmd>
                                  </p:childTnLst>
                                </p:cTn>
                              </p:par>
                            </p:childTnLst>
                          </p:cTn>
                        </p:par>
                        <p:par>
                          <p:cTn id="13" fill="hold">
                            <p:stCondLst>
                              <p:cond delay="48991"/>
                            </p:stCondLst>
                            <p:childTnLst>
                              <p:par>
                                <p:cTn id="14" nodeType="afterEffect" fill="hold" presetClass="mediacall" presetID="1">
                                  <p:stCondLst>
                                    <p:cond delay="0"/>
                                  </p:stCondLst>
                                  <p:childTnLst>
                                    <p:cmd type="call" cmd="playFrom(0.0)">
                                      <p:cBhvr>
                                        <p:cTn id="15" dur="48991"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4572000" y="3657600"/>
            <a:ext cx="2514600" cy="2057400"/>
          </a:xfrm>
          <a:prstGeom prst="rect">
            <a:avLst/>
          </a:prstGeom>
          <a:ln w="0">
            <a:noFill/>
          </a:ln>
        </p:spPr>
      </p:pic>
      <p:sp>
        <p:nvSpPr>
          <p:cNvPr id="43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3"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4" name="">
            <a:hlinkClick r:id="rId2"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
            <a:hlinkClick r:id="rId3"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
          <p:cNvSpPr/>
          <p:nvPr/>
        </p:nvSpPr>
        <p:spPr>
          <a:xfrm>
            <a:off x="2971800" y="1828800"/>
            <a:ext cx="5943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hiller"/>
              </a:rPr>
              <a:t>The New Boyz are absolute jerks. They are the ones</a:t>
            </a:r>
            <a:r>
              <a:rPr b="0" lang="en-US" sz="2400" spc="-1" strike="noStrike">
                <a:solidFill>
                  <a:srgbClr val="ffffff"/>
                </a:solidFill>
                <a:latin typeface="Arial"/>
              </a:rPr>
              <a:t> </a:t>
            </a:r>
            <a:r>
              <a:rPr b="1" lang="en-US" sz="2400" spc="-1" strike="noStrike">
                <a:solidFill>
                  <a:srgbClr val="ffffff"/>
                </a:solidFill>
                <a:latin typeface="Chiller"/>
              </a:rPr>
              <a:t>the ones who have</a:t>
            </a:r>
            <a:r>
              <a:rPr b="0" lang="en-US" sz="2400" spc="-1" strike="noStrike">
                <a:solidFill>
                  <a:srgbClr val="ffffff"/>
                </a:solidFill>
                <a:latin typeface="Chiller"/>
              </a:rPr>
              <a:t> </a:t>
            </a:r>
            <a:r>
              <a:rPr b="1" lang="en-US" sz="2400" spc="-1" strike="noStrike">
                <a:solidFill>
                  <a:srgbClr val="ffffff"/>
                </a:solidFill>
                <a:latin typeface="Chiller"/>
              </a:rPr>
              <a:t>started the dance. Now where every you go you WILL see kids doing their dance. Also Audio Push belongs their because of their song “Teach me how to Jerk” has made the dance very popular too. The are here for while. Trust me a While even you.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The Punishment</a:t>
            </a:r>
            <a:endParaRPr b="0" lang="en-US" sz="6600" spc="-1" strike="noStrike">
              <a:solidFill>
                <a:srgbClr val="ffffff"/>
              </a:solidFill>
              <a:latin typeface="Chiller"/>
            </a:endParaRPr>
          </a:p>
        </p:txBody>
      </p:sp>
      <p:sp>
        <p:nvSpPr>
          <p:cNvPr id="43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Their punishment is that their jerkin feet will be burned for 4 years but every year they get 10 minutes of ice on their feet. ( To Cool down. I m not that mean.) </a:t>
            </a:r>
            <a:endParaRPr b="0" lang="en-US" sz="3200" spc="-1" strike="noStrike">
              <a:solidFill>
                <a:srgbClr val="000000"/>
              </a:solidFill>
              <a:latin typeface="Arial"/>
            </a:endParaRPr>
          </a:p>
        </p:txBody>
      </p:sp>
      <p:sp>
        <p:nvSpPr>
          <p:cNvPr id="439"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0" name=""/>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1" name=""/>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I think the jerks belong there. The world has gone crazy they are doing this dance that disturbs the elders. Respect the Elders!</a:t>
            </a:r>
            <a:endParaRPr b="0" lang="en-US" sz="3200" spc="-1" strike="noStrike">
              <a:solidFill>
                <a:srgbClr val="000000"/>
              </a:solidFill>
              <a:latin typeface="Arial"/>
            </a:endParaRPr>
          </a:p>
        </p:txBody>
      </p:sp>
      <p:sp>
        <p:nvSpPr>
          <p:cNvPr id="444"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6"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7"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8"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9" name="" descr=""/>
          <p:cNvPicPr/>
          <p:nvPr/>
        </p:nvPicPr>
        <p:blipFill>
          <a:blip r:embed="rId3"/>
          <a:stretch/>
        </p:blipFill>
        <p:spPr>
          <a:xfrm>
            <a:off x="4191120" y="1600200"/>
            <a:ext cx="3600360" cy="4038480"/>
          </a:xfrm>
          <a:prstGeom prst="rect">
            <a:avLst/>
          </a:prstGeom>
          <a:ln w="0">
            <a:noFill/>
          </a:ln>
        </p:spPr>
      </p:pic>
      <p:pic>
        <p:nvPicPr>
          <p:cNvPr id="450" name="" descr=""/>
          <p:cNvPicPr/>
          <p:nvPr/>
        </p:nvPicPr>
        <p:blipFill>
          <a:blip r:embed="rId4"/>
          <a:stretch/>
        </p:blipFill>
        <p:spPr>
          <a:xfrm>
            <a:off x="5257800" y="3048120"/>
            <a:ext cx="266760" cy="380880"/>
          </a:xfrm>
          <a:prstGeom prst="rect">
            <a:avLst/>
          </a:prstGeom>
          <a:ln w="0">
            <a:noFill/>
          </a:ln>
        </p:spPr>
      </p:pic>
      <p:pic>
        <p:nvPicPr>
          <p:cNvPr id="451" name="" descr=""/>
          <p:cNvPicPr/>
          <p:nvPr/>
        </p:nvPicPr>
        <p:blipFill>
          <a:blip r:embed="rId5"/>
          <a:stretch/>
        </p:blipFill>
        <p:spPr>
          <a:xfrm>
            <a:off x="3200400" y="4952880"/>
            <a:ext cx="304920" cy="304920"/>
          </a:xfrm>
          <a:prstGeom prst="rect">
            <a:avLst/>
          </a:prstGeom>
          <a:ln w="0">
            <a:noFill/>
          </a:ln>
        </p:spPr>
      </p:pic>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mediacall" presetID="1">
                                  <p:stCondLst>
                                    <p:cond delay="0"/>
                                  </p:stCondLst>
                                  <p:childTnLst>
                                    <p:cmd type="call" cmd="playFrom(0.0)">
                                      <p:cBhvr>
                                        <p:cTn id="21" dur="44626" fill="hold"/>
                                        <p:tgtEl>
                                          <p:spTgt spid="4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5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This level of Hell is for the Heavy Metal Singers. People that are in this hell are AC/DC and Led Zeppelin and other pointless singers. </a:t>
            </a:r>
            <a:endParaRPr b="0" lang="en-US" sz="3200" spc="-1" strike="noStrike">
              <a:solidFill>
                <a:srgbClr val="000000"/>
              </a:solidFill>
              <a:latin typeface="Arial"/>
            </a:endParaRPr>
          </a:p>
        </p:txBody>
      </p:sp>
      <p:sp>
        <p:nvSpPr>
          <p:cNvPr id="454"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5"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6" name="">
            <a:hlinkClick r:id="rId2" action="ppaction://hlinksldjump"/>
          </p:cNvPr>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8T14:46:11Z</dcterms:modified>
  <cp:revision>44</cp:revision>
  <dc:subject/>
  <dc:title>Dante’s Inferno</dc:title>
</cp:coreProperties>
</file>