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A033F-4692-4603-9905-E786A7EAA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E2DC-B7E1-4455-8222-AFC24D6A8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F4A5E-8C6F-4E7F-8FF6-55F862575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D5FB5-D141-4366-9475-8C74DE7B0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48979-4E1C-4599-A568-B6F429546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08602-41D5-4309-98A9-CA6A3F13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7BEAD-0CA9-4050-8CFA-3F4AD3D7D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49D3B-45DC-4F58-BDCD-B2EFB620C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0EC8D-984D-498E-8A8D-2CEB29AF2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3E9CA-A555-4F69-8D0B-757CEFE6D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CA4F2-37DA-46D7-B228-81C19C4BB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05F88-06BA-40B6-9884-E87BDFDBA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AB861-FCF9-49D1-A15A-C59CBCD81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3476A-90B1-4F12-9688-7005587EA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9C5AD-0849-4190-9755-F53FF2B0A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AE9CB-02FB-4173-9F46-56FF92350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EE8A7-9222-4C38-B8A5-689250416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313F0D-FE2F-4620-AD34-9D3E08E06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D1F87-82DB-4BB3-84B0-7C11780F8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D1ACB-2967-4BE7-A3E3-CFA34757E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43CBBA-F042-411D-AF15-F37C194F0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C8627-1A91-4297-BD2D-7C53877E6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112E-E9C4-4C1A-A45C-234B78317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359D2-F51B-4B86-AE55-425865402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B1E15-2C41-49F6-92AA-709460536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A9EF8-5F8E-4E2D-94B4-4F194BC13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CA118-D97F-4B3D-879E-AF60BCF56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53E51-AF08-448E-A734-8FE5049A5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D85D4A-CB36-4842-9A81-450F29254C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7BB6FF-77A4-4FE3-820A-731C5CE486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6A9227-5D11-42EB-BA4A-764AF1C68B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B9448-2601-49DA-8C08-109174FC0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9D531-F767-4061-A884-65821171B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96850-8747-4870-9399-9B3E7ED1E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D48F1-FD21-44A2-89C8-8FF5746285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F449DD-8956-4981-82E0-9ADB0BC53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08879-E405-4D75-B09A-E9725435C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F836F-A61D-4FD7-9A95-BA33AC2B78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9963A-2421-48B1-949A-F504BACBB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3EEFA-2341-481E-AFAF-B1CD08A96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E7AA6-0150-43A4-9E6C-8000D97C6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7D9316-5B2A-4103-BDA9-7C980D0BA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99B688-FF74-4F61-9F7F-FC57D62CF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3EC030-EFCB-46B6-87B2-EE817156A2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E3881-1DD3-45A3-A9D0-F3B1EED6A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7147E-251E-478B-B1FF-F9DB98427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E9044-4885-4745-A0A9-558158F67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7DDEA-05C8-4419-A11D-080F8093F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10ACF-EAD4-408C-BB34-F805260912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51F01-3670-4560-9694-BE14B5A90E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3CF25-F299-4E0E-94C2-D80EA5A65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ECE15-03F1-4DC8-9F18-42F10B338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E64AE-99AE-4301-8FDE-C7F44A9F9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6DE8FF-A877-4C21-A251-34567534FF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EF2D0-47FD-4CE6-8034-A533144E9D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FD45-BA3A-486B-A042-0B3061D2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472A94-6373-4ECD-8E69-711AF55E6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B7A9B-69AA-4699-BDB8-13E982F185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A1CF04-B45E-48AF-B15D-91608FFE9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18ABC2-78B0-4B39-8156-EBCF414B43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3386AB-594B-4D89-B5AF-A03597C032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828E4-F460-4EF8-B7E9-3C147E9F8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452C6-5987-4F63-B95F-4B2AEFB33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D5396-8BD5-4632-ADFA-ED86EAEF4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64F42-60A8-4756-8A68-EEEE0D3FD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11F24-A7D0-4EBB-A116-9E0DE0BAF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15A4-E6A5-4B26-883C-4E4A2690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F94F8-9DA2-4774-9720-54E39A096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9CB4BA-644A-464E-AA85-35F3C6272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8BB9C-934D-43AC-A1BD-319D5CB954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F99748-4FA5-434B-887A-DA41F72900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66D50-B8BD-45DC-829B-FA4B2274E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CCCC9-AAD4-424D-85A0-4843A0A76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E5CD2-9EB1-433B-8BB7-C6533DD841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ADBD03-B8B1-4E79-BEF3-A41A2241A6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B7136-FB9A-4FB7-BFF8-EE6F89FAB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972C67-B170-4FDB-BE0A-5CF1DB993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917B-2E7F-4305-95FE-68AC2C1F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FD266F-6554-4A61-8C86-3141CB4C27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FFC6F-6C51-474A-9CFE-F39A7670A7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496D3-A832-4EC2-BC8E-52075E55CE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116BC2-9B7C-43C6-8C2A-1516BBFB08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70CD75-7A8A-42D6-97D4-FCC0EE7023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6773-C67C-481C-B6A7-8F5FF8BCF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slide7.xml"/><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slide7.xml"/><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7.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2A70-7292-47B2-B918-EA6A5EE89E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38F7-277B-4D47-B218-914074E462C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E48D-1468-45E6-B762-0BA26D52A2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BB1B-F309-47B0-A913-82458B3CCF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C2C1-1670-4A0F-97DF-4FA742A41F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4393-9CC0-4C93-B74C-E9DB02A550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064C-BE86-40E1-A1F0-E63E9D7F24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i Onorato</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2590920" y="2057400"/>
            <a:ext cx="655308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nishment, I think, for Gluttony should be that they are forced to eat healthy foods. I know that this isn’t the most exciting, or hurtful punishment, but for them it would be. They had been eating unhealthy foods for their life and they would /hate/ eating all that healthy food </a:t>
            </a:r>
            <a:endParaRPr b="0" lang="en-US" sz="24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reaction to the punishment would be that I would be glad. They would really deserve that punishment, and they would be getting healthier at the same time. If you think about it, all these punishments in Hell, work to punish them, and it relieves their soul of guilt and bad things at the same time</a:t>
            </a:r>
            <a:endParaRPr b="0" lang="en-US" sz="24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ayal is the crime of this level. I think this has to be the absolute worst crime ever. People can get really really hurt  through betrayal. Just look at Jesus. I think the 3 most deserving people for this crime are Judas, Lamen and Lemual. The first one, betrayed Jesus, and the last two, betrayed Nephi from the Book of Mormon.  </a:t>
            </a:r>
            <a:endParaRPr b="0" lang="en-US" sz="24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the punishment, would be that they would be hung upon a cross for eternity. I think it’s a deserving punishment, because they would be suffering immense pain. And if you betray someone, you should suffer the same pain they had to go through</a:t>
            </a:r>
            <a:endParaRPr b="0" lang="en-US" sz="24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think it’s fitting, because, like I said before,  when you betray someone, you are making them suffer pain too. It hurts to be betrayed. And if you are the betrayer, you should go through the same immense pain that they had to go throug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e learned a lot through my trip through Hell. These sins can hurt people, and that’s wrong. Why anyone would hurt anyone, or themselves like that, I have no idea. To make sure I never come back, I promise to never cheat, or betray someone. I’ll eat healthier and that way I’ll be helping myself in a better way also. I want to make sure I never come back here again. </a:t>
            </a:r>
            <a:endParaRPr b="0" lang="en-US" sz="28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7" name="PlaceHolder 2"/>
          <p:cNvSpPr>
            <a:spLocks noGrp="1"/>
          </p:cNvSpPr>
          <p:nvPr>
            <p:ph/>
          </p:nvPr>
        </p:nvSpPr>
        <p:spPr>
          <a:xfrm>
            <a:off x="2895480" y="1523880"/>
            <a:ext cx="60199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 guide is going to be Severus Snape. The reason I chose him as my guide, was because I absolutely love Harry Potter, and because when Snape is always choosing between good and evil, but always chose good in the end and he would be a good guide</a:t>
            </a:r>
            <a:endParaRPr b="0" lang="en-US" sz="2400" spc="-1" strike="noStrike">
              <a:solidFill>
                <a:srgbClr val="000000"/>
              </a:solidFill>
              <a:latin typeface="Arial"/>
            </a:endParaRPr>
          </a:p>
        </p:txBody>
      </p:sp>
      <p:pic>
        <p:nvPicPr>
          <p:cNvPr id="418" name="" descr=""/>
          <p:cNvPicPr/>
          <p:nvPr/>
        </p:nvPicPr>
        <p:blipFill>
          <a:blip r:embed="rId1"/>
          <a:stretch/>
        </p:blipFill>
        <p:spPr>
          <a:xfrm>
            <a:off x="2666880" y="3824280"/>
            <a:ext cx="2514600" cy="22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am Tori Onorato. I’m 15. I love writing (music, stories etc.) I like singing, and acting, and playing the guitar though I don’t do it much at the school. Wicked is my favorite musical mostly do it with my church. My church is the biggest part of my life. I love being a Mormon. It’s such a great religion. And it’s the best part of my life. I love love /love/ Harry Potter. It has brought so many great experiences to my life. Music, a great amazing play, and lots of friends. OH and I’m also a nerd fighter :D</a:t>
            </a:r>
            <a:endParaRPr b="0" lang="en-US" sz="1800" spc="-1" strike="noStrike">
              <a:solidFill>
                <a:srgbClr val="000000"/>
              </a:solidFill>
              <a:latin typeface="Arial"/>
            </a:endParaRPr>
          </a:p>
        </p:txBody>
      </p:sp>
      <p:pic>
        <p:nvPicPr>
          <p:cNvPr id="421" name="" descr=""/>
          <p:cNvPicPr/>
          <p:nvPr/>
        </p:nvPicPr>
        <p:blipFill>
          <a:blip r:embed="rId1"/>
          <a:stretch/>
        </p:blipFill>
        <p:spPr>
          <a:xfrm>
            <a:off x="6095880" y="3962520"/>
            <a:ext cx="3048120" cy="2052360"/>
          </a:xfrm>
          <a:prstGeom prst="rect">
            <a:avLst/>
          </a:prstGeom>
          <a:ln w="0">
            <a:noFill/>
          </a:ln>
        </p:spPr>
      </p:pic>
      <p:pic>
        <p:nvPicPr>
          <p:cNvPr id="422" name="" descr=""/>
          <p:cNvPicPr/>
          <p:nvPr/>
        </p:nvPicPr>
        <p:blipFill>
          <a:blip r:embed="rId2"/>
          <a:stretch/>
        </p:blipFill>
        <p:spPr>
          <a:xfrm>
            <a:off x="3733920" y="4343400"/>
            <a:ext cx="236196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3045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295280"/>
            <a:ext cx="6248520" cy="440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48640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5638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me of this level is Cheating. I think cheating should be a level, because it’s wrong. You can’t cheat your way through life. 3 people that would be in this level of Hell would be Josh, Layla, and D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120" y="1599840"/>
            <a:ext cx="579132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unishment for cheating, is that if you /do/ get caught cheating, you will have to study for the rest of your life. I think it’s fitting because the reasons for cheating most of the time, is because you didn’t study,  so I thought it seemed fitting</a:t>
            </a:r>
            <a:endParaRPr b="0" lang="en-US" sz="28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think I’m glad they’re being punished, because if you cheat your way through life, you’ll never learn anything, and you could hurt people around you, by cheating, Whether it be a test, or on a person, or through work, or anything</a:t>
            </a:r>
            <a:endParaRPr b="0" lang="en-US" sz="28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601992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rime of this level is Gluttony. I think Gluttony is a pretty bad sin. You can get really unhealthy from eating all that bad food anyway. In my religion, we have this thing called the word of wisdom. It’s basically really like a diet for Mormons. If we don’t follow it, we get really unhealthy. We aren’t supposed to binge on food like that. No one is supposed to get that unhealthy. So that is why I think Gluttony is a crime. 3 people I think are deserving of this crime are Kristina, Shae and Rose</a:t>
            </a:r>
            <a:endParaRPr b="0" lang="en-US" sz="20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7T14:43:52Z</dcterms:modified>
  <cp:revision>43</cp:revision>
  <dc:subject/>
  <dc:title>Dante’s Inferno</dc:title>
</cp:coreProperties>
</file>