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EC8470-3128-43D5-846A-CB0BFAEA20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B2F05-176F-45C2-9BEF-2278D6499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058859-8911-4DAE-87CA-FDB00E21C3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5"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E8A9E9-9D13-4202-94A5-A97EF8D29A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A611C1-FC7D-4A6B-9C42-3A72528134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7"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F2646A-61BA-475C-BCB7-DBC457F4E3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19A7A1-4912-40C5-8651-BD8CB78ADC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453C84-17AA-4B1E-8F67-B751572BEF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66C18D-1231-4E4D-B363-B028D618C0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D0B50B-8800-4556-AA75-B4783419C0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6"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B58927-38F1-4DC4-9251-693BEBA37F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6"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338AA-EA3B-4B10-9214-D6C2569BA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041374-498C-45DE-AB78-B416E3942F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4"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339D6D-2CF7-4DEA-9476-B869AEADBB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8"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65245F-0A01-4522-A7EC-B8CB3B5178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1"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683210-18B3-4D0B-B4F7-53B0E51B61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6"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ECA2D2-6EA3-411E-B362-3482EF0129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C1502D-EA17-40F6-8038-28A1DF38D1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1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37457E-3A4F-4214-861C-A03A21171A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AB95AE-624C-4A67-A4FD-D3A1133919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9A3E3E-4171-4C68-AD18-F0A1FDEF6C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92374B-6B13-4402-9D14-1F1938E61F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4CB75-CB33-4170-B93F-6612D2E4D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2D099C-690D-4C79-BB22-E0715D3F52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ACF9C7-D913-4253-96B6-741380FA9A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3CA922-EF31-4473-BD18-55438E26B2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01C275-2913-470D-A793-35579A3F5E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8CED25-DE61-44FC-A106-717067E776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C6F831-29CC-4F8F-8990-E32E95965A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141DF1-A8BC-46E8-97B5-718937E6C1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2D1ECD-4488-4D89-9427-E66D0ADA65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BF043B-9221-442A-92B7-E12191F02D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126785-EDCD-4F58-B29A-174DA59935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52CCD-F9C9-44D3-9D94-11B9F3BA9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7AA47E-643C-45AD-AA96-154E3DD5AB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2F0170-7053-465A-B6EA-0EFACB2D89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557243-570A-469F-AAC8-626B759798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CADC02-A4E0-412A-BAAB-1F804E7FD4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D3590E-9809-48A1-B886-C95C1BE62E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0DEB79-41FB-4806-8EC5-4D58144107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3D3602-8F4C-4266-A2B7-1B05E9F3EF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B36C1C-4D4C-457E-A996-AD72B1AA8E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1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B41E29-C346-46AE-9541-2A50D30BF5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1F68B8-06E9-4A7E-B9CE-A8DFCD395B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5C0B7-F00D-4885-B99B-27DCB0B9D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4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324F59-22D0-45F2-8370-EE153075D0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067072-9B75-41C2-9F72-FB1D9B8113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49E484-1FB6-445D-9E91-53CC335B60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39A3BB-4D6B-4A4C-9D9C-CF50C29238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9E522D-91C8-404D-81D2-C50F04FADE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6544B5-1A4C-4F0C-8705-2D3414CB7D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CD2AF7-93CA-4B1A-BD1E-1BDDA4F8A5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90CC5E-7A82-4605-889E-2B1B3F73F3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84E34B-4F93-452B-9DFF-10718DD215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9A1DBBD-8939-4611-9AAF-FE315D5E7B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1962E-D1C6-4B2F-AEF7-984CA254E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6AA8B8F-259B-43C8-A9AB-BD69C230E9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39DD1D-1E25-4BEE-B77A-9C252D2AC8B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276E9C-2A8E-4A69-8C37-4043CEB12A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015FBB-D857-4A46-9CA7-5292BAD17D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061853-0105-426E-8605-7B6023442A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8017EB-4F53-4625-A5A4-92DE822412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5CD4F0-9E7A-4491-A30E-B1EDCACDC9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B0DB66-EE60-4AA2-AEDE-84215F5DBF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DE5666-9E66-417C-8CF2-4E81BD3CBE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5F5480-8EB6-4630-AD96-72C662A9B1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482C9-27F3-44CB-8911-E9908E669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13D2D7-7B34-4A67-AB16-702CEC721E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1C41D8A-DFD0-4D44-840C-8ACE00BD807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4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BA6F207-9828-4F4F-89B3-A78DD0FE37C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B6DC298-E12F-417D-B2C7-DB53C23BB60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C2F105-D669-4E79-BBB4-8F266485C6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012FC8-ED76-45B5-BB00-DA55AC67C1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87DAFC-7CD6-4462-B0DB-EAC432A51F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7E58E9-494B-45E9-8A1E-25A36429EC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EB0F3A-7CD5-48D5-926B-3E369CE169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5E4E4B-5C62-4AC3-8916-539B57DF47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9"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E74CA-FD58-4A5B-8029-1717D8EA0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85DD45-BC99-4105-910A-05A1FA366A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997167-C050-4AAD-9291-685906EB68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270DD6-A588-476C-9F91-8F94FD8FEC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02F4E43-3D3D-4CD8-9DBA-DE1A597FDDA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04AD8D0-CC37-4A35-A323-EA981EC0BB0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62DAC-C8DB-47D5-97C4-C3340E78C9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7.xml"/><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7.xml"/><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7.xml"/><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 Target="slide7.xml"/><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slide7.xml"/><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slide7.xml"/><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37.xml"/><Relationship Id="rId18" Type="http://schemas.openxmlformats.org/officeDocument/2006/relationships/slideLayout" Target="../slideLayouts/slideLayout38.xml"/><Relationship Id="rId19" Type="http://schemas.openxmlformats.org/officeDocument/2006/relationships/slideLayout" Target="../slideLayouts/slideLayout39.xml"/><Relationship Id="rId20" Type="http://schemas.openxmlformats.org/officeDocument/2006/relationships/slideLayout" Target="../slideLayouts/slideLayout40.xml"/><Relationship Id="rId21" Type="http://schemas.openxmlformats.org/officeDocument/2006/relationships/slideLayout" Target="../slideLayouts/slideLayout41.xml"/><Relationship Id="rId22" Type="http://schemas.openxmlformats.org/officeDocument/2006/relationships/slideLayout" Target="../slideLayouts/slideLayout42.xml"/><Relationship Id="rId23" Type="http://schemas.openxmlformats.org/officeDocument/2006/relationships/slideLayout" Target="../slideLayouts/slideLayout43.xml"/><Relationship Id="rId24" Type="http://schemas.openxmlformats.org/officeDocument/2006/relationships/slideLayout" Target="../slideLayouts/slideLayout44.xml"/><Relationship Id="rId25" Type="http://schemas.openxmlformats.org/officeDocument/2006/relationships/slideLayout" Target="../slideLayouts/slideLayout45.xml"/><Relationship Id="rId26" Type="http://schemas.openxmlformats.org/officeDocument/2006/relationships/slideLayout" Target="../slideLayouts/slideLayout46.xml"/><Relationship Id="rId27" Type="http://schemas.openxmlformats.org/officeDocument/2006/relationships/slideLayout" Target="../slideLayouts/slideLayout47.xml"/><Relationship Id="rId2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 Target="slide7.xml"/><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slide7.xml"/><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slide7.xml"/><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49.xml"/><Relationship Id="rId18" Type="http://schemas.openxmlformats.org/officeDocument/2006/relationships/slideLayout" Target="../slideLayouts/slideLayout50.xml"/><Relationship Id="rId19" Type="http://schemas.openxmlformats.org/officeDocument/2006/relationships/slideLayout" Target="../slideLayouts/slideLayout51.xml"/><Relationship Id="rId20" Type="http://schemas.openxmlformats.org/officeDocument/2006/relationships/slideLayout" Target="../slideLayouts/slideLayout52.xml"/><Relationship Id="rId21" Type="http://schemas.openxmlformats.org/officeDocument/2006/relationships/slideLayout" Target="../slideLayouts/slideLayout53.xml"/><Relationship Id="rId22" Type="http://schemas.openxmlformats.org/officeDocument/2006/relationships/slideLayout" Target="../slideLayouts/slideLayout54.xml"/><Relationship Id="rId23" Type="http://schemas.openxmlformats.org/officeDocument/2006/relationships/slideLayout" Target="../slideLayouts/slideLayout55.xml"/><Relationship Id="rId24" Type="http://schemas.openxmlformats.org/officeDocument/2006/relationships/slideLayout" Target="../slideLayouts/slideLayout56.xml"/><Relationship Id="rId25" Type="http://schemas.openxmlformats.org/officeDocument/2006/relationships/slideLayout" Target="../slideLayouts/slideLayout57.xml"/><Relationship Id="rId26" Type="http://schemas.openxmlformats.org/officeDocument/2006/relationships/slideLayout" Target="../slideLayouts/slideLayout58.xml"/><Relationship Id="rId27" Type="http://schemas.openxmlformats.org/officeDocument/2006/relationships/slideLayout" Target="../slideLayouts/slideLayout59.xml"/><Relationship Id="rId2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 Target="slide7.xml"/><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slide7.xml"/><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slide7.xml"/><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61.xml"/><Relationship Id="rId18" Type="http://schemas.openxmlformats.org/officeDocument/2006/relationships/slideLayout" Target="../slideLayouts/slideLayout62.xml"/><Relationship Id="rId19" Type="http://schemas.openxmlformats.org/officeDocument/2006/relationships/slideLayout" Target="../slideLayouts/slideLayout63.xml"/><Relationship Id="rId20" Type="http://schemas.openxmlformats.org/officeDocument/2006/relationships/slideLayout" Target="../slideLayouts/slideLayout64.xml"/><Relationship Id="rId21" Type="http://schemas.openxmlformats.org/officeDocument/2006/relationships/slideLayout" Target="../slideLayouts/slideLayout65.xml"/><Relationship Id="rId22" Type="http://schemas.openxmlformats.org/officeDocument/2006/relationships/slideLayout" Target="../slideLayouts/slideLayout66.xml"/><Relationship Id="rId23" Type="http://schemas.openxmlformats.org/officeDocument/2006/relationships/slideLayout" Target="../slideLayouts/slideLayout67.xml"/><Relationship Id="rId24" Type="http://schemas.openxmlformats.org/officeDocument/2006/relationships/slideLayout" Target="../slideLayouts/slideLayout68.xml"/><Relationship Id="rId25" Type="http://schemas.openxmlformats.org/officeDocument/2006/relationships/slideLayout" Target="../slideLayouts/slideLayout69.xml"/><Relationship Id="rId26" Type="http://schemas.openxmlformats.org/officeDocument/2006/relationships/slideLayout" Target="../slideLayouts/slideLayout70.xml"/><Relationship Id="rId27" Type="http://schemas.openxmlformats.org/officeDocument/2006/relationships/slideLayout" Target="../slideLayouts/slideLayout71.xml"/><Relationship Id="rId2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 Target="slide7.xml"/><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slide7.xml"/><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73.xml"/><Relationship Id="rId18" Type="http://schemas.openxmlformats.org/officeDocument/2006/relationships/slideLayout" Target="../slideLayouts/slideLayout74.xml"/><Relationship Id="rId19" Type="http://schemas.openxmlformats.org/officeDocument/2006/relationships/slideLayout" Target="../slideLayouts/slideLayout75.xml"/><Relationship Id="rId20" Type="http://schemas.openxmlformats.org/officeDocument/2006/relationships/slideLayout" Target="../slideLayouts/slideLayout76.xml"/><Relationship Id="rId21" Type="http://schemas.openxmlformats.org/officeDocument/2006/relationships/slideLayout" Target="../slideLayouts/slideLayout77.xml"/><Relationship Id="rId22" Type="http://schemas.openxmlformats.org/officeDocument/2006/relationships/slideLayout" Target="../slideLayouts/slideLayout78.xml"/><Relationship Id="rId23" Type="http://schemas.openxmlformats.org/officeDocument/2006/relationships/slideLayout" Target="../slideLayouts/slideLayout79.xml"/><Relationship Id="rId24" Type="http://schemas.openxmlformats.org/officeDocument/2006/relationships/slideLayout" Target="../slideLayouts/slideLayout80.xml"/><Relationship Id="rId25" Type="http://schemas.openxmlformats.org/officeDocument/2006/relationships/slideLayout" Target="../slideLayouts/slideLayout81.xml"/><Relationship Id="rId26" Type="http://schemas.openxmlformats.org/officeDocument/2006/relationships/slideLayout" Target="../slideLayouts/slideLayout82.xml"/><Relationship Id="rId27" Type="http://schemas.openxmlformats.org/officeDocument/2006/relationships/slideLayout" Target="../slideLayouts/slideLayout83.xml"/><Relationship Id="rId28"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C150B-E397-4CD1-87FB-EF82BA5335E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2"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3"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4"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52"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4D8A6-DB50-43B3-83C1-C3A39550D07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6"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62"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63"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64"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65"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03"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47936-8AF3-41BC-AB0E-D5FC76A8647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7"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3"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14"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1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16"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5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5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5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051A4-8919-48D2-85A8-1566AB68E6B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6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16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16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6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6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16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17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7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7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7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7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18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18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7"/>
    <p:sldLayoutId id="2147483689" r:id="rId18"/>
    <p:sldLayoutId id="2147483690" r:id="rId19"/>
    <p:sldLayoutId id="2147483691" r:id="rId20"/>
    <p:sldLayoutId id="2147483692" r:id="rId21"/>
    <p:sldLayoutId id="2147483693" r:id="rId22"/>
    <p:sldLayoutId id="2147483694" r:id="rId23"/>
    <p:sldLayoutId id="2147483695" r:id="rId24"/>
    <p:sldLayoutId id="2147483696" r:id="rId25"/>
    <p:sldLayoutId id="2147483697" r:id="rId26"/>
    <p:sldLayoutId id="2147483698" r:id="rId27"/>
    <p:sldLayoutId id="2147483699" r:id="rId2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1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2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2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139A1-5594-45DD-A323-281B876894C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2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3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3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3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3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3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23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4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24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4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4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24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24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17"/>
    <p:sldLayoutId id="2147483702" r:id="rId18"/>
    <p:sldLayoutId id="2147483703" r:id="rId19"/>
    <p:sldLayoutId id="2147483704" r:id="rId20"/>
    <p:sldLayoutId id="2147483705" r:id="rId21"/>
    <p:sldLayoutId id="2147483706" r:id="rId22"/>
    <p:sldLayoutId id="2147483707" r:id="rId23"/>
    <p:sldLayoutId id="2147483708" r:id="rId24"/>
    <p:sldLayoutId id="2147483709" r:id="rId25"/>
    <p:sldLayoutId id="2147483710" r:id="rId26"/>
    <p:sldLayoutId id="2147483711" r:id="rId27"/>
    <p:sldLayoutId id="2147483712" r:id="rId2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8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8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8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A5144-6911-427C-A8E9-006013F340D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9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9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9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9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9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9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0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0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0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0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0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1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1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17"/>
    <p:sldLayoutId id="2147483715" r:id="rId18"/>
    <p:sldLayoutId id="2147483716" r:id="rId19"/>
    <p:sldLayoutId id="2147483717" r:id="rId20"/>
    <p:sldLayoutId id="2147483718" r:id="rId21"/>
    <p:sldLayoutId id="2147483719" r:id="rId22"/>
    <p:sldLayoutId id="2147483720" r:id="rId23"/>
    <p:sldLayoutId id="2147483721" r:id="rId24"/>
    <p:sldLayoutId id="2147483722" r:id="rId25"/>
    <p:sldLayoutId id="2147483723" r:id="rId26"/>
    <p:sldLayoutId id="2147483724" r:id="rId27"/>
    <p:sldLayoutId id="2147483725" r:id="rId2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34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5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1A373-9974-4819-BC8D-2CC78E20B45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5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5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36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36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6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6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36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6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7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7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7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7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7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7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17"/>
    <p:sldLayoutId id="2147483728" r:id="rId18"/>
    <p:sldLayoutId id="2147483729" r:id="rId19"/>
    <p:sldLayoutId id="2147483730" r:id="rId20"/>
    <p:sldLayoutId id="2147483731" r:id="rId21"/>
    <p:sldLayoutId id="2147483732" r:id="rId22"/>
    <p:sldLayoutId id="2147483733" r:id="rId23"/>
    <p:sldLayoutId id="2147483734" r:id="rId24"/>
    <p:sldLayoutId id="2147483735" r:id="rId25"/>
    <p:sldLayoutId id="2147483736" r:id="rId26"/>
    <p:sldLayoutId id="2147483737" r:id="rId27"/>
    <p:sldLayoutId id="2147483738" r:id="rId28"/>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image" Target="../media/image5.jpeg"/><Relationship Id="rId4"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4.xml"/><Relationship Id="rId3"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1.xml"/><Relationship Id="rId3" Type="http://schemas.openxmlformats.org/officeDocument/2006/relationships/image" Target="../media/image6.jpeg"/><Relationship Id="rId4"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ri Onorato</a:t>
            </a:r>
            <a:endParaRPr b="0" lang="en-US" sz="3200" spc="-1" strike="noStrike">
              <a:solidFill>
                <a:srgbClr val="000000"/>
              </a:solidFill>
              <a:latin typeface="Arial"/>
            </a:endParaRPr>
          </a:p>
        </p:txBody>
      </p:sp>
      <p:sp>
        <p:nvSpPr>
          <p:cNvPr id="414" name=""/>
          <p:cNvSpPr/>
          <p:nvPr/>
        </p:nvSpPr>
        <p:spPr>
          <a:xfrm>
            <a:off x="2743200" y="152280"/>
            <a:ext cx="6172200" cy="1524240"/>
          </a:xfrm>
          <a:prstGeom prst="horizontalScroll">
            <a:avLst>
              <a:gd name="adj" fmla="val 12500"/>
            </a:avLst>
          </a:prstGeom>
          <a:gradFill rotWithShape="0">
            <a:gsLst>
              <a:gs pos="0">
                <a:srgbClr val="4d0808"/>
              </a:gs>
              <a:gs pos="100000">
                <a:srgbClr val="fff200">
                  <a:alpha val="84313"/>
                </a:srgbClr>
              </a:gs>
            </a:gsLst>
            <a:lin ang="5400000"/>
          </a:gradFill>
          <a:ln w="255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hiller"/>
              </a:rPr>
              <a:t>Abandon all hope! Ye who enter here.</a:t>
            </a:r>
            <a:endParaRPr b="0" lang="en-US" sz="4000" spc="-1" strike="noStrike">
              <a:solidFill>
                <a:srgbClr val="000000"/>
              </a:solidFill>
              <a:latin typeface="Arial"/>
            </a:endParaRPr>
          </a:p>
        </p:txBody>
      </p:sp>
      <p:pic>
        <p:nvPicPr>
          <p:cNvPr id="415" name="" descr=""/>
          <p:cNvPicPr/>
          <p:nvPr/>
        </p:nvPicPr>
        <p:blipFill>
          <a:blip r:embed="rId1"/>
          <a:stretch/>
        </p:blipFill>
        <p:spPr>
          <a:xfrm>
            <a:off x="2590920" y="2057400"/>
            <a:ext cx="6553080" cy="4191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B, The Punishment</a:t>
            </a:r>
            <a:endParaRPr b="0" lang="en-US" sz="6000" spc="-1" strike="noStrike">
              <a:solidFill>
                <a:srgbClr val="ffffff"/>
              </a:solidFill>
              <a:latin typeface="Chiller"/>
            </a:endParaRPr>
          </a:p>
        </p:txBody>
      </p:sp>
      <p:sp>
        <p:nvSpPr>
          <p:cNvPr id="454"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unishment, I think, for Gluttony should be that they are forced to eat healthy foods. I know that this isn’t the most exciting, or hurtful punishment, but for them it would be. They had been eating unhealthy foods for their life and they would /hate/ eating all that healthy food </a:t>
            </a:r>
            <a:endParaRPr b="0" lang="en-US" sz="2400" spc="-1" strike="noStrike">
              <a:solidFill>
                <a:srgbClr val="000000"/>
              </a:solidFill>
              <a:latin typeface="Arial"/>
            </a:endParaRPr>
          </a:p>
        </p:txBody>
      </p:sp>
      <p:sp>
        <p:nvSpPr>
          <p:cNvPr id="455" name="">
            <a:hlinkClick r:id="" action="ppaction://hlinkshowjump?jump=nextslide"/>
          </p:cNvPr>
          <p:cNvSpPr/>
          <p:nvPr/>
        </p:nvSpPr>
        <p:spPr>
          <a:xfrm>
            <a:off x="2971800" y="5638680"/>
            <a:ext cx="1523880" cy="381240"/>
          </a:xfrm>
          <a:custGeom>
            <a:avLst/>
            <a:gdLst>
              <a:gd name="textAreaLeft" fmla="*/ 61920 w 1523880"/>
              <a:gd name="textAreaRight" fmla="*/ 1461960 w 1523880"/>
              <a:gd name="textAreaTop" fmla="*/ 61920 h 381240"/>
              <a:gd name="textAreaBottom" fmla="*/ 319320 h 381240"/>
            </a:gdLst>
            <a:ahLst/>
            <a:rect l="textAreaLeft" t="textAreaTop" r="textAreaRight" b="textAreaBottom"/>
            <a:pathLst>
              <a:path w="86278" h="21600">
                <a:moveTo>
                  <a:pt x="0" y="0"/>
                </a:moveTo>
                <a:lnTo>
                  <a:pt x="86278" y="0"/>
                </a:lnTo>
                <a:lnTo>
                  <a:pt x="86278" y="21600"/>
                </a:lnTo>
                <a:lnTo>
                  <a:pt x="0" y="21600"/>
                </a:lnTo>
                <a:close/>
              </a:path>
              <a:path fill="lightenLess" w="86278" h="21600">
                <a:moveTo>
                  <a:pt x="0" y="0"/>
                </a:moveTo>
                <a:lnTo>
                  <a:pt x="86278" y="0"/>
                </a:lnTo>
                <a:lnTo>
                  <a:pt x="82768" y="3510"/>
                </a:lnTo>
                <a:lnTo>
                  <a:pt x="3510" y="3510"/>
                </a:lnTo>
                <a:close/>
              </a:path>
              <a:path fill="darken" w="86278" h="21600">
                <a:moveTo>
                  <a:pt x="86278" y="0"/>
                </a:moveTo>
                <a:lnTo>
                  <a:pt x="86278" y="21600"/>
                </a:lnTo>
                <a:lnTo>
                  <a:pt x="82768" y="18090"/>
                </a:lnTo>
                <a:lnTo>
                  <a:pt x="82768" y="3510"/>
                </a:lnTo>
                <a:close/>
              </a:path>
              <a:path fill="darkenLess" w="86278" h="21600">
                <a:moveTo>
                  <a:pt x="86278" y="21600"/>
                </a:moveTo>
                <a:lnTo>
                  <a:pt x="0" y="21600"/>
                </a:lnTo>
                <a:lnTo>
                  <a:pt x="3510" y="18090"/>
                </a:lnTo>
                <a:lnTo>
                  <a:pt x="82768" y="18090"/>
                </a:lnTo>
                <a:close/>
              </a:path>
              <a:path fill="lighten" w="86278" h="21600">
                <a:moveTo>
                  <a:pt x="0" y="21600"/>
                </a:moveTo>
                <a:lnTo>
                  <a:pt x="0" y="0"/>
                </a:lnTo>
                <a:lnTo>
                  <a:pt x="3510" y="3510"/>
                </a:lnTo>
                <a:lnTo>
                  <a:pt x="3510" y="1809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6" name=""/>
          <p:cNvSpPr/>
          <p:nvPr/>
        </p:nvSpPr>
        <p:spPr>
          <a:xfrm>
            <a:off x="4724280" y="5638680"/>
            <a:ext cx="1828800" cy="381240"/>
          </a:xfrm>
          <a:custGeom>
            <a:avLst/>
            <a:gdLst>
              <a:gd name="textAreaLeft" fmla="*/ 87120 w 1828800"/>
              <a:gd name="textAreaRight" fmla="*/ 1741680 w 1828800"/>
              <a:gd name="textAreaTop" fmla="*/ 87120 h 381240"/>
              <a:gd name="textAreaBottom" fmla="*/ 294120 h 381240"/>
            </a:gdLst>
            <a:ahLst/>
            <a:rect l="textAreaLeft" t="textAreaTop" r="textAreaRight" b="textAreaBottom"/>
            <a:pathLst>
              <a:path w="103537" h="21600">
                <a:moveTo>
                  <a:pt x="0" y="0"/>
                </a:moveTo>
                <a:lnTo>
                  <a:pt x="103537" y="0"/>
                </a:lnTo>
                <a:lnTo>
                  <a:pt x="103537" y="21600"/>
                </a:lnTo>
                <a:lnTo>
                  <a:pt x="0" y="21600"/>
                </a:lnTo>
                <a:close/>
              </a:path>
              <a:path fill="lightenLess" w="103537" h="21600">
                <a:moveTo>
                  <a:pt x="0" y="0"/>
                </a:moveTo>
                <a:lnTo>
                  <a:pt x="103537" y="0"/>
                </a:lnTo>
                <a:lnTo>
                  <a:pt x="98588" y="4950"/>
                </a:lnTo>
                <a:lnTo>
                  <a:pt x="4950" y="4950"/>
                </a:lnTo>
                <a:close/>
              </a:path>
              <a:path fill="darken" w="103537" h="21600">
                <a:moveTo>
                  <a:pt x="103537" y="0"/>
                </a:moveTo>
                <a:lnTo>
                  <a:pt x="103537" y="21600"/>
                </a:lnTo>
                <a:lnTo>
                  <a:pt x="98588" y="16650"/>
                </a:lnTo>
                <a:lnTo>
                  <a:pt x="98588" y="4950"/>
                </a:lnTo>
                <a:close/>
              </a:path>
              <a:path fill="darkenLess" w="103537" h="21600">
                <a:moveTo>
                  <a:pt x="103537" y="21600"/>
                </a:moveTo>
                <a:lnTo>
                  <a:pt x="0" y="21600"/>
                </a:lnTo>
                <a:lnTo>
                  <a:pt x="4950" y="16650"/>
                </a:lnTo>
                <a:lnTo>
                  <a:pt x="98588" y="16650"/>
                </a:lnTo>
                <a:close/>
              </a:path>
              <a:path fill="lighten" w="103537"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
        <p:nvSpPr>
          <p:cNvPr id="457" name=""/>
          <p:cNvSpPr/>
          <p:nvPr/>
        </p:nvSpPr>
        <p:spPr>
          <a:xfrm>
            <a:off x="6934320" y="5638680"/>
            <a:ext cx="1676160" cy="381240"/>
          </a:xfrm>
          <a:custGeom>
            <a:avLst/>
            <a:gdLst>
              <a:gd name="textAreaLeft" fmla="*/ 95040 w 1676160"/>
              <a:gd name="textAreaRight" fmla="*/ 1581120 w 1676160"/>
              <a:gd name="textAreaTop" fmla="*/ 95040 h 381240"/>
              <a:gd name="textAreaBottom" fmla="*/ 28620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89498" y="5400"/>
                </a:lnTo>
                <a:lnTo>
                  <a:pt x="5400" y="5400"/>
                </a:lnTo>
                <a:close/>
              </a:path>
              <a:path fill="darken" w="94897" h="21600">
                <a:moveTo>
                  <a:pt x="94897" y="0"/>
                </a:moveTo>
                <a:lnTo>
                  <a:pt x="94897" y="21600"/>
                </a:lnTo>
                <a:lnTo>
                  <a:pt x="89498" y="16200"/>
                </a:lnTo>
                <a:lnTo>
                  <a:pt x="89498" y="5400"/>
                </a:lnTo>
                <a:close/>
              </a:path>
              <a:path fill="darkenLess" w="94897" h="21600">
                <a:moveTo>
                  <a:pt x="94897" y="21600"/>
                </a:moveTo>
                <a:lnTo>
                  <a:pt x="0" y="21600"/>
                </a:lnTo>
                <a:lnTo>
                  <a:pt x="5400" y="16200"/>
                </a:lnTo>
                <a:lnTo>
                  <a:pt x="89498" y="16200"/>
                </a:lnTo>
                <a:close/>
              </a:path>
              <a:path fill="lighten" w="9489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My Reaction</a:t>
            </a:r>
            <a:endParaRPr b="0" lang="en-US" sz="6600" spc="-1" strike="noStrike">
              <a:solidFill>
                <a:srgbClr val="ffffff"/>
              </a:solidFill>
              <a:latin typeface="Chiller"/>
            </a:endParaRPr>
          </a:p>
        </p:txBody>
      </p:sp>
      <p:sp>
        <p:nvSpPr>
          <p:cNvPr id="45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y reaction to the punishment would be that I would be glad. They would really deserve that punishment, and they would be getting healthier at the same time. If you think about it, all these punishments in Hell, work to punish them, and it relieves their soul of guilt and bad things at the same time</a:t>
            </a:r>
            <a:endParaRPr b="0" lang="en-US" sz="2400" spc="-1" strike="noStrike">
              <a:solidFill>
                <a:srgbClr val="000000"/>
              </a:solidFill>
              <a:latin typeface="Arial"/>
            </a:endParaRPr>
          </a:p>
        </p:txBody>
      </p:sp>
      <p:sp>
        <p:nvSpPr>
          <p:cNvPr id="460" name="">
            <a:hlinkClick r:id="" action="ppaction://hlinkshowjump?jump=nextslide"/>
          </p:cNvPr>
          <p:cNvSpPr/>
          <p:nvPr/>
        </p:nvSpPr>
        <p:spPr>
          <a:xfrm>
            <a:off x="2971800" y="5715000"/>
            <a:ext cx="1523880" cy="304920"/>
          </a:xfrm>
          <a:custGeom>
            <a:avLst/>
            <a:gdLst>
              <a:gd name="textAreaLeft" fmla="*/ 75960 w 1523880"/>
              <a:gd name="textAreaRight" fmla="*/ 1447920 w 1523880"/>
              <a:gd name="textAreaTop" fmla="*/ 75960 h 304920"/>
              <a:gd name="textAreaBottom" fmla="*/ 228960 h 304920"/>
            </a:gdLst>
            <a:ahLst/>
            <a:rect l="textAreaLeft" t="textAreaTop" r="textAreaRight" b="textAreaBottom"/>
            <a:pathLst>
              <a:path w="107847" h="21600">
                <a:moveTo>
                  <a:pt x="0" y="0"/>
                </a:moveTo>
                <a:lnTo>
                  <a:pt x="107847" y="0"/>
                </a:lnTo>
                <a:lnTo>
                  <a:pt x="107847" y="21600"/>
                </a:lnTo>
                <a:lnTo>
                  <a:pt x="0" y="21600"/>
                </a:lnTo>
                <a:close/>
              </a:path>
              <a:path fill="lightenLess" w="107847" h="21600">
                <a:moveTo>
                  <a:pt x="0" y="0"/>
                </a:moveTo>
                <a:lnTo>
                  <a:pt x="107847" y="0"/>
                </a:lnTo>
                <a:lnTo>
                  <a:pt x="102447" y="5400"/>
                </a:lnTo>
                <a:lnTo>
                  <a:pt x="5400" y="5400"/>
                </a:lnTo>
                <a:close/>
              </a:path>
              <a:path fill="darken" w="107847" h="21600">
                <a:moveTo>
                  <a:pt x="107847" y="0"/>
                </a:moveTo>
                <a:lnTo>
                  <a:pt x="107847" y="21600"/>
                </a:lnTo>
                <a:lnTo>
                  <a:pt x="102447" y="16200"/>
                </a:lnTo>
                <a:lnTo>
                  <a:pt x="102447" y="5400"/>
                </a:lnTo>
                <a:close/>
              </a:path>
              <a:path fill="darkenLess" w="107847" h="21600">
                <a:moveTo>
                  <a:pt x="107847" y="21600"/>
                </a:moveTo>
                <a:lnTo>
                  <a:pt x="0" y="21600"/>
                </a:lnTo>
                <a:lnTo>
                  <a:pt x="5400" y="16200"/>
                </a:lnTo>
                <a:lnTo>
                  <a:pt x="102447" y="16200"/>
                </a:lnTo>
                <a:close/>
              </a:path>
              <a:path fill="lighten" w="10784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C</a:t>
            </a:r>
            <a:endParaRPr b="0" lang="en-US" sz="11800" spc="-1" strike="noStrike">
              <a:solidFill>
                <a:srgbClr val="ffffff"/>
              </a:solidFill>
              <a:latin typeface="Chiller"/>
            </a:endParaRPr>
          </a:p>
        </p:txBody>
      </p:sp>
      <p:sp>
        <p:nvSpPr>
          <p:cNvPr id="462"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
            <a:hlinkClick r:id="" action="ppaction://hlinkshowjump?jump=nextslide"/>
          </p:cNvPr>
          <p:cNvSpPr/>
          <p:nvPr/>
        </p:nvSpPr>
        <p:spPr>
          <a:xfrm>
            <a:off x="2895480" y="5715000"/>
            <a:ext cx="1219320" cy="304920"/>
          </a:xfrm>
          <a:custGeom>
            <a:avLst/>
            <a:gdLst>
              <a:gd name="textAreaLeft" fmla="*/ 45360 w 1219320"/>
              <a:gd name="textAreaRight" fmla="*/ 1173960 w 1219320"/>
              <a:gd name="textAreaTop" fmla="*/ 45360 h 304920"/>
              <a:gd name="textAreaBottom" fmla="*/ 25956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3073" y="3225"/>
                </a:lnTo>
                <a:lnTo>
                  <a:pt x="3225" y="3225"/>
                </a:lnTo>
                <a:close/>
              </a:path>
              <a:path fill="darken" w="86298" h="21600">
                <a:moveTo>
                  <a:pt x="86298" y="0"/>
                </a:moveTo>
                <a:lnTo>
                  <a:pt x="86298" y="21600"/>
                </a:lnTo>
                <a:lnTo>
                  <a:pt x="83073" y="18375"/>
                </a:lnTo>
                <a:lnTo>
                  <a:pt x="83073" y="3225"/>
                </a:lnTo>
                <a:close/>
              </a:path>
              <a:path fill="darkenLess" w="86298" h="21600">
                <a:moveTo>
                  <a:pt x="86298" y="21600"/>
                </a:moveTo>
                <a:lnTo>
                  <a:pt x="0" y="21600"/>
                </a:lnTo>
                <a:lnTo>
                  <a:pt x="3225" y="18375"/>
                </a:lnTo>
                <a:lnTo>
                  <a:pt x="83073" y="18375"/>
                </a:lnTo>
                <a:close/>
              </a:path>
              <a:path fill="lighten" w="86298" h="21600">
                <a:moveTo>
                  <a:pt x="0" y="21600"/>
                </a:moveTo>
                <a:lnTo>
                  <a:pt x="0" y="0"/>
                </a:lnTo>
                <a:lnTo>
                  <a:pt x="3225" y="3225"/>
                </a:lnTo>
                <a:lnTo>
                  <a:pt x="3225" y="183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64" name=""/>
          <p:cNvSpPr/>
          <p:nvPr/>
        </p:nvSpPr>
        <p:spPr>
          <a:xfrm>
            <a:off x="4572000" y="5715000"/>
            <a:ext cx="1905120" cy="304920"/>
          </a:xfrm>
          <a:custGeom>
            <a:avLst/>
            <a:gdLst>
              <a:gd name="textAreaLeft" fmla="*/ 58680 w 1905120"/>
              <a:gd name="textAreaRight" fmla="*/ 1846440 w 1905120"/>
              <a:gd name="textAreaTop" fmla="*/ 58680 h 304920"/>
              <a:gd name="textAreaBottom" fmla="*/ 24624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30659" y="4163"/>
                </a:lnTo>
                <a:lnTo>
                  <a:pt x="4163" y="4163"/>
                </a:lnTo>
                <a:close/>
              </a:path>
              <a:path fill="darken" w="134822" h="21600">
                <a:moveTo>
                  <a:pt x="134822" y="0"/>
                </a:moveTo>
                <a:lnTo>
                  <a:pt x="134822" y="21600"/>
                </a:lnTo>
                <a:lnTo>
                  <a:pt x="130659" y="17437"/>
                </a:lnTo>
                <a:lnTo>
                  <a:pt x="130659" y="4163"/>
                </a:lnTo>
                <a:close/>
              </a:path>
              <a:path fill="darkenLess" w="134822" h="21600">
                <a:moveTo>
                  <a:pt x="134822" y="21600"/>
                </a:moveTo>
                <a:lnTo>
                  <a:pt x="0" y="21600"/>
                </a:lnTo>
                <a:lnTo>
                  <a:pt x="4163" y="17437"/>
                </a:lnTo>
                <a:lnTo>
                  <a:pt x="130659" y="17437"/>
                </a:lnTo>
                <a:close/>
              </a:path>
              <a:path fill="lighten" w="134822" h="21600">
                <a:moveTo>
                  <a:pt x="0" y="21600"/>
                </a:moveTo>
                <a:lnTo>
                  <a:pt x="0" y="0"/>
                </a:lnTo>
                <a:lnTo>
                  <a:pt x="4163" y="4163"/>
                </a:lnTo>
                <a:lnTo>
                  <a:pt x="4163" y="174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65" name=""/>
          <p:cNvSpPr/>
          <p:nvPr/>
        </p:nvSpPr>
        <p:spPr>
          <a:xfrm>
            <a:off x="6858000" y="5715000"/>
            <a:ext cx="1905120" cy="304920"/>
          </a:xfrm>
          <a:custGeom>
            <a:avLst/>
            <a:gdLst>
              <a:gd name="textAreaLeft" fmla="*/ 75960 w 1905120"/>
              <a:gd name="textAreaRight" fmla="*/ 1829160 w 1905120"/>
              <a:gd name="textAreaTop" fmla="*/ 75960 h 304920"/>
              <a:gd name="textAreaBottom" fmla="*/ 22896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29422" y="5400"/>
                </a:lnTo>
                <a:lnTo>
                  <a:pt x="5400" y="5400"/>
                </a:lnTo>
                <a:close/>
              </a:path>
              <a:path fill="darken" w="134822" h="21600">
                <a:moveTo>
                  <a:pt x="134822" y="0"/>
                </a:moveTo>
                <a:lnTo>
                  <a:pt x="134822" y="21600"/>
                </a:lnTo>
                <a:lnTo>
                  <a:pt x="129422" y="16200"/>
                </a:lnTo>
                <a:lnTo>
                  <a:pt x="129422" y="5400"/>
                </a:lnTo>
                <a:close/>
              </a:path>
              <a:path fill="darkenLess" w="134822" h="21600">
                <a:moveTo>
                  <a:pt x="134822" y="21600"/>
                </a:moveTo>
                <a:lnTo>
                  <a:pt x="0" y="21600"/>
                </a:lnTo>
                <a:lnTo>
                  <a:pt x="5400" y="16200"/>
                </a:lnTo>
                <a:lnTo>
                  <a:pt x="129422" y="16200"/>
                </a:lnTo>
                <a:close/>
              </a:path>
              <a:path fill="lighten" w="134822"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66" name="" descr=""/>
          <p:cNvPicPr/>
          <p:nvPr/>
        </p:nvPicPr>
        <p:blipFill>
          <a:blip r:embed="rId1"/>
          <a:stretch/>
        </p:blipFill>
        <p:spPr>
          <a:xfrm>
            <a:off x="2895480" y="1600200"/>
            <a:ext cx="6019920" cy="4038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The Crime</a:t>
            </a:r>
            <a:endParaRPr b="0" lang="en-US" sz="6600" spc="-1" strike="noStrike">
              <a:solidFill>
                <a:srgbClr val="ffffff"/>
              </a:solidFill>
              <a:latin typeface="Chiller"/>
            </a:endParaRPr>
          </a:p>
        </p:txBody>
      </p:sp>
      <p:sp>
        <p:nvSpPr>
          <p:cNvPr id="46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rayal is the crime of this level. I think this has to be the absolute worst crime ever. People can get really really hurt  through betrayal. Just look at Jesus. I think the 3 most deserving people for this crime are Judas, Lamen and Lemual. The first one, betrayed Jesus, and the last two, betrayed Nephi from the Book of Mormon.  </a:t>
            </a:r>
            <a:endParaRPr b="0" lang="en-US" sz="2400" spc="-1" strike="noStrike">
              <a:solidFill>
                <a:srgbClr val="000000"/>
              </a:solidFill>
              <a:latin typeface="Arial"/>
            </a:endParaRPr>
          </a:p>
        </p:txBody>
      </p:sp>
      <p:sp>
        <p:nvSpPr>
          <p:cNvPr id="469" name="">
            <a:hlinkClick r:id="" action="ppaction://hlinkshowjump?jump=nextslide"/>
          </p:cNvPr>
          <p:cNvSpPr/>
          <p:nvPr/>
        </p:nvSpPr>
        <p:spPr>
          <a:xfrm>
            <a:off x="2971800" y="5715000"/>
            <a:ext cx="1523880" cy="380880"/>
          </a:xfrm>
          <a:custGeom>
            <a:avLst/>
            <a:gdLst>
              <a:gd name="textAreaLeft" fmla="*/ 71280 w 1523880"/>
              <a:gd name="textAreaRight" fmla="*/ 1452600 w 1523880"/>
              <a:gd name="textAreaTop" fmla="*/ 71280 h 380880"/>
              <a:gd name="textAreaBottom" fmla="*/ 3096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2309" y="4050"/>
                </a:lnTo>
                <a:lnTo>
                  <a:pt x="4050" y="4050"/>
                </a:lnTo>
                <a:close/>
              </a:path>
              <a:path fill="darken" w="86359" h="21600">
                <a:moveTo>
                  <a:pt x="86359" y="0"/>
                </a:moveTo>
                <a:lnTo>
                  <a:pt x="86359" y="21600"/>
                </a:lnTo>
                <a:lnTo>
                  <a:pt x="82309" y="17550"/>
                </a:lnTo>
                <a:lnTo>
                  <a:pt x="82309" y="4050"/>
                </a:lnTo>
                <a:close/>
              </a:path>
              <a:path fill="darkenLess" w="86359" h="21600">
                <a:moveTo>
                  <a:pt x="86359" y="21600"/>
                </a:moveTo>
                <a:lnTo>
                  <a:pt x="0" y="21600"/>
                </a:lnTo>
                <a:lnTo>
                  <a:pt x="4050" y="17550"/>
                </a:lnTo>
                <a:lnTo>
                  <a:pt x="82309" y="17550"/>
                </a:lnTo>
                <a:close/>
              </a:path>
              <a:path fill="lighten" w="86359" h="21600">
                <a:moveTo>
                  <a:pt x="0" y="21600"/>
                </a:moveTo>
                <a:lnTo>
                  <a:pt x="0" y="0"/>
                </a:lnTo>
                <a:lnTo>
                  <a:pt x="4050" y="4050"/>
                </a:lnTo>
                <a:lnTo>
                  <a:pt x="4050" y="175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70" name=""/>
          <p:cNvSpPr/>
          <p:nvPr/>
        </p:nvSpPr>
        <p:spPr>
          <a:xfrm>
            <a:off x="4876920" y="5715000"/>
            <a:ext cx="1904760" cy="380880"/>
          </a:xfrm>
          <a:custGeom>
            <a:avLst/>
            <a:gdLst>
              <a:gd name="textAreaLeft" fmla="*/ 95040 w 1904760"/>
              <a:gd name="textAreaRight" fmla="*/ 1809720 w 1904760"/>
              <a:gd name="textAreaTop" fmla="*/ 95040 h 380880"/>
              <a:gd name="textAreaBottom" fmla="*/ 285840 h 380880"/>
            </a:gdLst>
            <a:ahLst/>
            <a:rect l="textAreaLeft" t="textAreaTop" r="textAreaRight" b="textAreaBottom"/>
            <a:pathLst>
              <a:path w="107939" h="21600">
                <a:moveTo>
                  <a:pt x="0" y="0"/>
                </a:moveTo>
                <a:lnTo>
                  <a:pt x="107939" y="0"/>
                </a:lnTo>
                <a:lnTo>
                  <a:pt x="107939" y="21600"/>
                </a:lnTo>
                <a:lnTo>
                  <a:pt x="0" y="21600"/>
                </a:lnTo>
                <a:close/>
              </a:path>
              <a:path fill="lightenLess" w="107939" h="21600">
                <a:moveTo>
                  <a:pt x="0" y="0"/>
                </a:moveTo>
                <a:lnTo>
                  <a:pt x="107939" y="0"/>
                </a:lnTo>
                <a:lnTo>
                  <a:pt x="102539" y="5400"/>
                </a:lnTo>
                <a:lnTo>
                  <a:pt x="5400" y="5400"/>
                </a:lnTo>
                <a:close/>
              </a:path>
              <a:path fill="darken" w="107939" h="21600">
                <a:moveTo>
                  <a:pt x="107939" y="0"/>
                </a:moveTo>
                <a:lnTo>
                  <a:pt x="107939" y="21600"/>
                </a:lnTo>
                <a:lnTo>
                  <a:pt x="102539" y="16200"/>
                </a:lnTo>
                <a:lnTo>
                  <a:pt x="102539" y="5400"/>
                </a:lnTo>
                <a:close/>
              </a:path>
              <a:path fill="darkenLess" w="107939" h="21600">
                <a:moveTo>
                  <a:pt x="107939" y="21600"/>
                </a:moveTo>
                <a:lnTo>
                  <a:pt x="0" y="21600"/>
                </a:lnTo>
                <a:lnTo>
                  <a:pt x="5400" y="16200"/>
                </a:lnTo>
                <a:lnTo>
                  <a:pt x="102539" y="16200"/>
                </a:lnTo>
                <a:close/>
              </a:path>
              <a:path fill="lighten" w="107939"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1" name=""/>
          <p:cNvSpPr/>
          <p:nvPr/>
        </p:nvSpPr>
        <p:spPr>
          <a:xfrm>
            <a:off x="7010280" y="5715000"/>
            <a:ext cx="1828800" cy="380880"/>
          </a:xfrm>
          <a:custGeom>
            <a:avLst/>
            <a:gdLst>
              <a:gd name="textAreaLeft" fmla="*/ 95040 w 1828800"/>
              <a:gd name="textAreaRight" fmla="*/ 1733760 w 1828800"/>
              <a:gd name="textAreaTop" fmla="*/ 95040 h 380880"/>
              <a:gd name="textAreaBottom" fmla="*/ 28584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235" y="5400"/>
                </a:lnTo>
                <a:lnTo>
                  <a:pt x="5400" y="5400"/>
                </a:lnTo>
                <a:close/>
              </a:path>
              <a:path fill="darken" w="103635" h="21600">
                <a:moveTo>
                  <a:pt x="103635" y="0"/>
                </a:moveTo>
                <a:lnTo>
                  <a:pt x="103635" y="21600"/>
                </a:lnTo>
                <a:lnTo>
                  <a:pt x="98235" y="16200"/>
                </a:lnTo>
                <a:lnTo>
                  <a:pt x="98235" y="5400"/>
                </a:lnTo>
                <a:close/>
              </a:path>
              <a:path fill="darkenLess" w="103635" h="21600">
                <a:moveTo>
                  <a:pt x="103635" y="21600"/>
                </a:moveTo>
                <a:lnTo>
                  <a:pt x="0" y="21600"/>
                </a:lnTo>
                <a:lnTo>
                  <a:pt x="5400" y="16200"/>
                </a:lnTo>
                <a:lnTo>
                  <a:pt x="98235" y="16200"/>
                </a:lnTo>
                <a:close/>
              </a:path>
              <a:path fill="lighten" w="103635"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C, The Punishment</a:t>
            </a:r>
            <a:endParaRPr b="0" lang="en-US" sz="6000" spc="-1" strike="noStrike">
              <a:solidFill>
                <a:srgbClr val="ffffff"/>
              </a:solidFill>
              <a:latin typeface="Chiller"/>
            </a:endParaRPr>
          </a:p>
        </p:txBody>
      </p:sp>
      <p:sp>
        <p:nvSpPr>
          <p:cNvPr id="47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think the punishment, would be that they would be hung upon a cross for eternity. I think it’s a deserving punishment, because they would be suffering immense pain. And if you betray someone, you should suffer the same pain they had to go through</a:t>
            </a:r>
            <a:endParaRPr b="0" lang="en-US" sz="2400" spc="-1" strike="noStrike">
              <a:solidFill>
                <a:srgbClr val="000000"/>
              </a:solidFill>
              <a:latin typeface="Arial"/>
            </a:endParaRPr>
          </a:p>
        </p:txBody>
      </p:sp>
      <p:sp>
        <p:nvSpPr>
          <p:cNvPr id="474" name="">
            <a:hlinkClick r:id="" action="ppaction://hlinkshowjump?jump=nextslide"/>
          </p:cNvPr>
          <p:cNvSpPr/>
          <p:nvPr/>
        </p:nvSpPr>
        <p:spPr>
          <a:xfrm>
            <a:off x="2971800" y="5562720"/>
            <a:ext cx="1523880" cy="457200"/>
          </a:xfrm>
          <a:custGeom>
            <a:avLst/>
            <a:gdLst>
              <a:gd name="textAreaLeft" fmla="*/ 81000 w 1523880"/>
              <a:gd name="textAreaRight" fmla="*/ 1442880 w 1523880"/>
              <a:gd name="textAreaTop" fmla="*/ 81000 h 457200"/>
              <a:gd name="textAreaBottom" fmla="*/ 3762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130" y="3825"/>
                </a:lnTo>
                <a:lnTo>
                  <a:pt x="3825" y="3825"/>
                </a:lnTo>
                <a:close/>
              </a:path>
              <a:path fill="darken" w="71955" h="21600">
                <a:moveTo>
                  <a:pt x="71955" y="0"/>
                </a:moveTo>
                <a:lnTo>
                  <a:pt x="71955" y="21600"/>
                </a:lnTo>
                <a:lnTo>
                  <a:pt x="68130" y="17775"/>
                </a:lnTo>
                <a:lnTo>
                  <a:pt x="68130" y="3825"/>
                </a:lnTo>
                <a:close/>
              </a:path>
              <a:path fill="darkenLess" w="71955" h="21600">
                <a:moveTo>
                  <a:pt x="71955" y="21600"/>
                </a:moveTo>
                <a:lnTo>
                  <a:pt x="0" y="21600"/>
                </a:lnTo>
                <a:lnTo>
                  <a:pt x="3825" y="17775"/>
                </a:lnTo>
                <a:lnTo>
                  <a:pt x="68130" y="17775"/>
                </a:lnTo>
                <a:close/>
              </a:path>
              <a:path fill="lighten" w="71955" h="21600">
                <a:moveTo>
                  <a:pt x="0" y="21600"/>
                </a:moveTo>
                <a:lnTo>
                  <a:pt x="0" y="0"/>
                </a:lnTo>
                <a:lnTo>
                  <a:pt x="3825" y="3825"/>
                </a:lnTo>
                <a:lnTo>
                  <a:pt x="3825" y="177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5" name=""/>
          <p:cNvSpPr/>
          <p:nvPr/>
        </p:nvSpPr>
        <p:spPr>
          <a:xfrm>
            <a:off x="4952880" y="5562720"/>
            <a:ext cx="1752840" cy="457200"/>
          </a:xfrm>
          <a:custGeom>
            <a:avLst/>
            <a:gdLst>
              <a:gd name="textAreaLeft" fmla="*/ 91800 w 1752840"/>
              <a:gd name="textAreaRight" fmla="*/ 1661040 w 1752840"/>
              <a:gd name="textAreaTop" fmla="*/ 91800 h 457200"/>
              <a:gd name="textAreaBottom" fmla="*/ 36540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78413" y="4350"/>
                </a:lnTo>
                <a:lnTo>
                  <a:pt x="4350" y="4350"/>
                </a:lnTo>
                <a:close/>
              </a:path>
              <a:path fill="darken" w="82763" h="21600">
                <a:moveTo>
                  <a:pt x="82763" y="0"/>
                </a:moveTo>
                <a:lnTo>
                  <a:pt x="82763" y="21600"/>
                </a:lnTo>
                <a:lnTo>
                  <a:pt x="78413" y="17250"/>
                </a:lnTo>
                <a:lnTo>
                  <a:pt x="78413" y="4350"/>
                </a:lnTo>
                <a:close/>
              </a:path>
              <a:path fill="darkenLess" w="82763" h="21600">
                <a:moveTo>
                  <a:pt x="82763" y="21600"/>
                </a:moveTo>
                <a:lnTo>
                  <a:pt x="0" y="21600"/>
                </a:lnTo>
                <a:lnTo>
                  <a:pt x="4350" y="17250"/>
                </a:lnTo>
                <a:lnTo>
                  <a:pt x="78413" y="17250"/>
                </a:lnTo>
                <a:close/>
              </a:path>
              <a:path fill="lighten" w="82763"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476" name=""/>
          <p:cNvSpPr/>
          <p:nvPr/>
        </p:nvSpPr>
        <p:spPr>
          <a:xfrm>
            <a:off x="7086600" y="5562720"/>
            <a:ext cx="1752480" cy="457200"/>
          </a:xfrm>
          <a:custGeom>
            <a:avLst/>
            <a:gdLst>
              <a:gd name="textAreaLeft" fmla="*/ 93600 w 1752480"/>
              <a:gd name="textAreaRight" fmla="*/ 1658880 w 1752480"/>
              <a:gd name="textAreaTop" fmla="*/ 93600 h 457200"/>
              <a:gd name="textAreaBottom" fmla="*/ 3636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321" y="4425"/>
                </a:lnTo>
                <a:lnTo>
                  <a:pt x="4425" y="4425"/>
                </a:lnTo>
                <a:close/>
              </a:path>
              <a:path fill="darken" w="82746" h="21600">
                <a:moveTo>
                  <a:pt x="82746" y="0"/>
                </a:moveTo>
                <a:lnTo>
                  <a:pt x="82746" y="21600"/>
                </a:lnTo>
                <a:lnTo>
                  <a:pt x="78321" y="17175"/>
                </a:lnTo>
                <a:lnTo>
                  <a:pt x="78321" y="4425"/>
                </a:lnTo>
                <a:close/>
              </a:path>
              <a:path fill="darkenLess" w="82746" h="21600">
                <a:moveTo>
                  <a:pt x="82746" y="21600"/>
                </a:moveTo>
                <a:lnTo>
                  <a:pt x="0" y="21600"/>
                </a:lnTo>
                <a:lnTo>
                  <a:pt x="4425" y="17175"/>
                </a:lnTo>
                <a:lnTo>
                  <a:pt x="78321" y="17175"/>
                </a:lnTo>
                <a:close/>
              </a:path>
              <a:path fill="lighten" w="82746"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My Reaction</a:t>
            </a:r>
            <a:endParaRPr b="0" lang="en-US" sz="6600" spc="-1" strike="noStrike">
              <a:solidFill>
                <a:srgbClr val="ffffff"/>
              </a:solidFill>
              <a:latin typeface="Chiller"/>
            </a:endParaRPr>
          </a:p>
        </p:txBody>
      </p:sp>
      <p:sp>
        <p:nvSpPr>
          <p:cNvPr id="47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think it’s fitting, because, like I said before,  when you betray someone, you are making them suffer pain too. It hurts to be betrayed. And if you are the betrayer, you should go through the same immense pain that they had to go through.</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9" name="">
            <a:hlinkClick r:id="rId1" action="ppaction://hlinksldjump"/>
          </p:cNvPr>
          <p:cNvSpPr/>
          <p:nvPr/>
        </p:nvSpPr>
        <p:spPr>
          <a:xfrm>
            <a:off x="2971800" y="5715000"/>
            <a:ext cx="1600200" cy="304920"/>
          </a:xfrm>
          <a:custGeom>
            <a:avLst/>
            <a:gdLst>
              <a:gd name="textAreaLeft" fmla="*/ 71280 w 1600200"/>
              <a:gd name="textAreaRight" fmla="*/ 1528920 w 1600200"/>
              <a:gd name="textAreaTop" fmla="*/ 71280 h 304920"/>
              <a:gd name="textAreaBottom" fmla="*/ 23364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08184" y="5063"/>
                </a:lnTo>
                <a:lnTo>
                  <a:pt x="5063" y="5063"/>
                </a:lnTo>
                <a:close/>
              </a:path>
              <a:path fill="darken" w="113247" h="21600">
                <a:moveTo>
                  <a:pt x="113247" y="0"/>
                </a:moveTo>
                <a:lnTo>
                  <a:pt x="113247" y="21600"/>
                </a:lnTo>
                <a:lnTo>
                  <a:pt x="108184" y="16537"/>
                </a:lnTo>
                <a:lnTo>
                  <a:pt x="108184" y="5063"/>
                </a:lnTo>
                <a:close/>
              </a:path>
              <a:path fill="darkenLess" w="113247" h="21600">
                <a:moveTo>
                  <a:pt x="113247" y="21600"/>
                </a:moveTo>
                <a:lnTo>
                  <a:pt x="0" y="21600"/>
                </a:lnTo>
                <a:lnTo>
                  <a:pt x="5063" y="16537"/>
                </a:lnTo>
                <a:lnTo>
                  <a:pt x="108184" y="16537"/>
                </a:lnTo>
                <a:close/>
              </a:path>
              <a:path fill="lighten" w="113247" h="21600">
                <a:moveTo>
                  <a:pt x="0" y="21600"/>
                </a:moveTo>
                <a:lnTo>
                  <a:pt x="0" y="0"/>
                </a:lnTo>
                <a:lnTo>
                  <a:pt x="5063" y="5063"/>
                </a:lnTo>
                <a:lnTo>
                  <a:pt x="5063" y="165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0"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ve learned a lot through my trip through Hell. These sins can hurt people, and that’s wrong. Why anyone would hurt anyone, or themselves like that, I have no idea. To make sure I never come back, I promise to never cheat, or betray someone. I’ll eat healthier and that way I’ll be helping myself in a better way also. I want to make sure I never come back here again. </a:t>
            </a:r>
            <a:endParaRPr b="0" lang="en-US" sz="2800" spc="-1" strike="noStrike">
              <a:solidFill>
                <a:srgbClr val="000000"/>
              </a:solidFill>
              <a:latin typeface="Arial"/>
            </a:endParaRPr>
          </a:p>
        </p:txBody>
      </p:sp>
      <p:sp>
        <p:nvSpPr>
          <p:cNvPr id="481"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ffffff"/>
                </a:solidFill>
                <a:latin typeface="Chiller"/>
              </a:rPr>
              <a:t>Meet My Guide</a:t>
            </a:r>
            <a:endParaRPr b="0" lang="en-US" sz="8100" spc="-1" strike="noStrike">
              <a:solidFill>
                <a:srgbClr val="ffffff"/>
              </a:solidFill>
              <a:latin typeface="Chiller"/>
            </a:endParaRPr>
          </a:p>
        </p:txBody>
      </p:sp>
      <p:sp>
        <p:nvSpPr>
          <p:cNvPr id="417" name="PlaceHolder 2"/>
          <p:cNvSpPr>
            <a:spLocks noGrp="1"/>
          </p:cNvSpPr>
          <p:nvPr>
            <p:ph/>
          </p:nvPr>
        </p:nvSpPr>
        <p:spPr>
          <a:xfrm>
            <a:off x="2895480" y="1523880"/>
            <a:ext cx="601992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y guide is going to be Severus Snape. The reason I chose him as my guide, was because I absolutely love Harry Potter, and because when Snape is always choosing between good and evil, but always chose good in the end and he would be a good guide</a:t>
            </a:r>
            <a:endParaRPr b="0" lang="en-US" sz="2400" spc="-1" strike="noStrike">
              <a:solidFill>
                <a:srgbClr val="000000"/>
              </a:solidFill>
              <a:latin typeface="Arial"/>
            </a:endParaRPr>
          </a:p>
        </p:txBody>
      </p:sp>
      <p:pic>
        <p:nvPicPr>
          <p:cNvPr id="418" name="" descr=""/>
          <p:cNvPicPr/>
          <p:nvPr/>
        </p:nvPicPr>
        <p:blipFill>
          <a:blip r:embed="rId1"/>
          <a:stretch/>
        </p:blipFill>
        <p:spPr>
          <a:xfrm>
            <a:off x="2666880" y="3824280"/>
            <a:ext cx="2514600" cy="2271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Meet Me</a:t>
            </a:r>
            <a:endParaRPr b="0" lang="en-US" sz="11800" spc="-1" strike="noStrike">
              <a:solidFill>
                <a:srgbClr val="ffffff"/>
              </a:solidFill>
              <a:latin typeface="Chiller"/>
            </a:endParaRPr>
          </a:p>
        </p:txBody>
      </p:sp>
      <p:sp>
        <p:nvSpPr>
          <p:cNvPr id="42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am Tori Onorato. I’m 15. I love writing (music, stories etc.) I like singing, and acting, and playing the guitar though I don’t do it much at the school. Wicked is my favorite musical mostly do it with my church. My church is the biggest part of my life. I love being a Mormon. It’s such a great religion. And it’s the best part of my life. I love love /love/ Harry Potter. It has brought so many great experiences to my life. Music, a great amazing play, and lots of friends. OH and I’m also a nerd fighter :D</a:t>
            </a:r>
            <a:endParaRPr b="0" lang="en-US" sz="1800" spc="-1" strike="noStrike">
              <a:solidFill>
                <a:srgbClr val="000000"/>
              </a:solidFill>
              <a:latin typeface="Arial"/>
            </a:endParaRPr>
          </a:p>
        </p:txBody>
      </p:sp>
      <p:pic>
        <p:nvPicPr>
          <p:cNvPr id="421" name="" descr=""/>
          <p:cNvPicPr/>
          <p:nvPr/>
        </p:nvPicPr>
        <p:blipFill>
          <a:blip r:embed="rId1"/>
          <a:stretch/>
        </p:blipFill>
        <p:spPr>
          <a:xfrm>
            <a:off x="6095880" y="3962520"/>
            <a:ext cx="3048120" cy="2052360"/>
          </a:xfrm>
          <a:prstGeom prst="rect">
            <a:avLst/>
          </a:prstGeom>
          <a:ln w="0">
            <a:noFill/>
          </a:ln>
        </p:spPr>
      </p:pic>
      <p:pic>
        <p:nvPicPr>
          <p:cNvPr id="422" name="" descr=""/>
          <p:cNvPicPr/>
          <p:nvPr/>
        </p:nvPicPr>
        <p:blipFill>
          <a:blip r:embed="rId2"/>
          <a:stretch/>
        </p:blipFill>
        <p:spPr>
          <a:xfrm>
            <a:off x="3733920" y="4343400"/>
            <a:ext cx="2361960" cy="1871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895480" y="30456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A</a:t>
            </a:r>
            <a:endParaRPr b="0" lang="en-US" sz="11800" spc="-1" strike="noStrike">
              <a:solidFill>
                <a:srgbClr val="ffffff"/>
              </a:solidFill>
              <a:latin typeface="Chiller"/>
            </a:endParaRPr>
          </a:p>
        </p:txBody>
      </p:sp>
      <p:sp>
        <p:nvSpPr>
          <p:cNvPr id="424"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
            <a:hlinkClick r:id="" action="ppaction://hlinkshowjump?jump=nextslide"/>
          </p:cNvPr>
          <p:cNvSpPr/>
          <p:nvPr/>
        </p:nvSpPr>
        <p:spPr>
          <a:xfrm>
            <a:off x="2895480" y="5715000"/>
            <a:ext cx="1295640" cy="380880"/>
          </a:xfrm>
          <a:custGeom>
            <a:avLst/>
            <a:gdLst>
              <a:gd name="textAreaLeft" fmla="*/ 95040 w 1295640"/>
              <a:gd name="textAreaRight" fmla="*/ 1200600 w 1295640"/>
              <a:gd name="textAreaTop" fmla="*/ 95040 h 380880"/>
              <a:gd name="textAreaBottom" fmla="*/ 28584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68028" y="5400"/>
                </a:lnTo>
                <a:lnTo>
                  <a:pt x="5400" y="5400"/>
                </a:lnTo>
                <a:close/>
              </a:path>
              <a:path fill="darken" w="73428" h="21600">
                <a:moveTo>
                  <a:pt x="73428" y="0"/>
                </a:moveTo>
                <a:lnTo>
                  <a:pt x="73428" y="21600"/>
                </a:lnTo>
                <a:lnTo>
                  <a:pt x="68028" y="16200"/>
                </a:lnTo>
                <a:lnTo>
                  <a:pt x="68028" y="5400"/>
                </a:lnTo>
                <a:close/>
              </a:path>
              <a:path fill="darkenLess" w="73428" h="21600">
                <a:moveTo>
                  <a:pt x="73428" y="21600"/>
                </a:moveTo>
                <a:lnTo>
                  <a:pt x="0" y="21600"/>
                </a:lnTo>
                <a:lnTo>
                  <a:pt x="5400" y="16200"/>
                </a:lnTo>
                <a:lnTo>
                  <a:pt x="68028" y="16200"/>
                </a:lnTo>
                <a:close/>
              </a:path>
              <a:path fill="lighten" w="73428"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26" name="">
            <a:hlinkClick r:id="rId1" action="ppaction://hlinksldjump"/>
          </p:cNvPr>
          <p:cNvSpPr/>
          <p:nvPr/>
        </p:nvSpPr>
        <p:spPr>
          <a:xfrm>
            <a:off x="5181480" y="5715000"/>
            <a:ext cx="1371600" cy="380880"/>
          </a:xfrm>
          <a:custGeom>
            <a:avLst/>
            <a:gdLst>
              <a:gd name="textAreaLeft" fmla="*/ 50760 w 1371600"/>
              <a:gd name="textAreaRight" fmla="*/ 1320840 w 1371600"/>
              <a:gd name="textAreaTop" fmla="*/ 50760 h 380880"/>
              <a:gd name="textAreaBottom" fmla="*/ 3301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852" y="2880"/>
                </a:lnTo>
                <a:lnTo>
                  <a:pt x="2880" y="2880"/>
                </a:lnTo>
                <a:close/>
              </a:path>
              <a:path fill="darken" w="77731" h="21600">
                <a:moveTo>
                  <a:pt x="77731" y="0"/>
                </a:moveTo>
                <a:lnTo>
                  <a:pt x="77731" y="21600"/>
                </a:lnTo>
                <a:lnTo>
                  <a:pt x="74852" y="18720"/>
                </a:lnTo>
                <a:lnTo>
                  <a:pt x="74852" y="2880"/>
                </a:lnTo>
                <a:close/>
              </a:path>
              <a:path fill="darkenLess" w="77731" h="21600">
                <a:moveTo>
                  <a:pt x="77731" y="21600"/>
                </a:moveTo>
                <a:lnTo>
                  <a:pt x="0" y="21600"/>
                </a:lnTo>
                <a:lnTo>
                  <a:pt x="2880" y="18720"/>
                </a:lnTo>
                <a:lnTo>
                  <a:pt x="74852" y="18720"/>
                </a:lnTo>
                <a:close/>
              </a:path>
              <a:path fill="lighten" w="77731" h="21600">
                <a:moveTo>
                  <a:pt x="0" y="21600"/>
                </a:moveTo>
                <a:lnTo>
                  <a:pt x="0" y="0"/>
                </a:lnTo>
                <a:lnTo>
                  <a:pt x="2880" y="2880"/>
                </a:lnTo>
                <a:lnTo>
                  <a:pt x="2880" y="1872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27" name="">
            <a:hlinkClick r:id="rId2" action="ppaction://hlinksldjump"/>
          </p:cNvPr>
          <p:cNvSpPr/>
          <p:nvPr/>
        </p:nvSpPr>
        <p:spPr>
          <a:xfrm>
            <a:off x="7543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28" name="" descr=""/>
          <p:cNvPicPr/>
          <p:nvPr/>
        </p:nvPicPr>
        <p:blipFill>
          <a:blip r:embed="rId3"/>
          <a:stretch/>
        </p:blipFill>
        <p:spPr>
          <a:xfrm>
            <a:off x="2895480" y="1295280"/>
            <a:ext cx="6248520" cy="4400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Chiller"/>
              </a:rPr>
              <a:t>Level A, The Crime</a:t>
            </a:r>
            <a:endParaRPr b="0" lang="en-US" sz="6700" spc="-1" strike="noStrike">
              <a:solidFill>
                <a:srgbClr val="ffffff"/>
              </a:solidFill>
              <a:latin typeface="Chiller"/>
            </a:endParaRPr>
          </a:p>
        </p:txBody>
      </p:sp>
      <p:sp>
        <p:nvSpPr>
          <p:cNvPr id="430" name="">
            <a:hlinkClick r:id="" action="ppaction://hlinkshowjump?jump=nextslide"/>
          </p:cNvPr>
          <p:cNvSpPr/>
          <p:nvPr/>
        </p:nvSpPr>
        <p:spPr>
          <a:xfrm>
            <a:off x="2743200" y="5562720"/>
            <a:ext cx="1447920" cy="457200"/>
          </a:xfrm>
          <a:custGeom>
            <a:avLst/>
            <a:gdLst>
              <a:gd name="textAreaLeft" fmla="*/ 82800 w 1447920"/>
              <a:gd name="textAreaRight" fmla="*/ 1365120 w 1447920"/>
              <a:gd name="textAreaTop" fmla="*/ 82800 h 457200"/>
              <a:gd name="textAreaBottom" fmla="*/ 374400 h 457200"/>
            </a:gdLst>
            <a:ahLst/>
            <a:rect l="textAreaLeft" t="textAreaTop" r="textAreaRight" b="textAreaBottom"/>
            <a:pathLst>
              <a:path w="68369" h="21600">
                <a:moveTo>
                  <a:pt x="0" y="0"/>
                </a:moveTo>
                <a:lnTo>
                  <a:pt x="68369" y="0"/>
                </a:lnTo>
                <a:lnTo>
                  <a:pt x="68369" y="21600"/>
                </a:lnTo>
                <a:lnTo>
                  <a:pt x="0" y="21600"/>
                </a:lnTo>
                <a:close/>
              </a:path>
              <a:path fill="lightenLess" w="68369" h="21600">
                <a:moveTo>
                  <a:pt x="0" y="0"/>
                </a:moveTo>
                <a:lnTo>
                  <a:pt x="68369" y="0"/>
                </a:lnTo>
                <a:lnTo>
                  <a:pt x="64448" y="3921"/>
                </a:lnTo>
                <a:lnTo>
                  <a:pt x="3921" y="3921"/>
                </a:lnTo>
                <a:close/>
              </a:path>
              <a:path fill="darken" w="68369" h="21600">
                <a:moveTo>
                  <a:pt x="68369" y="0"/>
                </a:moveTo>
                <a:lnTo>
                  <a:pt x="68369" y="21600"/>
                </a:lnTo>
                <a:lnTo>
                  <a:pt x="64448" y="17679"/>
                </a:lnTo>
                <a:lnTo>
                  <a:pt x="64448" y="3921"/>
                </a:lnTo>
                <a:close/>
              </a:path>
              <a:path fill="darkenLess" w="68369" h="21600">
                <a:moveTo>
                  <a:pt x="68369" y="21600"/>
                </a:moveTo>
                <a:lnTo>
                  <a:pt x="0" y="21600"/>
                </a:lnTo>
                <a:lnTo>
                  <a:pt x="3921" y="17679"/>
                </a:lnTo>
                <a:lnTo>
                  <a:pt x="64448" y="17679"/>
                </a:lnTo>
                <a:close/>
              </a:path>
              <a:path fill="lighten" w="68369" h="21600">
                <a:moveTo>
                  <a:pt x="0" y="21600"/>
                </a:moveTo>
                <a:lnTo>
                  <a:pt x="0" y="0"/>
                </a:lnTo>
                <a:lnTo>
                  <a:pt x="3921" y="3921"/>
                </a:lnTo>
                <a:lnTo>
                  <a:pt x="3921" y="17679"/>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31" name="">
            <a:hlinkClick r:id="rId1" action="ppaction://hlinksldjump"/>
          </p:cNvPr>
          <p:cNvSpPr/>
          <p:nvPr/>
        </p:nvSpPr>
        <p:spPr>
          <a:xfrm>
            <a:off x="5029200" y="5486400"/>
            <a:ext cx="1523880" cy="457200"/>
          </a:xfrm>
          <a:custGeom>
            <a:avLst/>
            <a:gdLst>
              <a:gd name="textAreaLeft" fmla="*/ 79200 w 1523880"/>
              <a:gd name="textAreaRight" fmla="*/ 1444680 w 1523880"/>
              <a:gd name="textAreaTop" fmla="*/ 79200 h 457200"/>
              <a:gd name="textAreaBottom" fmla="*/ 3780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205" y="3750"/>
                </a:lnTo>
                <a:lnTo>
                  <a:pt x="3750" y="3750"/>
                </a:lnTo>
                <a:close/>
              </a:path>
              <a:path fill="darken" w="71955" h="21600">
                <a:moveTo>
                  <a:pt x="71955" y="0"/>
                </a:moveTo>
                <a:lnTo>
                  <a:pt x="71955" y="21600"/>
                </a:lnTo>
                <a:lnTo>
                  <a:pt x="68205" y="17850"/>
                </a:lnTo>
                <a:lnTo>
                  <a:pt x="68205" y="3750"/>
                </a:lnTo>
                <a:close/>
              </a:path>
              <a:path fill="darkenLess" w="71955" h="21600">
                <a:moveTo>
                  <a:pt x="71955" y="21600"/>
                </a:moveTo>
                <a:lnTo>
                  <a:pt x="0" y="21600"/>
                </a:lnTo>
                <a:lnTo>
                  <a:pt x="3750" y="17850"/>
                </a:lnTo>
                <a:lnTo>
                  <a:pt x="68205" y="17850"/>
                </a:lnTo>
                <a:close/>
              </a:path>
              <a:path fill="lighten" w="71955"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2" name="">
            <a:hlinkClick r:id="rId2" action="ppaction://hlinksldjump"/>
          </p:cNvPr>
          <p:cNvSpPr/>
          <p:nvPr/>
        </p:nvSpPr>
        <p:spPr>
          <a:xfrm>
            <a:off x="7238880" y="5562720"/>
            <a:ext cx="1676520" cy="457200"/>
          </a:xfrm>
          <a:custGeom>
            <a:avLst/>
            <a:gdLst>
              <a:gd name="textAreaLeft" fmla="*/ 91800 w 1676520"/>
              <a:gd name="textAreaRight" fmla="*/ 1584720 w 1676520"/>
              <a:gd name="textAreaTop" fmla="*/ 91800 h 457200"/>
              <a:gd name="textAreaBottom" fmla="*/ 365400 h 457200"/>
            </a:gdLst>
            <a:ahLst/>
            <a:rect l="textAreaLeft" t="textAreaTop" r="textAreaRight" b="textAreaBottom"/>
            <a:pathLst>
              <a:path w="79160" h="21600">
                <a:moveTo>
                  <a:pt x="0" y="0"/>
                </a:moveTo>
                <a:lnTo>
                  <a:pt x="79160" y="0"/>
                </a:lnTo>
                <a:lnTo>
                  <a:pt x="79160" y="21600"/>
                </a:lnTo>
                <a:lnTo>
                  <a:pt x="0" y="21600"/>
                </a:lnTo>
                <a:close/>
              </a:path>
              <a:path fill="lightenLess" w="79160" h="21600">
                <a:moveTo>
                  <a:pt x="0" y="0"/>
                </a:moveTo>
                <a:lnTo>
                  <a:pt x="79160" y="0"/>
                </a:lnTo>
                <a:lnTo>
                  <a:pt x="74811" y="4350"/>
                </a:lnTo>
                <a:lnTo>
                  <a:pt x="4350" y="4350"/>
                </a:lnTo>
                <a:close/>
              </a:path>
              <a:path fill="darken" w="79160" h="21600">
                <a:moveTo>
                  <a:pt x="79160" y="0"/>
                </a:moveTo>
                <a:lnTo>
                  <a:pt x="79160" y="21600"/>
                </a:lnTo>
                <a:lnTo>
                  <a:pt x="74811" y="17250"/>
                </a:lnTo>
                <a:lnTo>
                  <a:pt x="74811" y="4350"/>
                </a:lnTo>
                <a:close/>
              </a:path>
              <a:path fill="darkenLess" w="79160" h="21600">
                <a:moveTo>
                  <a:pt x="79160" y="21600"/>
                </a:moveTo>
                <a:lnTo>
                  <a:pt x="0" y="21600"/>
                </a:lnTo>
                <a:lnTo>
                  <a:pt x="4350" y="17250"/>
                </a:lnTo>
                <a:lnTo>
                  <a:pt x="74811" y="17250"/>
                </a:lnTo>
                <a:close/>
              </a:path>
              <a:path fill="lighten" w="79160"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3" name=""/>
          <p:cNvSpPr/>
          <p:nvPr/>
        </p:nvSpPr>
        <p:spPr>
          <a:xfrm>
            <a:off x="2971800" y="1676520"/>
            <a:ext cx="5638680" cy="3080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rime of this level is Cheating. I think cheating should be a level, because it’s wrong. You can’t cheat your way through life. 3 people that would be in this level of Hell would be Josh, Layla, and Dr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ffffff"/>
                </a:solidFill>
                <a:latin typeface="Chiller"/>
              </a:rPr>
              <a:t>Level A, The Punishment</a:t>
            </a:r>
            <a:endParaRPr b="0" lang="en-US" sz="6100" spc="-1" strike="noStrike">
              <a:solidFill>
                <a:srgbClr val="ffffff"/>
              </a:solidFill>
              <a:latin typeface="Chiller"/>
            </a:endParaRPr>
          </a:p>
        </p:txBody>
      </p:sp>
      <p:sp>
        <p:nvSpPr>
          <p:cNvPr id="435" name="PlaceHolder 2"/>
          <p:cNvSpPr>
            <a:spLocks noGrp="1"/>
          </p:cNvSpPr>
          <p:nvPr>
            <p:ph/>
          </p:nvPr>
        </p:nvSpPr>
        <p:spPr>
          <a:xfrm>
            <a:off x="2895120" y="1599840"/>
            <a:ext cx="5791320" cy="3886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unishment for cheating, is that if you /do/ get caught cheating, you will have to study for the rest of your life. I think it’s fitting because the reasons for cheating most of the time, is because you didn’t study,  so I thought it seemed fitting</a:t>
            </a:r>
            <a:endParaRPr b="0" lang="en-US" sz="2800" spc="-1" strike="noStrike">
              <a:solidFill>
                <a:srgbClr val="000000"/>
              </a:solidFill>
              <a:latin typeface="Arial"/>
            </a:endParaRPr>
          </a:p>
        </p:txBody>
      </p:sp>
      <p:sp>
        <p:nvSpPr>
          <p:cNvPr id="436" name="">
            <a:hlinkClick r:id="" action="ppaction://hlinkshowjump?jump=nextslide"/>
          </p:cNvPr>
          <p:cNvSpPr/>
          <p:nvPr/>
        </p:nvSpPr>
        <p:spPr>
          <a:xfrm>
            <a:off x="2895480" y="5638680"/>
            <a:ext cx="1752840" cy="457200"/>
          </a:xfrm>
          <a:custGeom>
            <a:avLst/>
            <a:gdLst>
              <a:gd name="textAreaLeft" fmla="*/ 47520 w 1752840"/>
              <a:gd name="textAreaRight" fmla="*/ 1705320 w 1752840"/>
              <a:gd name="textAreaTop" fmla="*/ 47520 h 457200"/>
              <a:gd name="textAreaBottom" fmla="*/ 40968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80513" y="2250"/>
                </a:lnTo>
                <a:lnTo>
                  <a:pt x="2250" y="2250"/>
                </a:lnTo>
                <a:close/>
              </a:path>
              <a:path fill="darken" w="82763" h="21600">
                <a:moveTo>
                  <a:pt x="82763" y="0"/>
                </a:moveTo>
                <a:lnTo>
                  <a:pt x="82763" y="21600"/>
                </a:lnTo>
                <a:lnTo>
                  <a:pt x="80513" y="19350"/>
                </a:lnTo>
                <a:lnTo>
                  <a:pt x="80513" y="2250"/>
                </a:lnTo>
                <a:close/>
              </a:path>
              <a:path fill="darkenLess" w="82763" h="21600">
                <a:moveTo>
                  <a:pt x="82763" y="21600"/>
                </a:moveTo>
                <a:lnTo>
                  <a:pt x="0" y="21600"/>
                </a:lnTo>
                <a:lnTo>
                  <a:pt x="2250" y="19350"/>
                </a:lnTo>
                <a:lnTo>
                  <a:pt x="80513" y="19350"/>
                </a:lnTo>
                <a:close/>
              </a:path>
              <a:path fill="lighten" w="82763" h="21600">
                <a:moveTo>
                  <a:pt x="0" y="21600"/>
                </a:moveTo>
                <a:lnTo>
                  <a:pt x="0" y="0"/>
                </a:lnTo>
                <a:lnTo>
                  <a:pt x="2250" y="2250"/>
                </a:lnTo>
                <a:lnTo>
                  <a:pt x="2250" y="193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7" name="">
            <a:hlinkClick r:id="rId1" action="ppaction://hlinksldjump"/>
          </p:cNvPr>
          <p:cNvSpPr/>
          <p:nvPr/>
        </p:nvSpPr>
        <p:spPr>
          <a:xfrm>
            <a:off x="5105520" y="5638680"/>
            <a:ext cx="1600200" cy="457200"/>
          </a:xfrm>
          <a:custGeom>
            <a:avLst/>
            <a:gdLst>
              <a:gd name="textAreaLeft" fmla="*/ 91800 w 1600200"/>
              <a:gd name="textAreaRight" fmla="*/ 1508400 w 1600200"/>
              <a:gd name="textAreaTop" fmla="*/ 91800 h 457200"/>
              <a:gd name="textAreaBottom" fmla="*/ 365400 h 457200"/>
            </a:gdLst>
            <a:ahLst/>
            <a:rect l="textAreaLeft" t="textAreaTop" r="textAreaRight" b="textAreaBottom"/>
            <a:pathLst>
              <a:path w="75558" h="21600">
                <a:moveTo>
                  <a:pt x="0" y="0"/>
                </a:moveTo>
                <a:lnTo>
                  <a:pt x="75558" y="0"/>
                </a:lnTo>
                <a:lnTo>
                  <a:pt x="75558" y="21600"/>
                </a:lnTo>
                <a:lnTo>
                  <a:pt x="0" y="21600"/>
                </a:lnTo>
                <a:close/>
              </a:path>
              <a:path fill="lightenLess" w="75558" h="21600">
                <a:moveTo>
                  <a:pt x="0" y="0"/>
                </a:moveTo>
                <a:lnTo>
                  <a:pt x="75558" y="0"/>
                </a:lnTo>
                <a:lnTo>
                  <a:pt x="71208" y="4350"/>
                </a:lnTo>
                <a:lnTo>
                  <a:pt x="4350" y="4350"/>
                </a:lnTo>
                <a:close/>
              </a:path>
              <a:path fill="darken" w="75558" h="21600">
                <a:moveTo>
                  <a:pt x="75558" y="0"/>
                </a:moveTo>
                <a:lnTo>
                  <a:pt x="75558" y="21600"/>
                </a:lnTo>
                <a:lnTo>
                  <a:pt x="71208" y="17250"/>
                </a:lnTo>
                <a:lnTo>
                  <a:pt x="71208" y="4350"/>
                </a:lnTo>
                <a:close/>
              </a:path>
              <a:path fill="darkenLess" w="75558" h="21600">
                <a:moveTo>
                  <a:pt x="75558" y="21600"/>
                </a:moveTo>
                <a:lnTo>
                  <a:pt x="0" y="21600"/>
                </a:lnTo>
                <a:lnTo>
                  <a:pt x="4350" y="17250"/>
                </a:lnTo>
                <a:lnTo>
                  <a:pt x="71208" y="17250"/>
                </a:lnTo>
                <a:close/>
              </a:path>
              <a:path fill="lighten" w="75558"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8" name="">
            <a:hlinkClick r:id="rId2" action="ppaction://hlinksldjump"/>
          </p:cNvPr>
          <p:cNvSpPr/>
          <p:nvPr/>
        </p:nvSpPr>
        <p:spPr>
          <a:xfrm>
            <a:off x="7086600" y="5638680"/>
            <a:ext cx="1752480" cy="457200"/>
          </a:xfrm>
          <a:custGeom>
            <a:avLst/>
            <a:gdLst>
              <a:gd name="textAreaLeft" fmla="*/ 79200 w 1752480"/>
              <a:gd name="textAreaRight" fmla="*/ 1673280 w 1752480"/>
              <a:gd name="textAreaTop" fmla="*/ 79200 h 457200"/>
              <a:gd name="textAreaBottom" fmla="*/ 3780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996" y="3750"/>
                </a:lnTo>
                <a:lnTo>
                  <a:pt x="3750" y="3750"/>
                </a:lnTo>
                <a:close/>
              </a:path>
              <a:path fill="darken" w="82746" h="21600">
                <a:moveTo>
                  <a:pt x="82746" y="0"/>
                </a:moveTo>
                <a:lnTo>
                  <a:pt x="82746" y="21600"/>
                </a:lnTo>
                <a:lnTo>
                  <a:pt x="78996" y="17850"/>
                </a:lnTo>
                <a:lnTo>
                  <a:pt x="78996" y="3750"/>
                </a:lnTo>
                <a:close/>
              </a:path>
              <a:path fill="darkenLess" w="82746" h="21600">
                <a:moveTo>
                  <a:pt x="82746" y="21600"/>
                </a:moveTo>
                <a:lnTo>
                  <a:pt x="0" y="21600"/>
                </a:lnTo>
                <a:lnTo>
                  <a:pt x="3750" y="17850"/>
                </a:lnTo>
                <a:lnTo>
                  <a:pt x="78996" y="17850"/>
                </a:lnTo>
                <a:close/>
              </a:path>
              <a:path fill="lighten" w="82746"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A, My Reaction</a:t>
            </a:r>
            <a:endParaRPr b="0" lang="en-US" sz="6600" spc="-1" strike="noStrike">
              <a:solidFill>
                <a:srgbClr val="ffffff"/>
              </a:solidFill>
              <a:latin typeface="Chiller"/>
            </a:endParaRPr>
          </a:p>
        </p:txBody>
      </p:sp>
      <p:sp>
        <p:nvSpPr>
          <p:cNvPr id="44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think I’m glad they’re being punished, because if you cheat your way through life, you’ll never learn anything, and you could hurt people around you, by cheating, Whether it be a test, or on a person, or through work, or anything</a:t>
            </a:r>
            <a:endParaRPr b="0" lang="en-US" sz="2800" spc="-1" strike="noStrike">
              <a:solidFill>
                <a:srgbClr val="000000"/>
              </a:solidFill>
              <a:latin typeface="Arial"/>
            </a:endParaRPr>
          </a:p>
        </p:txBody>
      </p:sp>
      <p:sp>
        <p:nvSpPr>
          <p:cNvPr id="441" name="">
            <a:hlinkClick r:id="" action="ppaction://hlinkshowjump?jump=nextslide"/>
          </p:cNvPr>
          <p:cNvSpPr/>
          <p:nvPr/>
        </p:nvSpPr>
        <p:spPr>
          <a:xfrm>
            <a:off x="2895480" y="5638680"/>
            <a:ext cx="1219320" cy="381240"/>
          </a:xfrm>
          <a:custGeom>
            <a:avLst/>
            <a:gdLst>
              <a:gd name="textAreaLeft" fmla="*/ 60120 w 1219320"/>
              <a:gd name="textAreaRight" fmla="*/ 1159200 w 1219320"/>
              <a:gd name="textAreaTop" fmla="*/ 60120 h 381240"/>
              <a:gd name="textAreaBottom" fmla="*/ 32112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5632" y="3407"/>
                </a:lnTo>
                <a:lnTo>
                  <a:pt x="3407" y="3407"/>
                </a:lnTo>
                <a:close/>
              </a:path>
              <a:path fill="darken" w="69038" h="21600">
                <a:moveTo>
                  <a:pt x="69038" y="0"/>
                </a:moveTo>
                <a:lnTo>
                  <a:pt x="69038" y="21600"/>
                </a:lnTo>
                <a:lnTo>
                  <a:pt x="65632" y="18193"/>
                </a:lnTo>
                <a:lnTo>
                  <a:pt x="65632" y="3407"/>
                </a:lnTo>
                <a:close/>
              </a:path>
              <a:path fill="darkenLess" w="69038" h="21600">
                <a:moveTo>
                  <a:pt x="69038" y="21600"/>
                </a:moveTo>
                <a:lnTo>
                  <a:pt x="0" y="21600"/>
                </a:lnTo>
                <a:lnTo>
                  <a:pt x="3407" y="18193"/>
                </a:lnTo>
                <a:lnTo>
                  <a:pt x="65632" y="18193"/>
                </a:lnTo>
                <a:close/>
              </a:path>
              <a:path fill="lighten" w="69038" h="21600">
                <a:moveTo>
                  <a:pt x="0" y="21600"/>
                </a:moveTo>
                <a:lnTo>
                  <a:pt x="0" y="0"/>
                </a:lnTo>
                <a:lnTo>
                  <a:pt x="3407" y="3407"/>
                </a:lnTo>
                <a:lnTo>
                  <a:pt x="3407" y="18193"/>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B</a:t>
            </a:r>
            <a:endParaRPr b="0" lang="en-US" sz="11800" spc="-1" strike="noStrike">
              <a:solidFill>
                <a:srgbClr val="ffffff"/>
              </a:solidFill>
              <a:latin typeface="Chiller"/>
            </a:endParaRPr>
          </a:p>
        </p:txBody>
      </p:sp>
      <p:sp>
        <p:nvSpPr>
          <p:cNvPr id="44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
            <a:hlinkClick r:id="" action="ppaction://hlinkshowjump?jump=nextslide"/>
          </p:cNvPr>
          <p:cNvSpPr/>
          <p:nvPr/>
        </p:nvSpPr>
        <p:spPr>
          <a:xfrm>
            <a:off x="2895480" y="5715000"/>
            <a:ext cx="1447920" cy="380880"/>
          </a:xfrm>
          <a:custGeom>
            <a:avLst/>
            <a:gdLst>
              <a:gd name="textAreaLeft" fmla="*/ 95040 w 1447920"/>
              <a:gd name="textAreaRight" fmla="*/ 1352880 w 1447920"/>
              <a:gd name="textAreaTop" fmla="*/ 95040 h 380880"/>
              <a:gd name="textAreaBottom" fmla="*/ 285840 h 380880"/>
            </a:gdLst>
            <a:ahLst/>
            <a:rect l="textAreaLeft" t="textAreaTop" r="textAreaRight" b="textAreaBottom"/>
            <a:pathLst>
              <a:path w="82056" h="21600">
                <a:moveTo>
                  <a:pt x="0" y="0"/>
                </a:moveTo>
                <a:lnTo>
                  <a:pt x="82056" y="0"/>
                </a:lnTo>
                <a:lnTo>
                  <a:pt x="82056" y="21600"/>
                </a:lnTo>
                <a:lnTo>
                  <a:pt x="0" y="21600"/>
                </a:lnTo>
                <a:close/>
              </a:path>
              <a:path fill="lightenLess" w="82056" h="21600">
                <a:moveTo>
                  <a:pt x="0" y="0"/>
                </a:moveTo>
                <a:lnTo>
                  <a:pt x="82056" y="0"/>
                </a:lnTo>
                <a:lnTo>
                  <a:pt x="76656" y="5400"/>
                </a:lnTo>
                <a:lnTo>
                  <a:pt x="5400" y="5400"/>
                </a:lnTo>
                <a:close/>
              </a:path>
              <a:path fill="darken" w="82056" h="21600">
                <a:moveTo>
                  <a:pt x="82056" y="0"/>
                </a:moveTo>
                <a:lnTo>
                  <a:pt x="82056" y="21600"/>
                </a:lnTo>
                <a:lnTo>
                  <a:pt x="76656" y="16200"/>
                </a:lnTo>
                <a:lnTo>
                  <a:pt x="76656" y="5400"/>
                </a:lnTo>
                <a:close/>
              </a:path>
              <a:path fill="darkenLess" w="82056" h="21600">
                <a:moveTo>
                  <a:pt x="82056" y="21600"/>
                </a:moveTo>
                <a:lnTo>
                  <a:pt x="0" y="21600"/>
                </a:lnTo>
                <a:lnTo>
                  <a:pt x="5400" y="16200"/>
                </a:lnTo>
                <a:lnTo>
                  <a:pt x="76656" y="16200"/>
                </a:lnTo>
                <a:close/>
              </a:path>
              <a:path fill="lighten" w="82056"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45" name="">
            <a:hlinkClick r:id="rId1" action="ppaction://hlinksldjump"/>
          </p:cNvPr>
          <p:cNvSpPr/>
          <p:nvPr/>
        </p:nvSpPr>
        <p:spPr>
          <a:xfrm>
            <a:off x="5029200" y="5715000"/>
            <a:ext cx="1676520" cy="380880"/>
          </a:xfrm>
          <a:custGeom>
            <a:avLst/>
            <a:gdLst>
              <a:gd name="textAreaLeft" fmla="*/ 77760 w 1676520"/>
              <a:gd name="textAreaRight" fmla="*/ 1598760 w 1676520"/>
              <a:gd name="textAreaTop" fmla="*/ 77760 h 380880"/>
              <a:gd name="textAreaBottom" fmla="*/ 30312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0583" y="4425"/>
                </a:lnTo>
                <a:lnTo>
                  <a:pt x="4425" y="4425"/>
                </a:lnTo>
                <a:close/>
              </a:path>
              <a:path fill="darken" w="95007" h="21600">
                <a:moveTo>
                  <a:pt x="95007" y="0"/>
                </a:moveTo>
                <a:lnTo>
                  <a:pt x="95007" y="21600"/>
                </a:lnTo>
                <a:lnTo>
                  <a:pt x="90583" y="17175"/>
                </a:lnTo>
                <a:lnTo>
                  <a:pt x="90583" y="4425"/>
                </a:lnTo>
                <a:close/>
              </a:path>
              <a:path fill="darkenLess" w="95007" h="21600">
                <a:moveTo>
                  <a:pt x="95007" y="21600"/>
                </a:moveTo>
                <a:lnTo>
                  <a:pt x="0" y="21600"/>
                </a:lnTo>
                <a:lnTo>
                  <a:pt x="4425" y="17175"/>
                </a:lnTo>
                <a:lnTo>
                  <a:pt x="90583" y="17175"/>
                </a:lnTo>
                <a:close/>
              </a:path>
              <a:path fill="lighten" w="95007"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46" name="">
            <a:hlinkClick r:id="rId2" action="ppaction://hlinksldjump"/>
          </p:cNvPr>
          <p:cNvSpPr/>
          <p:nvPr/>
        </p:nvSpPr>
        <p:spPr>
          <a:xfrm>
            <a:off x="7086600" y="5715000"/>
            <a:ext cx="1752480" cy="380880"/>
          </a:xfrm>
          <a:custGeom>
            <a:avLst/>
            <a:gdLst>
              <a:gd name="textAreaLeft" fmla="*/ 63360 w 1752480"/>
              <a:gd name="textAreaRight" fmla="*/ 1689120 w 1752480"/>
              <a:gd name="textAreaTop" fmla="*/ 63360 h 380880"/>
              <a:gd name="textAreaBottom" fmla="*/ 31752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5711" y="3600"/>
                </a:lnTo>
                <a:lnTo>
                  <a:pt x="3600" y="3600"/>
                </a:lnTo>
                <a:close/>
              </a:path>
              <a:path fill="darken" w="99311" h="21600">
                <a:moveTo>
                  <a:pt x="99311" y="0"/>
                </a:moveTo>
                <a:lnTo>
                  <a:pt x="99311" y="21600"/>
                </a:lnTo>
                <a:lnTo>
                  <a:pt x="95711" y="18000"/>
                </a:lnTo>
                <a:lnTo>
                  <a:pt x="95711" y="3600"/>
                </a:lnTo>
                <a:close/>
              </a:path>
              <a:path fill="darkenLess" w="99311" h="21600">
                <a:moveTo>
                  <a:pt x="99311" y="21600"/>
                </a:moveTo>
                <a:lnTo>
                  <a:pt x="0" y="21600"/>
                </a:lnTo>
                <a:lnTo>
                  <a:pt x="3600" y="18000"/>
                </a:lnTo>
                <a:lnTo>
                  <a:pt x="95711" y="18000"/>
                </a:lnTo>
                <a:close/>
              </a:path>
              <a:path fill="lighten" w="9931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47" name="" descr=""/>
          <p:cNvPicPr/>
          <p:nvPr/>
        </p:nvPicPr>
        <p:blipFill>
          <a:blip r:embed="rId3"/>
          <a:stretch/>
        </p:blipFill>
        <p:spPr>
          <a:xfrm>
            <a:off x="2895480" y="1600200"/>
            <a:ext cx="6019920" cy="4038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The Crime</a:t>
            </a:r>
            <a:endParaRPr b="0" lang="en-US" sz="6600" spc="-1" strike="noStrike">
              <a:solidFill>
                <a:srgbClr val="ffffff"/>
              </a:solidFill>
              <a:latin typeface="Chiller"/>
            </a:endParaRPr>
          </a:p>
        </p:txBody>
      </p:sp>
      <p:sp>
        <p:nvSpPr>
          <p:cNvPr id="44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rime of this level is Gluttony. I think Gluttony is a pretty bad sin. You can get really unhealthy from eating all that bad food anyway. In my religion, we have this thing called the word of wisdom. It’s basically really like a diet for Mormons. If we don’t follow it, we get really unhealthy. We aren’t supposed to binge on food like that. No one is supposed to get that unhealthy. So that is why I think Gluttony is a crime. 3 people I think are deserving of this crime are Kristina, Shae and Rose</a:t>
            </a:r>
            <a:endParaRPr b="0" lang="en-US" sz="2000" spc="-1" strike="noStrike">
              <a:solidFill>
                <a:srgbClr val="000000"/>
              </a:solidFill>
              <a:latin typeface="Arial"/>
            </a:endParaRPr>
          </a:p>
        </p:txBody>
      </p:sp>
      <p:sp>
        <p:nvSpPr>
          <p:cNvPr id="450" name="">
            <a:hlinkClick r:id="" action="ppaction://hlinkshowjump?jump=nextslide"/>
          </p:cNvPr>
          <p:cNvSpPr/>
          <p:nvPr/>
        </p:nvSpPr>
        <p:spPr>
          <a:xfrm>
            <a:off x="2971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51" name="">
            <a:hlinkClick r:id="rId1" action="ppaction://hlinksldjump"/>
          </p:cNvPr>
          <p:cNvSpPr/>
          <p:nvPr/>
        </p:nvSpPr>
        <p:spPr>
          <a:xfrm>
            <a:off x="4724280" y="5715000"/>
            <a:ext cx="1905120" cy="380880"/>
          </a:xfrm>
          <a:custGeom>
            <a:avLst/>
            <a:gdLst>
              <a:gd name="textAreaLeft" fmla="*/ 87120 w 1905120"/>
              <a:gd name="textAreaRight" fmla="*/ 1818000 w 1905120"/>
              <a:gd name="textAreaTop" fmla="*/ 87120 h 380880"/>
              <a:gd name="textAreaBottom" fmla="*/ 293760 h 380880"/>
            </a:gdLst>
            <a:ahLst/>
            <a:rect l="textAreaLeft" t="textAreaTop" r="textAreaRight" b="textAreaBottom"/>
            <a:pathLst>
              <a:path w="107959" h="21600">
                <a:moveTo>
                  <a:pt x="0" y="0"/>
                </a:moveTo>
                <a:lnTo>
                  <a:pt x="107959" y="0"/>
                </a:lnTo>
                <a:lnTo>
                  <a:pt x="107959" y="21600"/>
                </a:lnTo>
                <a:lnTo>
                  <a:pt x="0" y="21600"/>
                </a:lnTo>
                <a:close/>
              </a:path>
              <a:path fill="lightenLess" w="107959" h="21600">
                <a:moveTo>
                  <a:pt x="0" y="0"/>
                </a:moveTo>
                <a:lnTo>
                  <a:pt x="107959" y="0"/>
                </a:lnTo>
                <a:lnTo>
                  <a:pt x="103009" y="4950"/>
                </a:lnTo>
                <a:lnTo>
                  <a:pt x="4950" y="4950"/>
                </a:lnTo>
                <a:close/>
              </a:path>
              <a:path fill="darken" w="107959" h="21600">
                <a:moveTo>
                  <a:pt x="107959" y="0"/>
                </a:moveTo>
                <a:lnTo>
                  <a:pt x="107959" y="21600"/>
                </a:lnTo>
                <a:lnTo>
                  <a:pt x="103009" y="16650"/>
                </a:lnTo>
                <a:lnTo>
                  <a:pt x="103009" y="4950"/>
                </a:lnTo>
                <a:close/>
              </a:path>
              <a:path fill="darkenLess" w="107959" h="21600">
                <a:moveTo>
                  <a:pt x="107959" y="21600"/>
                </a:moveTo>
                <a:lnTo>
                  <a:pt x="0" y="21600"/>
                </a:lnTo>
                <a:lnTo>
                  <a:pt x="4950" y="16650"/>
                </a:lnTo>
                <a:lnTo>
                  <a:pt x="103009" y="16650"/>
                </a:lnTo>
                <a:close/>
              </a:path>
              <a:path fill="lighten" w="107959"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2" name=""/>
          <p:cNvSpPr/>
          <p:nvPr/>
        </p:nvSpPr>
        <p:spPr>
          <a:xfrm>
            <a:off x="6934320" y="5715000"/>
            <a:ext cx="1828800" cy="380880"/>
          </a:xfrm>
          <a:custGeom>
            <a:avLst/>
            <a:gdLst>
              <a:gd name="textAreaLeft" fmla="*/ 87120 w 1828800"/>
              <a:gd name="textAreaRight" fmla="*/ 1741680 w 1828800"/>
              <a:gd name="textAreaTop" fmla="*/ 87120 h 380880"/>
              <a:gd name="textAreaBottom" fmla="*/ 29376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685" y="4950"/>
                </a:lnTo>
                <a:lnTo>
                  <a:pt x="4950" y="4950"/>
                </a:lnTo>
                <a:close/>
              </a:path>
              <a:path fill="darken" w="103635" h="21600">
                <a:moveTo>
                  <a:pt x="103635" y="0"/>
                </a:moveTo>
                <a:lnTo>
                  <a:pt x="103635" y="21600"/>
                </a:lnTo>
                <a:lnTo>
                  <a:pt x="98685" y="16650"/>
                </a:lnTo>
                <a:lnTo>
                  <a:pt x="98685" y="4950"/>
                </a:lnTo>
                <a:close/>
              </a:path>
              <a:path fill="darkenLess" w="103635" h="21600">
                <a:moveTo>
                  <a:pt x="103635" y="21600"/>
                </a:moveTo>
                <a:lnTo>
                  <a:pt x="0" y="21600"/>
                </a:lnTo>
                <a:lnTo>
                  <a:pt x="4950" y="16650"/>
                </a:lnTo>
                <a:lnTo>
                  <a:pt x="98685" y="16650"/>
                </a:lnTo>
                <a:close/>
              </a:path>
              <a:path fill="lighten" w="103635"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13:47:49Z</dcterms:created>
  <dc:creator>NPSD</dc:creator>
  <dc:description/>
  <dc:language>en-US</dc:language>
  <cp:lastModifiedBy>NPSD</cp:lastModifiedBy>
  <dcterms:modified xsi:type="dcterms:W3CDTF">2010-04-07T14:43:52Z</dcterms:modified>
  <cp:revision>43</cp:revision>
  <dc:subject/>
  <dc:title>Dante’s Inferno</dc:title>
</cp:coreProperties>
</file>