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79B810-1E6B-49C6-8F4F-5523BF2925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9AE0F-E4B7-41D3-B4AD-2A45C7567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F32A44-EBFE-4D58-BFC4-BAB0DC2529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5"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AA7431-5E24-4457-B038-79BC31B962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04095D-0BCF-4E26-ABE3-ED4FE780D8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7"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CCAB1E-0D18-4AE7-B441-36EB671A7C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C1F76F-EF3B-4468-B4EA-D89A40A977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20666D-D153-4FFF-9550-79F6E6E46E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3A4469-4B49-4E71-81ED-46085DC928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582A44-A894-4478-AD65-FD87A5B870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6"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3DC7D1-BAA2-46C8-9EE6-6722779822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6"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0D057-766F-4074-8385-340E52C9E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C1C2EC-E36F-4BC7-A971-936A79AD6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4"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0680CE-845C-4B4B-A51B-1A0802446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8"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CF1934-7C58-4440-AF12-A60A91BC4F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1"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E7EF7A-D770-4985-A161-3DEF6441E5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6"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2A8A23-1149-4F89-9214-4238E97D0B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B2E186-A031-4116-8EC1-4CCAE529BB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1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BC546D-E0D2-447B-90DA-3B901B811F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39D140-26F4-4FBC-9D98-AF8D34BD71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EC5F98-6831-4289-8E1F-660F9DB3D7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C78475-2681-4971-A1D2-8781EB6507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C0C07-F533-4129-9656-9595014C5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6CCE1F-668F-4E24-B657-E44811EDD0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CA9C82-557C-4CA5-B0C5-4F574945AF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DFD99E-7D02-402B-91B1-0206973FF4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C49ED2-6D9A-45DA-86E9-B4D844BDBA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B84E3E-DCDF-4C78-9200-018879D25C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A99DF4-925D-4609-B4D0-3BD0661EF8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C5C9540-668A-4C59-A6BC-B4FAB34146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8477A4-1D61-4451-9845-CEC06265A8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F4B1B8-E63F-4DE8-91D0-341BACF7B6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66AF6C-6C37-4AEE-B48C-3C3B8F069B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543B0-1405-4A94-91CA-970D573AB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D1DA51-C99D-4A13-9F64-2A08EF438E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E764B0-F2D0-45D4-88F1-30F51C6C78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BF2C68-AC3B-4E81-8453-597B14EA42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AC97C9-3F24-45EA-9F85-AFB69F19F2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075054-7403-4E0D-9461-F1E1401CE8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7BF11D-8212-4AA6-A1A6-A97EA3AE92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B460F2-FBE2-499D-A5C7-6C9AFBA890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F9E6D5-D0ED-418C-897E-868E25C1FB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1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444E66-CE09-4F9F-B78C-CDBC4C5676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21DF5B-4BD4-4DA8-986D-498B8FD329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51D0A-F63C-4720-800C-010FAA5C4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4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AF9A63-4486-404F-9664-F7902D6924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8BE795-7262-4B6B-89BE-712A15D8F1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2EC405-DE34-492E-A22E-652E522149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50346A-DBDA-4582-9588-71AEF61380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5649D6-194D-4181-9A32-C5E95E8340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B38F05-BA45-4BB4-9C2F-D32123B415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78DF85-9A80-4DC9-98EF-47C6E7CB05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C23C16-3A89-4582-9266-E13EE0826A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C0D302-1C93-4179-A06F-9B1401AD70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80BE93-AEBC-4558-A34D-2B83D1B713D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D2D80-E1FB-4E66-9955-F3DA075A8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187851D-F3F0-4BB7-8D23-C76C8D791DB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B88BA70-D0EF-4E41-85D2-C00EA02C325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57A847-2884-4301-9826-17AE1BFAB1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FF1202-11FB-4631-9647-A8AF7426B8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7CF401-A099-47B2-A6BE-A8A04FD43A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472F5E-C23B-47DA-ACF0-DE17A4A7A6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D1A393-30A2-473C-A3D4-140E051064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A876CD-D138-41BF-81A8-CC9C802D9F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981C5E-FD07-4044-AFC9-04E75A56BF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1927F7-57D8-4556-A4E8-20C7C44804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53227-6C89-4E8F-BD0A-47FE0CFAE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4721B3-2938-40C0-ABA1-AC7DA9981B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23B6F8E-6B55-4F32-AA93-BF10CFAC6AA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4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E2788D6-7832-4BCC-BEAC-E8BD5305B0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F5FAADA-F9AB-4D07-A7D0-99C0EDB6F44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44C78F-D544-4EF7-AB1E-CFAE3DEEBF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62C59E-70D0-4BC6-B083-FD564E61CC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0914A2-D7E1-43B3-951C-2596B8543C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6C82E2-8343-4591-9F7D-0901643658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DCDA97-EF74-4476-AB62-4B9A749A21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FD2490-F1E8-403F-A277-7DA8312985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9"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3DB96-CE34-4B61-A966-5DC074DC1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C27370-C1BC-49C7-B52B-0CF07D8327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B0F841-7AFA-4CF2-AD60-0CDFC903FA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FE2625-E874-44F2-8134-F07AF0729D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5FDE999-B9F9-4022-B630-8E76687AA4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EE7B2D-DA39-4C2F-B6D4-CD095B24EF2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43D2D-4BEA-43B0-8054-237E3DDF3A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37.xml"/><Relationship Id="rId18" Type="http://schemas.openxmlformats.org/officeDocument/2006/relationships/slideLayout" Target="../slideLayouts/slideLayout38.xml"/><Relationship Id="rId19" Type="http://schemas.openxmlformats.org/officeDocument/2006/relationships/slideLayout" Target="../slideLayouts/slideLayout39.xml"/><Relationship Id="rId20" Type="http://schemas.openxmlformats.org/officeDocument/2006/relationships/slideLayout" Target="../slideLayouts/slideLayout40.xml"/><Relationship Id="rId21" Type="http://schemas.openxmlformats.org/officeDocument/2006/relationships/slideLayout" Target="../slideLayouts/slideLayout41.xml"/><Relationship Id="rId22" Type="http://schemas.openxmlformats.org/officeDocument/2006/relationships/slideLayout" Target="../slideLayouts/slideLayout42.xml"/><Relationship Id="rId23" Type="http://schemas.openxmlformats.org/officeDocument/2006/relationships/slideLayout" Target="../slideLayouts/slideLayout43.xml"/><Relationship Id="rId24" Type="http://schemas.openxmlformats.org/officeDocument/2006/relationships/slideLayout" Target="../slideLayouts/slideLayout44.xml"/><Relationship Id="rId25" Type="http://schemas.openxmlformats.org/officeDocument/2006/relationships/slideLayout" Target="../slideLayouts/slideLayout45.xml"/><Relationship Id="rId26" Type="http://schemas.openxmlformats.org/officeDocument/2006/relationships/slideLayout" Target="../slideLayouts/slideLayout46.xml"/><Relationship Id="rId27" Type="http://schemas.openxmlformats.org/officeDocument/2006/relationships/slideLayout" Target="../slideLayouts/slideLayout47.xml"/><Relationship Id="rId2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49.xml"/><Relationship Id="rId18" Type="http://schemas.openxmlformats.org/officeDocument/2006/relationships/slideLayout" Target="../slideLayouts/slideLayout50.xml"/><Relationship Id="rId19" Type="http://schemas.openxmlformats.org/officeDocument/2006/relationships/slideLayout" Target="../slideLayouts/slideLayout51.xml"/><Relationship Id="rId20" Type="http://schemas.openxmlformats.org/officeDocument/2006/relationships/slideLayout" Target="../slideLayouts/slideLayout52.xml"/><Relationship Id="rId21" Type="http://schemas.openxmlformats.org/officeDocument/2006/relationships/slideLayout" Target="../slideLayouts/slideLayout53.xml"/><Relationship Id="rId22" Type="http://schemas.openxmlformats.org/officeDocument/2006/relationships/slideLayout" Target="../slideLayouts/slideLayout54.xml"/><Relationship Id="rId23" Type="http://schemas.openxmlformats.org/officeDocument/2006/relationships/slideLayout" Target="../slideLayouts/slideLayout55.xml"/><Relationship Id="rId24" Type="http://schemas.openxmlformats.org/officeDocument/2006/relationships/slideLayout" Target="../slideLayouts/slideLayout56.xml"/><Relationship Id="rId25" Type="http://schemas.openxmlformats.org/officeDocument/2006/relationships/slideLayout" Target="../slideLayouts/slideLayout57.xml"/><Relationship Id="rId26" Type="http://schemas.openxmlformats.org/officeDocument/2006/relationships/slideLayout" Target="../slideLayouts/slideLayout58.xml"/><Relationship Id="rId27" Type="http://schemas.openxmlformats.org/officeDocument/2006/relationships/slideLayout" Target="../slideLayouts/slideLayout59.xml"/><Relationship Id="rId2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61.xml"/><Relationship Id="rId18" Type="http://schemas.openxmlformats.org/officeDocument/2006/relationships/slideLayout" Target="../slideLayouts/slideLayout62.xml"/><Relationship Id="rId19" Type="http://schemas.openxmlformats.org/officeDocument/2006/relationships/slideLayout" Target="../slideLayouts/slideLayout63.xml"/><Relationship Id="rId20" Type="http://schemas.openxmlformats.org/officeDocument/2006/relationships/slideLayout" Target="../slideLayouts/slideLayout64.xml"/><Relationship Id="rId21" Type="http://schemas.openxmlformats.org/officeDocument/2006/relationships/slideLayout" Target="../slideLayouts/slideLayout65.xml"/><Relationship Id="rId22" Type="http://schemas.openxmlformats.org/officeDocument/2006/relationships/slideLayout" Target="../slideLayouts/slideLayout66.xml"/><Relationship Id="rId23" Type="http://schemas.openxmlformats.org/officeDocument/2006/relationships/slideLayout" Target="../slideLayouts/slideLayout67.xml"/><Relationship Id="rId24" Type="http://schemas.openxmlformats.org/officeDocument/2006/relationships/slideLayout" Target="../slideLayouts/slideLayout68.xml"/><Relationship Id="rId25" Type="http://schemas.openxmlformats.org/officeDocument/2006/relationships/slideLayout" Target="../slideLayouts/slideLayout69.xml"/><Relationship Id="rId26" Type="http://schemas.openxmlformats.org/officeDocument/2006/relationships/slideLayout" Target="../slideLayouts/slideLayout70.xml"/><Relationship Id="rId27" Type="http://schemas.openxmlformats.org/officeDocument/2006/relationships/slideLayout" Target="../slideLayouts/slideLayout71.xml"/><Relationship Id="rId2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73.xml"/><Relationship Id="rId18" Type="http://schemas.openxmlformats.org/officeDocument/2006/relationships/slideLayout" Target="../slideLayouts/slideLayout74.xml"/><Relationship Id="rId19" Type="http://schemas.openxmlformats.org/officeDocument/2006/relationships/slideLayout" Target="../slideLayouts/slideLayout75.xml"/><Relationship Id="rId20" Type="http://schemas.openxmlformats.org/officeDocument/2006/relationships/slideLayout" Target="../slideLayouts/slideLayout76.xml"/><Relationship Id="rId21" Type="http://schemas.openxmlformats.org/officeDocument/2006/relationships/slideLayout" Target="../slideLayouts/slideLayout77.xml"/><Relationship Id="rId22" Type="http://schemas.openxmlformats.org/officeDocument/2006/relationships/slideLayout" Target="../slideLayouts/slideLayout78.xml"/><Relationship Id="rId23" Type="http://schemas.openxmlformats.org/officeDocument/2006/relationships/slideLayout" Target="../slideLayouts/slideLayout79.xml"/><Relationship Id="rId24" Type="http://schemas.openxmlformats.org/officeDocument/2006/relationships/slideLayout" Target="../slideLayouts/slideLayout80.xml"/><Relationship Id="rId25" Type="http://schemas.openxmlformats.org/officeDocument/2006/relationships/slideLayout" Target="../slideLayouts/slideLayout81.xml"/><Relationship Id="rId26" Type="http://schemas.openxmlformats.org/officeDocument/2006/relationships/slideLayout" Target="../slideLayouts/slideLayout82.xml"/><Relationship Id="rId27" Type="http://schemas.openxmlformats.org/officeDocument/2006/relationships/slideLayout" Target="../slideLayouts/slideLayout83.xml"/><Relationship Id="rId28"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082F5-A63D-4E96-A820-77F84FEA827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2"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3"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4"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52"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F1178-A844-4FB6-BA62-96C9E5E4B1B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6"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62"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63"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64"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65"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03"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CE4E2-938E-49C7-9FFB-B6DD0DBA390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7"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3"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14"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1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16"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5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5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5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B2734-6D18-4811-9470-33CDE7792EB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6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16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16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6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6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16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17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7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7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7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7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18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18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7"/>
    <p:sldLayoutId id="2147483689" r:id="rId18"/>
    <p:sldLayoutId id="2147483690" r:id="rId19"/>
    <p:sldLayoutId id="2147483691" r:id="rId20"/>
    <p:sldLayoutId id="2147483692" r:id="rId21"/>
    <p:sldLayoutId id="2147483693" r:id="rId22"/>
    <p:sldLayoutId id="2147483694" r:id="rId23"/>
    <p:sldLayoutId id="2147483695" r:id="rId24"/>
    <p:sldLayoutId id="2147483696" r:id="rId25"/>
    <p:sldLayoutId id="2147483697" r:id="rId26"/>
    <p:sldLayoutId id="2147483698" r:id="rId27"/>
    <p:sldLayoutId id="2147483699" r:id="rId2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1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2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2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E7E62-1E84-4C2A-B4BA-5965DA699C4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2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3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3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3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3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3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23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4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24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4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4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24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24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17"/>
    <p:sldLayoutId id="2147483702" r:id="rId18"/>
    <p:sldLayoutId id="2147483703" r:id="rId19"/>
    <p:sldLayoutId id="2147483704" r:id="rId20"/>
    <p:sldLayoutId id="2147483705" r:id="rId21"/>
    <p:sldLayoutId id="2147483706" r:id="rId22"/>
    <p:sldLayoutId id="2147483707" r:id="rId23"/>
    <p:sldLayoutId id="2147483708" r:id="rId24"/>
    <p:sldLayoutId id="2147483709" r:id="rId25"/>
    <p:sldLayoutId id="2147483710" r:id="rId26"/>
    <p:sldLayoutId id="2147483711" r:id="rId27"/>
    <p:sldLayoutId id="2147483712" r:id="rId2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8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8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8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792C3-8BD7-41C4-9C0A-CF22517BFDB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9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9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9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9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9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9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0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0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0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0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0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1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1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17"/>
    <p:sldLayoutId id="2147483715" r:id="rId18"/>
    <p:sldLayoutId id="2147483716" r:id="rId19"/>
    <p:sldLayoutId id="2147483717" r:id="rId20"/>
    <p:sldLayoutId id="2147483718" r:id="rId21"/>
    <p:sldLayoutId id="2147483719" r:id="rId22"/>
    <p:sldLayoutId id="2147483720" r:id="rId23"/>
    <p:sldLayoutId id="2147483721" r:id="rId24"/>
    <p:sldLayoutId id="2147483722" r:id="rId25"/>
    <p:sldLayoutId id="2147483723" r:id="rId26"/>
    <p:sldLayoutId id="2147483724" r:id="rId27"/>
    <p:sldLayoutId id="2147483725" r:id="rId2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34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5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C9EAB-D64C-449B-8924-703539D0EDE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5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5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36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36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6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6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36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6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7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7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7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7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7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7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17"/>
    <p:sldLayoutId id="2147483728" r:id="rId18"/>
    <p:sldLayoutId id="2147483729" r:id="rId19"/>
    <p:sldLayoutId id="2147483730" r:id="rId20"/>
    <p:sldLayoutId id="2147483731" r:id="rId21"/>
    <p:sldLayoutId id="2147483732" r:id="rId22"/>
    <p:sldLayoutId id="2147483733" r:id="rId23"/>
    <p:sldLayoutId id="2147483734" r:id="rId24"/>
    <p:sldLayoutId id="2147483735" r:id="rId25"/>
    <p:sldLayoutId id="2147483736" r:id="rId26"/>
    <p:sldLayoutId id="2147483737" r:id="rId27"/>
    <p:sldLayoutId id="2147483738" r:id="rId28"/>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9.xml"/>
</Relationships>
</file>

<file path=ppt/slides/_rels/slide10.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9.xml"/><Relationship Id="rId3"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5.xml"/><Relationship Id="rId3" Type="http://schemas.openxmlformats.org/officeDocument/2006/relationships/image" Target="../media/image7.jpeg"/><Relationship Id="rId4"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2.xml"/><Relationship Id="rId3"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3.xml"/><Relationship Id="rId3"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image" Target="../media/image5.jpeg"/><Relationship Id="rId4"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1.xml"/><Relationship Id="rId3" Type="http://schemas.openxmlformats.org/officeDocument/2006/relationships/image" Target="../media/image6.jpeg"/><Relationship Id="rId4"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8.xml"/><Relationship Id="rId3"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ex Sloss</a:t>
            </a:r>
            <a:endParaRPr b="0" lang="en-US" sz="3200" spc="-1" strike="noStrike">
              <a:solidFill>
                <a:srgbClr val="000000"/>
              </a:solidFill>
              <a:latin typeface="Arial"/>
            </a:endParaRPr>
          </a:p>
        </p:txBody>
      </p:sp>
      <p:sp>
        <p:nvSpPr>
          <p:cNvPr id="414" name=""/>
          <p:cNvSpPr/>
          <p:nvPr/>
        </p:nvSpPr>
        <p:spPr>
          <a:xfrm>
            <a:off x="2743200" y="152280"/>
            <a:ext cx="6172200" cy="1524240"/>
          </a:xfrm>
          <a:prstGeom prst="horizontalScroll">
            <a:avLst>
              <a:gd name="adj" fmla="val 12500"/>
            </a:avLst>
          </a:prstGeom>
          <a:gradFill rotWithShape="0">
            <a:gsLst>
              <a:gs pos="0">
                <a:srgbClr val="4d0808"/>
              </a:gs>
              <a:gs pos="100000">
                <a:srgbClr val="fff200">
                  <a:alpha val="84313"/>
                </a:srgbClr>
              </a:gs>
            </a:gsLst>
            <a:lin ang="5400000"/>
          </a:gradFill>
          <a:ln w="255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hiller"/>
              </a:rPr>
              <a:t>Abandon all hope! Ye who enter here.</a:t>
            </a:r>
            <a:endParaRPr b="0" lang="en-US" sz="4000" spc="-1" strike="noStrike">
              <a:solidFill>
                <a:srgbClr val="000000"/>
              </a:solidFill>
              <a:latin typeface="Arial"/>
            </a:endParaRPr>
          </a:p>
        </p:txBody>
      </p:sp>
      <p:pic>
        <p:nvPicPr>
          <p:cNvPr id="415" name="" descr=""/>
          <p:cNvPicPr/>
          <p:nvPr/>
        </p:nvPicPr>
        <p:blipFill>
          <a:blip r:embed="rId1"/>
          <a:stretch/>
        </p:blipFill>
        <p:spPr>
          <a:xfrm>
            <a:off x="2971800" y="1600200"/>
            <a:ext cx="3666960" cy="3048120"/>
          </a:xfrm>
          <a:prstGeom prst="rect">
            <a:avLst/>
          </a:prstGeom>
          <a:ln w="0">
            <a:noFill/>
          </a:ln>
        </p:spPr>
      </p:pic>
      <p:pic>
        <p:nvPicPr>
          <p:cNvPr id="416" name="" descr=""/>
          <p:cNvPicPr/>
          <p:nvPr/>
        </p:nvPicPr>
        <p:blipFill>
          <a:blip r:embed="rId2"/>
          <a:stretch/>
        </p:blipFill>
        <p:spPr>
          <a:xfrm>
            <a:off x="3352680" y="55627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16"/>
                    </p:tgtEl>
                  </p:cond>
                </p:stCondLst>
                <p:childTnLst>
                  <p:par>
                    <p:cTn id="3" fill="hold">
                      <p:stCondLst>
                        <p:cond evt="onClick">
                          <p:tgtEl>
                            <p:spTgt spid="416"/>
                          </p:tgtEl>
                        </p:cond>
                      </p:stCondLst>
                      <p:childTnLst>
                        <p:par>
                          <p:cTn id="4" fill="hold">
                            <p:stCondLst>
                              <p:cond delay="0"/>
                            </p:stCondLst>
                            <p:childTnLst>
                              <p:par>
                                <p:cTn id="5" nodeType="clickEffect" fill="hold" presetClass="mediacall" presetID="1">
                                  <p:stCondLst>
                                    <p:cond delay="0"/>
                                  </p:stCondLst>
                                  <p:childTnLst>
                                    <p:cmd type="call" cmd="playFrom(0.0)">
                                      <p:cBhvr>
                                        <p:cTn id="6" dur="60110" fill="hold"/>
                                        <p:tgtEl>
                                          <p:spTgt spid="4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B, The Punishment</a:t>
            </a:r>
            <a:endParaRPr b="0" lang="en-US" sz="6000" spc="-1" strike="noStrike">
              <a:solidFill>
                <a:srgbClr val="ffffff"/>
              </a:solidFill>
              <a:latin typeface="Chiller"/>
            </a:endParaRPr>
          </a:p>
        </p:txBody>
      </p:sp>
      <p:sp>
        <p:nvSpPr>
          <p:cNvPr id="454"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achers are forced to sit through a day in school and do everything we do (tests, quizzes, work, get homework, etc.). We also beat them with books and rulers.</a:t>
            </a:r>
            <a:endParaRPr b="0" lang="en-US" sz="1800" spc="-1" strike="noStrike">
              <a:solidFill>
                <a:srgbClr val="000000"/>
              </a:solidFill>
              <a:latin typeface="Arial"/>
            </a:endParaRPr>
          </a:p>
        </p:txBody>
      </p:sp>
      <p:sp>
        <p:nvSpPr>
          <p:cNvPr id="455" name="">
            <a:hlinkClick r:id="" action="ppaction://hlinkshowjump?jump=nextslide"/>
          </p:cNvPr>
          <p:cNvSpPr/>
          <p:nvPr/>
        </p:nvSpPr>
        <p:spPr>
          <a:xfrm>
            <a:off x="2971800" y="5638680"/>
            <a:ext cx="1523880" cy="381240"/>
          </a:xfrm>
          <a:custGeom>
            <a:avLst/>
            <a:gdLst>
              <a:gd name="textAreaLeft" fmla="*/ 61920 w 1523880"/>
              <a:gd name="textAreaRight" fmla="*/ 1461960 w 1523880"/>
              <a:gd name="textAreaTop" fmla="*/ 61920 h 381240"/>
              <a:gd name="textAreaBottom" fmla="*/ 319320 h 381240"/>
            </a:gdLst>
            <a:ahLst/>
            <a:rect l="textAreaLeft" t="textAreaTop" r="textAreaRight" b="textAreaBottom"/>
            <a:pathLst>
              <a:path w="86278" h="21600">
                <a:moveTo>
                  <a:pt x="0" y="0"/>
                </a:moveTo>
                <a:lnTo>
                  <a:pt x="86278" y="0"/>
                </a:lnTo>
                <a:lnTo>
                  <a:pt x="86278" y="21600"/>
                </a:lnTo>
                <a:lnTo>
                  <a:pt x="0" y="21600"/>
                </a:lnTo>
                <a:close/>
              </a:path>
              <a:path fill="lightenLess" w="86278" h="21600">
                <a:moveTo>
                  <a:pt x="0" y="0"/>
                </a:moveTo>
                <a:lnTo>
                  <a:pt x="86278" y="0"/>
                </a:lnTo>
                <a:lnTo>
                  <a:pt x="82768" y="3510"/>
                </a:lnTo>
                <a:lnTo>
                  <a:pt x="3510" y="3510"/>
                </a:lnTo>
                <a:close/>
              </a:path>
              <a:path fill="darken" w="86278" h="21600">
                <a:moveTo>
                  <a:pt x="86278" y="0"/>
                </a:moveTo>
                <a:lnTo>
                  <a:pt x="86278" y="21600"/>
                </a:lnTo>
                <a:lnTo>
                  <a:pt x="82768" y="18090"/>
                </a:lnTo>
                <a:lnTo>
                  <a:pt x="82768" y="3510"/>
                </a:lnTo>
                <a:close/>
              </a:path>
              <a:path fill="darkenLess" w="86278" h="21600">
                <a:moveTo>
                  <a:pt x="86278" y="21600"/>
                </a:moveTo>
                <a:lnTo>
                  <a:pt x="0" y="21600"/>
                </a:lnTo>
                <a:lnTo>
                  <a:pt x="3510" y="18090"/>
                </a:lnTo>
                <a:lnTo>
                  <a:pt x="82768" y="18090"/>
                </a:lnTo>
                <a:close/>
              </a:path>
              <a:path fill="lighten" w="86278" h="21600">
                <a:moveTo>
                  <a:pt x="0" y="21600"/>
                </a:moveTo>
                <a:lnTo>
                  <a:pt x="0" y="0"/>
                </a:lnTo>
                <a:lnTo>
                  <a:pt x="3510" y="3510"/>
                </a:lnTo>
                <a:lnTo>
                  <a:pt x="3510" y="1809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6" name="">
            <a:hlinkClick r:id="rId1" action="ppaction://hlinksldjump"/>
          </p:cNvPr>
          <p:cNvSpPr/>
          <p:nvPr/>
        </p:nvSpPr>
        <p:spPr>
          <a:xfrm>
            <a:off x="4724280" y="5638680"/>
            <a:ext cx="1828800" cy="381240"/>
          </a:xfrm>
          <a:custGeom>
            <a:avLst/>
            <a:gdLst>
              <a:gd name="textAreaLeft" fmla="*/ 87120 w 1828800"/>
              <a:gd name="textAreaRight" fmla="*/ 1741680 w 1828800"/>
              <a:gd name="textAreaTop" fmla="*/ 87120 h 381240"/>
              <a:gd name="textAreaBottom" fmla="*/ 294120 h 381240"/>
            </a:gdLst>
            <a:ahLst/>
            <a:rect l="textAreaLeft" t="textAreaTop" r="textAreaRight" b="textAreaBottom"/>
            <a:pathLst>
              <a:path w="103537" h="21600">
                <a:moveTo>
                  <a:pt x="0" y="0"/>
                </a:moveTo>
                <a:lnTo>
                  <a:pt x="103537" y="0"/>
                </a:lnTo>
                <a:lnTo>
                  <a:pt x="103537" y="21600"/>
                </a:lnTo>
                <a:lnTo>
                  <a:pt x="0" y="21600"/>
                </a:lnTo>
                <a:close/>
              </a:path>
              <a:path fill="lightenLess" w="103537" h="21600">
                <a:moveTo>
                  <a:pt x="0" y="0"/>
                </a:moveTo>
                <a:lnTo>
                  <a:pt x="103537" y="0"/>
                </a:lnTo>
                <a:lnTo>
                  <a:pt x="98588" y="4950"/>
                </a:lnTo>
                <a:lnTo>
                  <a:pt x="4950" y="4950"/>
                </a:lnTo>
                <a:close/>
              </a:path>
              <a:path fill="darken" w="103537" h="21600">
                <a:moveTo>
                  <a:pt x="103537" y="0"/>
                </a:moveTo>
                <a:lnTo>
                  <a:pt x="103537" y="21600"/>
                </a:lnTo>
                <a:lnTo>
                  <a:pt x="98588" y="16650"/>
                </a:lnTo>
                <a:lnTo>
                  <a:pt x="98588" y="4950"/>
                </a:lnTo>
                <a:close/>
              </a:path>
              <a:path fill="darkenLess" w="103537" h="21600">
                <a:moveTo>
                  <a:pt x="103537" y="21600"/>
                </a:moveTo>
                <a:lnTo>
                  <a:pt x="0" y="21600"/>
                </a:lnTo>
                <a:lnTo>
                  <a:pt x="4950" y="16650"/>
                </a:lnTo>
                <a:lnTo>
                  <a:pt x="98588" y="16650"/>
                </a:lnTo>
                <a:close/>
              </a:path>
              <a:path fill="lighten" w="103537"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
        <p:nvSpPr>
          <p:cNvPr id="457" name="">
            <a:hlinkClick r:id="rId2" action="ppaction://hlinksldjump"/>
          </p:cNvPr>
          <p:cNvSpPr/>
          <p:nvPr/>
        </p:nvSpPr>
        <p:spPr>
          <a:xfrm>
            <a:off x="6934320" y="5638680"/>
            <a:ext cx="1676160" cy="381240"/>
          </a:xfrm>
          <a:custGeom>
            <a:avLst/>
            <a:gdLst>
              <a:gd name="textAreaLeft" fmla="*/ 95040 w 1676160"/>
              <a:gd name="textAreaRight" fmla="*/ 1581120 w 1676160"/>
              <a:gd name="textAreaTop" fmla="*/ 95040 h 381240"/>
              <a:gd name="textAreaBottom" fmla="*/ 28620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89498" y="5400"/>
                </a:lnTo>
                <a:lnTo>
                  <a:pt x="5400" y="5400"/>
                </a:lnTo>
                <a:close/>
              </a:path>
              <a:path fill="darken" w="94897" h="21600">
                <a:moveTo>
                  <a:pt x="94897" y="0"/>
                </a:moveTo>
                <a:lnTo>
                  <a:pt x="94897" y="21600"/>
                </a:lnTo>
                <a:lnTo>
                  <a:pt x="89498" y="16200"/>
                </a:lnTo>
                <a:lnTo>
                  <a:pt x="89498" y="5400"/>
                </a:lnTo>
                <a:close/>
              </a:path>
              <a:path fill="darkenLess" w="94897" h="21600">
                <a:moveTo>
                  <a:pt x="94897" y="21600"/>
                </a:moveTo>
                <a:lnTo>
                  <a:pt x="0" y="21600"/>
                </a:lnTo>
                <a:lnTo>
                  <a:pt x="5400" y="16200"/>
                </a:lnTo>
                <a:lnTo>
                  <a:pt x="89498" y="16200"/>
                </a:lnTo>
                <a:close/>
              </a:path>
              <a:path fill="lighten" w="9489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My Reaction</a:t>
            </a:r>
            <a:endParaRPr b="0" lang="en-US" sz="6600" spc="-1" strike="noStrike">
              <a:solidFill>
                <a:srgbClr val="ffffff"/>
              </a:solidFill>
              <a:latin typeface="Chiller"/>
            </a:endParaRPr>
          </a:p>
        </p:txBody>
      </p:sp>
      <p:sp>
        <p:nvSpPr>
          <p:cNvPr id="45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love this punishment. Even though they already went through this, they should go through it again, because they put us through boring and annoying stuff for nine months.</a:t>
            </a:r>
            <a:endParaRPr b="0" lang="en-US" sz="1800" spc="-1" strike="noStrike">
              <a:solidFill>
                <a:srgbClr val="000000"/>
              </a:solidFill>
              <a:latin typeface="Arial"/>
            </a:endParaRPr>
          </a:p>
        </p:txBody>
      </p:sp>
      <p:sp>
        <p:nvSpPr>
          <p:cNvPr id="460" name="">
            <a:hlinkClick r:id="" action="ppaction://hlinkshowjump?jump=nextslide"/>
          </p:cNvPr>
          <p:cNvSpPr/>
          <p:nvPr/>
        </p:nvSpPr>
        <p:spPr>
          <a:xfrm>
            <a:off x="2971800" y="5715000"/>
            <a:ext cx="1523880" cy="304920"/>
          </a:xfrm>
          <a:custGeom>
            <a:avLst/>
            <a:gdLst>
              <a:gd name="textAreaLeft" fmla="*/ 75960 w 1523880"/>
              <a:gd name="textAreaRight" fmla="*/ 1447920 w 1523880"/>
              <a:gd name="textAreaTop" fmla="*/ 75960 h 304920"/>
              <a:gd name="textAreaBottom" fmla="*/ 228960 h 304920"/>
            </a:gdLst>
            <a:ahLst/>
            <a:rect l="textAreaLeft" t="textAreaTop" r="textAreaRight" b="textAreaBottom"/>
            <a:pathLst>
              <a:path w="107847" h="21600">
                <a:moveTo>
                  <a:pt x="0" y="0"/>
                </a:moveTo>
                <a:lnTo>
                  <a:pt x="107847" y="0"/>
                </a:lnTo>
                <a:lnTo>
                  <a:pt x="107847" y="21600"/>
                </a:lnTo>
                <a:lnTo>
                  <a:pt x="0" y="21600"/>
                </a:lnTo>
                <a:close/>
              </a:path>
              <a:path fill="lightenLess" w="107847" h="21600">
                <a:moveTo>
                  <a:pt x="0" y="0"/>
                </a:moveTo>
                <a:lnTo>
                  <a:pt x="107847" y="0"/>
                </a:lnTo>
                <a:lnTo>
                  <a:pt x="102447" y="5400"/>
                </a:lnTo>
                <a:lnTo>
                  <a:pt x="5400" y="5400"/>
                </a:lnTo>
                <a:close/>
              </a:path>
              <a:path fill="darken" w="107847" h="21600">
                <a:moveTo>
                  <a:pt x="107847" y="0"/>
                </a:moveTo>
                <a:lnTo>
                  <a:pt x="107847" y="21600"/>
                </a:lnTo>
                <a:lnTo>
                  <a:pt x="102447" y="16200"/>
                </a:lnTo>
                <a:lnTo>
                  <a:pt x="102447" y="5400"/>
                </a:lnTo>
                <a:close/>
              </a:path>
              <a:path fill="darkenLess" w="107847" h="21600">
                <a:moveTo>
                  <a:pt x="107847" y="21600"/>
                </a:moveTo>
                <a:lnTo>
                  <a:pt x="0" y="21600"/>
                </a:lnTo>
                <a:lnTo>
                  <a:pt x="5400" y="16200"/>
                </a:lnTo>
                <a:lnTo>
                  <a:pt x="102447" y="16200"/>
                </a:lnTo>
                <a:close/>
              </a:path>
              <a:path fill="lighten" w="10784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C</a:t>
            </a:r>
            <a:endParaRPr b="0" lang="en-US" sz="11800" spc="-1" strike="noStrike">
              <a:solidFill>
                <a:srgbClr val="ffffff"/>
              </a:solidFill>
              <a:latin typeface="Chiller"/>
            </a:endParaRPr>
          </a:p>
        </p:txBody>
      </p:sp>
      <p:sp>
        <p:nvSpPr>
          <p:cNvPr id="462"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a:hlinkClick r:id="" action="ppaction://hlinkshowjump?jump=nextslide"/>
          </p:cNvPr>
          <p:cNvSpPr/>
          <p:nvPr/>
        </p:nvSpPr>
        <p:spPr>
          <a:xfrm>
            <a:off x="2895480" y="5715000"/>
            <a:ext cx="1219320" cy="304920"/>
          </a:xfrm>
          <a:custGeom>
            <a:avLst/>
            <a:gdLst>
              <a:gd name="textAreaLeft" fmla="*/ 45360 w 1219320"/>
              <a:gd name="textAreaRight" fmla="*/ 1173960 w 1219320"/>
              <a:gd name="textAreaTop" fmla="*/ 45360 h 304920"/>
              <a:gd name="textAreaBottom" fmla="*/ 25956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3073" y="3225"/>
                </a:lnTo>
                <a:lnTo>
                  <a:pt x="3225" y="3225"/>
                </a:lnTo>
                <a:close/>
              </a:path>
              <a:path fill="darken" w="86298" h="21600">
                <a:moveTo>
                  <a:pt x="86298" y="0"/>
                </a:moveTo>
                <a:lnTo>
                  <a:pt x="86298" y="21600"/>
                </a:lnTo>
                <a:lnTo>
                  <a:pt x="83073" y="18375"/>
                </a:lnTo>
                <a:lnTo>
                  <a:pt x="83073" y="3225"/>
                </a:lnTo>
                <a:close/>
              </a:path>
              <a:path fill="darkenLess" w="86298" h="21600">
                <a:moveTo>
                  <a:pt x="86298" y="21600"/>
                </a:moveTo>
                <a:lnTo>
                  <a:pt x="0" y="21600"/>
                </a:lnTo>
                <a:lnTo>
                  <a:pt x="3225" y="18375"/>
                </a:lnTo>
                <a:lnTo>
                  <a:pt x="83073" y="18375"/>
                </a:lnTo>
                <a:close/>
              </a:path>
              <a:path fill="lighten" w="86298" h="21600">
                <a:moveTo>
                  <a:pt x="0" y="21600"/>
                </a:moveTo>
                <a:lnTo>
                  <a:pt x="0" y="0"/>
                </a:lnTo>
                <a:lnTo>
                  <a:pt x="3225" y="3225"/>
                </a:lnTo>
                <a:lnTo>
                  <a:pt x="3225" y="183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64" name="">
            <a:hlinkClick r:id="rId1" action="ppaction://hlinksldjump"/>
          </p:cNvPr>
          <p:cNvSpPr/>
          <p:nvPr/>
        </p:nvSpPr>
        <p:spPr>
          <a:xfrm>
            <a:off x="4572000" y="5715000"/>
            <a:ext cx="1905120" cy="304920"/>
          </a:xfrm>
          <a:custGeom>
            <a:avLst/>
            <a:gdLst>
              <a:gd name="textAreaLeft" fmla="*/ 58680 w 1905120"/>
              <a:gd name="textAreaRight" fmla="*/ 1846440 w 1905120"/>
              <a:gd name="textAreaTop" fmla="*/ 58680 h 304920"/>
              <a:gd name="textAreaBottom" fmla="*/ 24624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30659" y="4163"/>
                </a:lnTo>
                <a:lnTo>
                  <a:pt x="4163" y="4163"/>
                </a:lnTo>
                <a:close/>
              </a:path>
              <a:path fill="darken" w="134822" h="21600">
                <a:moveTo>
                  <a:pt x="134822" y="0"/>
                </a:moveTo>
                <a:lnTo>
                  <a:pt x="134822" y="21600"/>
                </a:lnTo>
                <a:lnTo>
                  <a:pt x="130659" y="17437"/>
                </a:lnTo>
                <a:lnTo>
                  <a:pt x="130659" y="4163"/>
                </a:lnTo>
                <a:close/>
              </a:path>
              <a:path fill="darkenLess" w="134822" h="21600">
                <a:moveTo>
                  <a:pt x="134822" y="21600"/>
                </a:moveTo>
                <a:lnTo>
                  <a:pt x="0" y="21600"/>
                </a:lnTo>
                <a:lnTo>
                  <a:pt x="4163" y="17437"/>
                </a:lnTo>
                <a:lnTo>
                  <a:pt x="130659" y="17437"/>
                </a:lnTo>
                <a:close/>
              </a:path>
              <a:path fill="lighten" w="134822" h="21600">
                <a:moveTo>
                  <a:pt x="0" y="21600"/>
                </a:moveTo>
                <a:lnTo>
                  <a:pt x="0" y="0"/>
                </a:lnTo>
                <a:lnTo>
                  <a:pt x="4163" y="4163"/>
                </a:lnTo>
                <a:lnTo>
                  <a:pt x="4163" y="174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65" name="">
            <a:hlinkClick r:id="rId2" action="ppaction://hlinksldjump"/>
          </p:cNvPr>
          <p:cNvSpPr/>
          <p:nvPr/>
        </p:nvSpPr>
        <p:spPr>
          <a:xfrm>
            <a:off x="6858000" y="5715000"/>
            <a:ext cx="1905120" cy="304920"/>
          </a:xfrm>
          <a:custGeom>
            <a:avLst/>
            <a:gdLst>
              <a:gd name="textAreaLeft" fmla="*/ 75960 w 1905120"/>
              <a:gd name="textAreaRight" fmla="*/ 1829160 w 1905120"/>
              <a:gd name="textAreaTop" fmla="*/ 75960 h 304920"/>
              <a:gd name="textAreaBottom" fmla="*/ 22896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29422" y="5400"/>
                </a:lnTo>
                <a:lnTo>
                  <a:pt x="5400" y="5400"/>
                </a:lnTo>
                <a:close/>
              </a:path>
              <a:path fill="darken" w="134822" h="21600">
                <a:moveTo>
                  <a:pt x="134822" y="0"/>
                </a:moveTo>
                <a:lnTo>
                  <a:pt x="134822" y="21600"/>
                </a:lnTo>
                <a:lnTo>
                  <a:pt x="129422" y="16200"/>
                </a:lnTo>
                <a:lnTo>
                  <a:pt x="129422" y="5400"/>
                </a:lnTo>
                <a:close/>
              </a:path>
              <a:path fill="darkenLess" w="134822" h="21600">
                <a:moveTo>
                  <a:pt x="134822" y="21600"/>
                </a:moveTo>
                <a:lnTo>
                  <a:pt x="0" y="21600"/>
                </a:lnTo>
                <a:lnTo>
                  <a:pt x="5400" y="16200"/>
                </a:lnTo>
                <a:lnTo>
                  <a:pt x="129422" y="16200"/>
                </a:lnTo>
                <a:close/>
              </a:path>
              <a:path fill="lighten" w="134822"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66" name="" descr=""/>
          <p:cNvPicPr/>
          <p:nvPr/>
        </p:nvPicPr>
        <p:blipFill>
          <a:blip r:embed="rId3"/>
          <a:stretch/>
        </p:blipFill>
        <p:spPr>
          <a:xfrm>
            <a:off x="3048120" y="1600200"/>
            <a:ext cx="5790960" cy="3924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The Crime</a:t>
            </a:r>
            <a:endParaRPr b="0" lang="en-US" sz="6600" spc="-1" strike="noStrike">
              <a:solidFill>
                <a:srgbClr val="ffffff"/>
              </a:solidFill>
              <a:latin typeface="Chiller"/>
            </a:endParaRPr>
          </a:p>
        </p:txBody>
      </p:sp>
      <p:sp>
        <p:nvSpPr>
          <p:cNvPr id="46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level is the worst level of Hell. In this level, people are sent because of horrible crimes of betrayal to friends, or even their leaders. People like Severus Snape go here because he killed Professor Dumbledore when he was with him formany years.</a:t>
            </a:r>
            <a:endParaRPr b="0" lang="en-US" sz="1800" spc="-1" strike="noStrike">
              <a:solidFill>
                <a:srgbClr val="000000"/>
              </a:solidFill>
              <a:latin typeface="Arial"/>
            </a:endParaRPr>
          </a:p>
        </p:txBody>
      </p:sp>
      <p:sp>
        <p:nvSpPr>
          <p:cNvPr id="469" name="">
            <a:hlinkClick r:id="" action="ppaction://hlinkshowjump?jump=nextslide"/>
          </p:cNvPr>
          <p:cNvSpPr/>
          <p:nvPr/>
        </p:nvSpPr>
        <p:spPr>
          <a:xfrm>
            <a:off x="2971800" y="5715000"/>
            <a:ext cx="1523880" cy="380880"/>
          </a:xfrm>
          <a:custGeom>
            <a:avLst/>
            <a:gdLst>
              <a:gd name="textAreaLeft" fmla="*/ 71280 w 1523880"/>
              <a:gd name="textAreaRight" fmla="*/ 1452600 w 1523880"/>
              <a:gd name="textAreaTop" fmla="*/ 71280 h 380880"/>
              <a:gd name="textAreaBottom" fmla="*/ 3096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2309" y="4050"/>
                </a:lnTo>
                <a:lnTo>
                  <a:pt x="4050" y="4050"/>
                </a:lnTo>
                <a:close/>
              </a:path>
              <a:path fill="darken" w="86359" h="21600">
                <a:moveTo>
                  <a:pt x="86359" y="0"/>
                </a:moveTo>
                <a:lnTo>
                  <a:pt x="86359" y="21600"/>
                </a:lnTo>
                <a:lnTo>
                  <a:pt x="82309" y="17550"/>
                </a:lnTo>
                <a:lnTo>
                  <a:pt x="82309" y="4050"/>
                </a:lnTo>
                <a:close/>
              </a:path>
              <a:path fill="darkenLess" w="86359" h="21600">
                <a:moveTo>
                  <a:pt x="86359" y="21600"/>
                </a:moveTo>
                <a:lnTo>
                  <a:pt x="0" y="21600"/>
                </a:lnTo>
                <a:lnTo>
                  <a:pt x="4050" y="17550"/>
                </a:lnTo>
                <a:lnTo>
                  <a:pt x="82309" y="17550"/>
                </a:lnTo>
                <a:close/>
              </a:path>
              <a:path fill="lighten" w="86359" h="21600">
                <a:moveTo>
                  <a:pt x="0" y="21600"/>
                </a:moveTo>
                <a:lnTo>
                  <a:pt x="0" y="0"/>
                </a:lnTo>
                <a:lnTo>
                  <a:pt x="4050" y="4050"/>
                </a:lnTo>
                <a:lnTo>
                  <a:pt x="4050" y="175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70" name="">
            <a:hlinkClick r:id="rId1" action="ppaction://hlinksldjump"/>
          </p:cNvPr>
          <p:cNvSpPr/>
          <p:nvPr/>
        </p:nvSpPr>
        <p:spPr>
          <a:xfrm>
            <a:off x="4876920" y="5715000"/>
            <a:ext cx="1904760" cy="380880"/>
          </a:xfrm>
          <a:custGeom>
            <a:avLst/>
            <a:gdLst>
              <a:gd name="textAreaLeft" fmla="*/ 95040 w 1904760"/>
              <a:gd name="textAreaRight" fmla="*/ 1809720 w 1904760"/>
              <a:gd name="textAreaTop" fmla="*/ 95040 h 380880"/>
              <a:gd name="textAreaBottom" fmla="*/ 285840 h 380880"/>
            </a:gdLst>
            <a:ahLst/>
            <a:rect l="textAreaLeft" t="textAreaTop" r="textAreaRight" b="textAreaBottom"/>
            <a:pathLst>
              <a:path w="107939" h="21600">
                <a:moveTo>
                  <a:pt x="0" y="0"/>
                </a:moveTo>
                <a:lnTo>
                  <a:pt x="107939" y="0"/>
                </a:lnTo>
                <a:lnTo>
                  <a:pt x="107939" y="21600"/>
                </a:lnTo>
                <a:lnTo>
                  <a:pt x="0" y="21600"/>
                </a:lnTo>
                <a:close/>
              </a:path>
              <a:path fill="lightenLess" w="107939" h="21600">
                <a:moveTo>
                  <a:pt x="0" y="0"/>
                </a:moveTo>
                <a:lnTo>
                  <a:pt x="107939" y="0"/>
                </a:lnTo>
                <a:lnTo>
                  <a:pt x="102539" y="5400"/>
                </a:lnTo>
                <a:lnTo>
                  <a:pt x="5400" y="5400"/>
                </a:lnTo>
                <a:close/>
              </a:path>
              <a:path fill="darken" w="107939" h="21600">
                <a:moveTo>
                  <a:pt x="107939" y="0"/>
                </a:moveTo>
                <a:lnTo>
                  <a:pt x="107939" y="21600"/>
                </a:lnTo>
                <a:lnTo>
                  <a:pt x="102539" y="16200"/>
                </a:lnTo>
                <a:lnTo>
                  <a:pt x="102539" y="5400"/>
                </a:lnTo>
                <a:close/>
              </a:path>
              <a:path fill="darkenLess" w="107939" h="21600">
                <a:moveTo>
                  <a:pt x="107939" y="21600"/>
                </a:moveTo>
                <a:lnTo>
                  <a:pt x="0" y="21600"/>
                </a:lnTo>
                <a:lnTo>
                  <a:pt x="5400" y="16200"/>
                </a:lnTo>
                <a:lnTo>
                  <a:pt x="102539" y="16200"/>
                </a:lnTo>
                <a:close/>
              </a:path>
              <a:path fill="lighten" w="107939"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1" name="">
            <a:hlinkClick r:id="rId2" action="ppaction://hlinksldjump"/>
          </p:cNvPr>
          <p:cNvSpPr/>
          <p:nvPr/>
        </p:nvSpPr>
        <p:spPr>
          <a:xfrm>
            <a:off x="7010280" y="5715000"/>
            <a:ext cx="1828800" cy="380880"/>
          </a:xfrm>
          <a:custGeom>
            <a:avLst/>
            <a:gdLst>
              <a:gd name="textAreaLeft" fmla="*/ 95040 w 1828800"/>
              <a:gd name="textAreaRight" fmla="*/ 1733760 w 1828800"/>
              <a:gd name="textAreaTop" fmla="*/ 95040 h 380880"/>
              <a:gd name="textAreaBottom" fmla="*/ 28584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235" y="5400"/>
                </a:lnTo>
                <a:lnTo>
                  <a:pt x="5400" y="5400"/>
                </a:lnTo>
                <a:close/>
              </a:path>
              <a:path fill="darken" w="103635" h="21600">
                <a:moveTo>
                  <a:pt x="103635" y="0"/>
                </a:moveTo>
                <a:lnTo>
                  <a:pt x="103635" y="21600"/>
                </a:lnTo>
                <a:lnTo>
                  <a:pt x="98235" y="16200"/>
                </a:lnTo>
                <a:lnTo>
                  <a:pt x="98235" y="5400"/>
                </a:lnTo>
                <a:close/>
              </a:path>
              <a:path fill="darkenLess" w="103635" h="21600">
                <a:moveTo>
                  <a:pt x="103635" y="21600"/>
                </a:moveTo>
                <a:lnTo>
                  <a:pt x="0" y="21600"/>
                </a:lnTo>
                <a:lnTo>
                  <a:pt x="5400" y="16200"/>
                </a:lnTo>
                <a:lnTo>
                  <a:pt x="98235" y="16200"/>
                </a:lnTo>
                <a:close/>
              </a:path>
              <a:path fill="lighten" w="103635"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C, The Punishment</a:t>
            </a:r>
            <a:endParaRPr b="0" lang="en-US" sz="6000" spc="-1" strike="noStrike">
              <a:solidFill>
                <a:srgbClr val="ffffff"/>
              </a:solidFill>
              <a:latin typeface="Chiller"/>
            </a:endParaRPr>
          </a:p>
        </p:txBody>
      </p:sp>
      <p:sp>
        <p:nvSpPr>
          <p:cNvPr id="47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unishment is they will be tortured until they apologize for what they did and beg for forgiveness.</a:t>
            </a:r>
            <a:endParaRPr b="0" lang="en-US" sz="1800" spc="-1" strike="noStrike">
              <a:solidFill>
                <a:srgbClr val="000000"/>
              </a:solidFill>
              <a:latin typeface="Arial"/>
            </a:endParaRPr>
          </a:p>
        </p:txBody>
      </p:sp>
      <p:sp>
        <p:nvSpPr>
          <p:cNvPr id="474" name="">
            <a:hlinkClick r:id="" action="ppaction://hlinkshowjump?jump=nextslide"/>
          </p:cNvPr>
          <p:cNvSpPr/>
          <p:nvPr/>
        </p:nvSpPr>
        <p:spPr>
          <a:xfrm>
            <a:off x="2971800" y="5562720"/>
            <a:ext cx="1523880" cy="457200"/>
          </a:xfrm>
          <a:custGeom>
            <a:avLst/>
            <a:gdLst>
              <a:gd name="textAreaLeft" fmla="*/ 81000 w 1523880"/>
              <a:gd name="textAreaRight" fmla="*/ 1442880 w 1523880"/>
              <a:gd name="textAreaTop" fmla="*/ 81000 h 457200"/>
              <a:gd name="textAreaBottom" fmla="*/ 3762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130" y="3825"/>
                </a:lnTo>
                <a:lnTo>
                  <a:pt x="3825" y="3825"/>
                </a:lnTo>
                <a:close/>
              </a:path>
              <a:path fill="darken" w="71955" h="21600">
                <a:moveTo>
                  <a:pt x="71955" y="0"/>
                </a:moveTo>
                <a:lnTo>
                  <a:pt x="71955" y="21600"/>
                </a:lnTo>
                <a:lnTo>
                  <a:pt x="68130" y="17775"/>
                </a:lnTo>
                <a:lnTo>
                  <a:pt x="68130" y="3825"/>
                </a:lnTo>
                <a:close/>
              </a:path>
              <a:path fill="darkenLess" w="71955" h="21600">
                <a:moveTo>
                  <a:pt x="71955" y="21600"/>
                </a:moveTo>
                <a:lnTo>
                  <a:pt x="0" y="21600"/>
                </a:lnTo>
                <a:lnTo>
                  <a:pt x="3825" y="17775"/>
                </a:lnTo>
                <a:lnTo>
                  <a:pt x="68130" y="17775"/>
                </a:lnTo>
                <a:close/>
              </a:path>
              <a:path fill="lighten" w="71955" h="21600">
                <a:moveTo>
                  <a:pt x="0" y="21600"/>
                </a:moveTo>
                <a:lnTo>
                  <a:pt x="0" y="0"/>
                </a:lnTo>
                <a:lnTo>
                  <a:pt x="3825" y="3825"/>
                </a:lnTo>
                <a:lnTo>
                  <a:pt x="3825" y="177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5" name="">
            <a:hlinkClick r:id="rId1" action="ppaction://hlinksldjump"/>
          </p:cNvPr>
          <p:cNvSpPr/>
          <p:nvPr/>
        </p:nvSpPr>
        <p:spPr>
          <a:xfrm>
            <a:off x="4952880" y="5562720"/>
            <a:ext cx="1752840" cy="457200"/>
          </a:xfrm>
          <a:custGeom>
            <a:avLst/>
            <a:gdLst>
              <a:gd name="textAreaLeft" fmla="*/ 91800 w 1752840"/>
              <a:gd name="textAreaRight" fmla="*/ 1661040 w 1752840"/>
              <a:gd name="textAreaTop" fmla="*/ 91800 h 457200"/>
              <a:gd name="textAreaBottom" fmla="*/ 36540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78413" y="4350"/>
                </a:lnTo>
                <a:lnTo>
                  <a:pt x="4350" y="4350"/>
                </a:lnTo>
                <a:close/>
              </a:path>
              <a:path fill="darken" w="82763" h="21600">
                <a:moveTo>
                  <a:pt x="82763" y="0"/>
                </a:moveTo>
                <a:lnTo>
                  <a:pt x="82763" y="21600"/>
                </a:lnTo>
                <a:lnTo>
                  <a:pt x="78413" y="17250"/>
                </a:lnTo>
                <a:lnTo>
                  <a:pt x="78413" y="4350"/>
                </a:lnTo>
                <a:close/>
              </a:path>
              <a:path fill="darkenLess" w="82763" h="21600">
                <a:moveTo>
                  <a:pt x="82763" y="21600"/>
                </a:moveTo>
                <a:lnTo>
                  <a:pt x="0" y="21600"/>
                </a:lnTo>
                <a:lnTo>
                  <a:pt x="4350" y="17250"/>
                </a:lnTo>
                <a:lnTo>
                  <a:pt x="78413" y="17250"/>
                </a:lnTo>
                <a:close/>
              </a:path>
              <a:path fill="lighten" w="82763"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476" name="">
            <a:hlinkClick r:id="rId2" action="ppaction://hlinksldjump"/>
          </p:cNvPr>
          <p:cNvSpPr/>
          <p:nvPr/>
        </p:nvSpPr>
        <p:spPr>
          <a:xfrm>
            <a:off x="7086600" y="5562720"/>
            <a:ext cx="1752480" cy="457200"/>
          </a:xfrm>
          <a:custGeom>
            <a:avLst/>
            <a:gdLst>
              <a:gd name="textAreaLeft" fmla="*/ 93600 w 1752480"/>
              <a:gd name="textAreaRight" fmla="*/ 1658880 w 1752480"/>
              <a:gd name="textAreaTop" fmla="*/ 93600 h 457200"/>
              <a:gd name="textAreaBottom" fmla="*/ 3636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321" y="4425"/>
                </a:lnTo>
                <a:lnTo>
                  <a:pt x="4425" y="4425"/>
                </a:lnTo>
                <a:close/>
              </a:path>
              <a:path fill="darken" w="82746" h="21600">
                <a:moveTo>
                  <a:pt x="82746" y="0"/>
                </a:moveTo>
                <a:lnTo>
                  <a:pt x="82746" y="21600"/>
                </a:lnTo>
                <a:lnTo>
                  <a:pt x="78321" y="17175"/>
                </a:lnTo>
                <a:lnTo>
                  <a:pt x="78321" y="4425"/>
                </a:lnTo>
                <a:close/>
              </a:path>
              <a:path fill="darkenLess" w="82746" h="21600">
                <a:moveTo>
                  <a:pt x="82746" y="21600"/>
                </a:moveTo>
                <a:lnTo>
                  <a:pt x="0" y="21600"/>
                </a:lnTo>
                <a:lnTo>
                  <a:pt x="4425" y="17175"/>
                </a:lnTo>
                <a:lnTo>
                  <a:pt x="78321" y="17175"/>
                </a:lnTo>
                <a:close/>
              </a:path>
              <a:path fill="lighten" w="82746"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My Reaction</a:t>
            </a:r>
            <a:endParaRPr b="0" lang="en-US" sz="6600" spc="-1" strike="noStrike">
              <a:solidFill>
                <a:srgbClr val="ffffff"/>
              </a:solidFill>
              <a:latin typeface="Chiller"/>
            </a:endParaRPr>
          </a:p>
        </p:txBody>
      </p:sp>
      <p:sp>
        <p:nvSpPr>
          <p:cNvPr id="47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think this is a little over board, but if they think that is what is needed for betrayal, because I think betrayal is a horrible thing to do, then I’m fine with it.</a:t>
            </a:r>
            <a:endParaRPr b="0" lang="en-US" sz="1800" spc="-1" strike="noStrike">
              <a:solidFill>
                <a:srgbClr val="000000"/>
              </a:solidFill>
              <a:latin typeface="Arial"/>
            </a:endParaRPr>
          </a:p>
        </p:txBody>
      </p:sp>
      <p:sp>
        <p:nvSpPr>
          <p:cNvPr id="479" name="">
            <a:hlinkClick r:id="rId1" action="ppaction://hlinksldjump"/>
          </p:cNvPr>
          <p:cNvSpPr/>
          <p:nvPr/>
        </p:nvSpPr>
        <p:spPr>
          <a:xfrm>
            <a:off x="2971800" y="5715000"/>
            <a:ext cx="1600200" cy="304920"/>
          </a:xfrm>
          <a:custGeom>
            <a:avLst/>
            <a:gdLst>
              <a:gd name="textAreaLeft" fmla="*/ 71280 w 1600200"/>
              <a:gd name="textAreaRight" fmla="*/ 1528920 w 1600200"/>
              <a:gd name="textAreaTop" fmla="*/ 71280 h 304920"/>
              <a:gd name="textAreaBottom" fmla="*/ 23364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08184" y="5063"/>
                </a:lnTo>
                <a:lnTo>
                  <a:pt x="5063" y="5063"/>
                </a:lnTo>
                <a:close/>
              </a:path>
              <a:path fill="darken" w="113247" h="21600">
                <a:moveTo>
                  <a:pt x="113247" y="0"/>
                </a:moveTo>
                <a:lnTo>
                  <a:pt x="113247" y="21600"/>
                </a:lnTo>
                <a:lnTo>
                  <a:pt x="108184" y="16537"/>
                </a:lnTo>
                <a:lnTo>
                  <a:pt x="108184" y="5063"/>
                </a:lnTo>
                <a:close/>
              </a:path>
              <a:path fill="darkenLess" w="113247" h="21600">
                <a:moveTo>
                  <a:pt x="113247" y="21600"/>
                </a:moveTo>
                <a:lnTo>
                  <a:pt x="0" y="21600"/>
                </a:lnTo>
                <a:lnTo>
                  <a:pt x="5063" y="16537"/>
                </a:lnTo>
                <a:lnTo>
                  <a:pt x="108184" y="16537"/>
                </a:lnTo>
                <a:close/>
              </a:path>
              <a:path fill="lighten" w="113247" h="21600">
                <a:moveTo>
                  <a:pt x="0" y="21600"/>
                </a:moveTo>
                <a:lnTo>
                  <a:pt x="0" y="0"/>
                </a:lnTo>
                <a:lnTo>
                  <a:pt x="5063" y="5063"/>
                </a:lnTo>
                <a:lnTo>
                  <a:pt x="5063" y="165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0"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Has been DENIED!</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You need to go back and complete your levels before entering here.</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Do not try this route again or you will be doomed…</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2"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 learned that gluttony, that teachers do what they have to (it’s there jobs), and that betrayal is a horrible act. I will never end up here again. After going through all these levels of Hell, I realized how bad these crimes were. So, now that I know, I will never commit these crimes, and never visit Hell again.</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
        <p:nvSpPr>
          <p:cNvPr id="484" name=""/>
          <p:cNvSpPr/>
          <p:nvPr/>
        </p:nvSpPr>
        <p:spPr>
          <a:xfrm>
            <a:off x="3048120" y="1981080"/>
            <a:ext cx="5333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ffffff"/>
                </a:solidFill>
                <a:latin typeface="Chiller"/>
              </a:rPr>
              <a:t>Meet My Guide</a:t>
            </a:r>
            <a:endParaRPr b="0" lang="en-US" sz="8100" spc="-1" strike="noStrike">
              <a:solidFill>
                <a:srgbClr val="ffffff"/>
              </a:solidFill>
              <a:latin typeface="Chiller"/>
            </a:endParaRPr>
          </a:p>
        </p:txBody>
      </p:sp>
      <p:sp>
        <p:nvSpPr>
          <p:cNvPr id="4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der Man: This guide will give you a tour of the worst levels of Hell. He still wears his suit, and he gets around by swinging on webs. He is in level of betrayal for becoming a villain in that short period of time from the venom.</a:t>
            </a:r>
            <a:r>
              <a:rPr b="0" lang="en-US" sz="1400" spc="-1" strike="noStrike">
                <a:solidFill>
                  <a:srgbClr val="000000"/>
                </a:solidFill>
                <a:latin typeface="Arial"/>
              </a:rPr>
              <a:t> </a:t>
            </a:r>
            <a:endParaRPr b="0" lang="en-US" sz="1400" spc="-1" strike="noStrike">
              <a:solidFill>
                <a:srgbClr val="000000"/>
              </a:solidFill>
              <a:latin typeface="Arial"/>
            </a:endParaRPr>
          </a:p>
        </p:txBody>
      </p:sp>
      <p:pic>
        <p:nvPicPr>
          <p:cNvPr id="419" name="" descr="See full size image"/>
          <p:cNvPicPr/>
          <p:nvPr/>
        </p:nvPicPr>
        <p:blipFill>
          <a:blip r:embed="rId1"/>
          <a:stretch/>
        </p:blipFill>
        <p:spPr>
          <a:xfrm>
            <a:off x="3200400" y="2819520"/>
            <a:ext cx="4495680" cy="327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Meet Me</a:t>
            </a:r>
            <a:endParaRPr b="0" lang="en-US" sz="11800" spc="-1" strike="noStrike">
              <a:solidFill>
                <a:srgbClr val="ffffff"/>
              </a:solidFill>
              <a:latin typeface="Chiller"/>
            </a:endParaRPr>
          </a:p>
        </p:txBody>
      </p:sp>
      <p:sp>
        <p:nvSpPr>
          <p:cNvPr id="421"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all person who was sent to the inferno. I’m still alive, but I was sent there to learn a lesson. Only 15 years old. Was a baseball player before being sent to the inferno. Sent to the inferno for stealing a chocolate milk from a little gir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22" name="" descr=""/>
          <p:cNvPicPr/>
          <p:nvPr/>
        </p:nvPicPr>
        <p:blipFill>
          <a:blip r:embed="rId1"/>
          <a:stretch/>
        </p:blipFill>
        <p:spPr>
          <a:xfrm>
            <a:off x="4800600" y="3505320"/>
            <a:ext cx="2400480" cy="2581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A</a:t>
            </a:r>
            <a:endParaRPr b="0" lang="en-US" sz="11800" spc="-1" strike="noStrike">
              <a:solidFill>
                <a:srgbClr val="ffffff"/>
              </a:solidFill>
              <a:latin typeface="Chiller"/>
            </a:endParaRPr>
          </a:p>
        </p:txBody>
      </p:sp>
      <p:sp>
        <p:nvSpPr>
          <p:cNvPr id="424"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
            <a:hlinkClick r:id="" action="ppaction://hlinkshowjump?jump=nextslide"/>
          </p:cNvPr>
          <p:cNvSpPr/>
          <p:nvPr/>
        </p:nvSpPr>
        <p:spPr>
          <a:xfrm>
            <a:off x="2895480" y="5715000"/>
            <a:ext cx="1295640" cy="380880"/>
          </a:xfrm>
          <a:custGeom>
            <a:avLst/>
            <a:gdLst>
              <a:gd name="textAreaLeft" fmla="*/ 95040 w 1295640"/>
              <a:gd name="textAreaRight" fmla="*/ 1200600 w 1295640"/>
              <a:gd name="textAreaTop" fmla="*/ 95040 h 380880"/>
              <a:gd name="textAreaBottom" fmla="*/ 28584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68028" y="5400"/>
                </a:lnTo>
                <a:lnTo>
                  <a:pt x="5400" y="5400"/>
                </a:lnTo>
                <a:close/>
              </a:path>
              <a:path fill="darken" w="73428" h="21600">
                <a:moveTo>
                  <a:pt x="73428" y="0"/>
                </a:moveTo>
                <a:lnTo>
                  <a:pt x="73428" y="21600"/>
                </a:lnTo>
                <a:lnTo>
                  <a:pt x="68028" y="16200"/>
                </a:lnTo>
                <a:lnTo>
                  <a:pt x="68028" y="5400"/>
                </a:lnTo>
                <a:close/>
              </a:path>
              <a:path fill="darkenLess" w="73428" h="21600">
                <a:moveTo>
                  <a:pt x="73428" y="21600"/>
                </a:moveTo>
                <a:lnTo>
                  <a:pt x="0" y="21600"/>
                </a:lnTo>
                <a:lnTo>
                  <a:pt x="5400" y="16200"/>
                </a:lnTo>
                <a:lnTo>
                  <a:pt x="68028" y="16200"/>
                </a:lnTo>
                <a:close/>
              </a:path>
              <a:path fill="lighten" w="73428"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26" name="">
            <a:hlinkClick r:id="rId1" action="ppaction://hlinksldjump"/>
          </p:cNvPr>
          <p:cNvSpPr/>
          <p:nvPr/>
        </p:nvSpPr>
        <p:spPr>
          <a:xfrm>
            <a:off x="5181480" y="5715000"/>
            <a:ext cx="1371600" cy="380880"/>
          </a:xfrm>
          <a:custGeom>
            <a:avLst/>
            <a:gdLst>
              <a:gd name="textAreaLeft" fmla="*/ 50760 w 1371600"/>
              <a:gd name="textAreaRight" fmla="*/ 1320840 w 1371600"/>
              <a:gd name="textAreaTop" fmla="*/ 50760 h 380880"/>
              <a:gd name="textAreaBottom" fmla="*/ 3301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852" y="2880"/>
                </a:lnTo>
                <a:lnTo>
                  <a:pt x="2880" y="2880"/>
                </a:lnTo>
                <a:close/>
              </a:path>
              <a:path fill="darken" w="77731" h="21600">
                <a:moveTo>
                  <a:pt x="77731" y="0"/>
                </a:moveTo>
                <a:lnTo>
                  <a:pt x="77731" y="21600"/>
                </a:lnTo>
                <a:lnTo>
                  <a:pt x="74852" y="18720"/>
                </a:lnTo>
                <a:lnTo>
                  <a:pt x="74852" y="2880"/>
                </a:lnTo>
                <a:close/>
              </a:path>
              <a:path fill="darkenLess" w="77731" h="21600">
                <a:moveTo>
                  <a:pt x="77731" y="21600"/>
                </a:moveTo>
                <a:lnTo>
                  <a:pt x="0" y="21600"/>
                </a:lnTo>
                <a:lnTo>
                  <a:pt x="2880" y="18720"/>
                </a:lnTo>
                <a:lnTo>
                  <a:pt x="74852" y="18720"/>
                </a:lnTo>
                <a:close/>
              </a:path>
              <a:path fill="lighten" w="77731" h="21600">
                <a:moveTo>
                  <a:pt x="0" y="21600"/>
                </a:moveTo>
                <a:lnTo>
                  <a:pt x="0" y="0"/>
                </a:lnTo>
                <a:lnTo>
                  <a:pt x="2880" y="2880"/>
                </a:lnTo>
                <a:lnTo>
                  <a:pt x="2880" y="1872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27" name="">
            <a:hlinkClick r:id="rId2" action="ppaction://hlinksldjump"/>
          </p:cNvPr>
          <p:cNvSpPr/>
          <p:nvPr/>
        </p:nvSpPr>
        <p:spPr>
          <a:xfrm>
            <a:off x="7543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28" name="" descr="See full size image"/>
          <p:cNvPicPr/>
          <p:nvPr/>
        </p:nvPicPr>
        <p:blipFill>
          <a:blip r:embed="rId3"/>
          <a:stretch/>
        </p:blipFill>
        <p:spPr>
          <a:xfrm>
            <a:off x="3048120" y="1752480"/>
            <a:ext cx="5790960" cy="3810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Chiller"/>
              </a:rPr>
              <a:t>Level A, The Crime</a:t>
            </a:r>
            <a:endParaRPr b="0" lang="en-US" sz="6700" spc="-1" strike="noStrike">
              <a:solidFill>
                <a:srgbClr val="ffffff"/>
              </a:solidFill>
              <a:latin typeface="Chiller"/>
            </a:endParaRPr>
          </a:p>
        </p:txBody>
      </p:sp>
      <p:sp>
        <p:nvSpPr>
          <p:cNvPr id="430" name="">
            <a:hlinkClick r:id="" action="ppaction://hlinkshowjump?jump=nextslide"/>
          </p:cNvPr>
          <p:cNvSpPr/>
          <p:nvPr/>
        </p:nvSpPr>
        <p:spPr>
          <a:xfrm>
            <a:off x="2743200" y="5562720"/>
            <a:ext cx="1447920" cy="457200"/>
          </a:xfrm>
          <a:custGeom>
            <a:avLst/>
            <a:gdLst>
              <a:gd name="textAreaLeft" fmla="*/ 82800 w 1447920"/>
              <a:gd name="textAreaRight" fmla="*/ 1365120 w 1447920"/>
              <a:gd name="textAreaTop" fmla="*/ 82800 h 457200"/>
              <a:gd name="textAreaBottom" fmla="*/ 374400 h 457200"/>
            </a:gdLst>
            <a:ahLst/>
            <a:rect l="textAreaLeft" t="textAreaTop" r="textAreaRight" b="textAreaBottom"/>
            <a:pathLst>
              <a:path w="68369" h="21600">
                <a:moveTo>
                  <a:pt x="0" y="0"/>
                </a:moveTo>
                <a:lnTo>
                  <a:pt x="68369" y="0"/>
                </a:lnTo>
                <a:lnTo>
                  <a:pt x="68369" y="21600"/>
                </a:lnTo>
                <a:lnTo>
                  <a:pt x="0" y="21600"/>
                </a:lnTo>
                <a:close/>
              </a:path>
              <a:path fill="lightenLess" w="68369" h="21600">
                <a:moveTo>
                  <a:pt x="0" y="0"/>
                </a:moveTo>
                <a:lnTo>
                  <a:pt x="68369" y="0"/>
                </a:lnTo>
                <a:lnTo>
                  <a:pt x="64448" y="3921"/>
                </a:lnTo>
                <a:lnTo>
                  <a:pt x="3921" y="3921"/>
                </a:lnTo>
                <a:close/>
              </a:path>
              <a:path fill="darken" w="68369" h="21600">
                <a:moveTo>
                  <a:pt x="68369" y="0"/>
                </a:moveTo>
                <a:lnTo>
                  <a:pt x="68369" y="21600"/>
                </a:lnTo>
                <a:lnTo>
                  <a:pt x="64448" y="17679"/>
                </a:lnTo>
                <a:lnTo>
                  <a:pt x="64448" y="3921"/>
                </a:lnTo>
                <a:close/>
              </a:path>
              <a:path fill="darkenLess" w="68369" h="21600">
                <a:moveTo>
                  <a:pt x="68369" y="21600"/>
                </a:moveTo>
                <a:lnTo>
                  <a:pt x="0" y="21600"/>
                </a:lnTo>
                <a:lnTo>
                  <a:pt x="3921" y="17679"/>
                </a:lnTo>
                <a:lnTo>
                  <a:pt x="64448" y="17679"/>
                </a:lnTo>
                <a:close/>
              </a:path>
              <a:path fill="lighten" w="68369" h="21600">
                <a:moveTo>
                  <a:pt x="0" y="21600"/>
                </a:moveTo>
                <a:lnTo>
                  <a:pt x="0" y="0"/>
                </a:lnTo>
                <a:lnTo>
                  <a:pt x="3921" y="3921"/>
                </a:lnTo>
                <a:lnTo>
                  <a:pt x="3921" y="17679"/>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31" name=""/>
          <p:cNvSpPr/>
          <p:nvPr/>
        </p:nvSpPr>
        <p:spPr>
          <a:xfrm>
            <a:off x="5029200" y="5562720"/>
            <a:ext cx="1523880" cy="457200"/>
          </a:xfrm>
          <a:custGeom>
            <a:avLst/>
            <a:gdLst>
              <a:gd name="textAreaLeft" fmla="*/ 79200 w 1523880"/>
              <a:gd name="textAreaRight" fmla="*/ 1444680 w 1523880"/>
              <a:gd name="textAreaTop" fmla="*/ 79200 h 457200"/>
              <a:gd name="textAreaBottom" fmla="*/ 3780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205" y="3750"/>
                </a:lnTo>
                <a:lnTo>
                  <a:pt x="3750" y="3750"/>
                </a:lnTo>
                <a:close/>
              </a:path>
              <a:path fill="darken" w="71955" h="21600">
                <a:moveTo>
                  <a:pt x="71955" y="0"/>
                </a:moveTo>
                <a:lnTo>
                  <a:pt x="71955" y="21600"/>
                </a:lnTo>
                <a:lnTo>
                  <a:pt x="68205" y="17850"/>
                </a:lnTo>
                <a:lnTo>
                  <a:pt x="68205" y="3750"/>
                </a:lnTo>
                <a:close/>
              </a:path>
              <a:path fill="darkenLess" w="71955" h="21600">
                <a:moveTo>
                  <a:pt x="71955" y="21600"/>
                </a:moveTo>
                <a:lnTo>
                  <a:pt x="0" y="21600"/>
                </a:lnTo>
                <a:lnTo>
                  <a:pt x="3750" y="17850"/>
                </a:lnTo>
                <a:lnTo>
                  <a:pt x="68205" y="17850"/>
                </a:lnTo>
                <a:close/>
              </a:path>
              <a:path fill="lighten" w="71955"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2" name=""/>
          <p:cNvSpPr/>
          <p:nvPr/>
        </p:nvSpPr>
        <p:spPr>
          <a:xfrm>
            <a:off x="7238880" y="5562720"/>
            <a:ext cx="1676520" cy="457200"/>
          </a:xfrm>
          <a:custGeom>
            <a:avLst/>
            <a:gdLst>
              <a:gd name="textAreaLeft" fmla="*/ 91800 w 1676520"/>
              <a:gd name="textAreaRight" fmla="*/ 1584720 w 1676520"/>
              <a:gd name="textAreaTop" fmla="*/ 91800 h 457200"/>
              <a:gd name="textAreaBottom" fmla="*/ 365400 h 457200"/>
            </a:gdLst>
            <a:ahLst/>
            <a:rect l="textAreaLeft" t="textAreaTop" r="textAreaRight" b="textAreaBottom"/>
            <a:pathLst>
              <a:path w="79160" h="21600">
                <a:moveTo>
                  <a:pt x="0" y="0"/>
                </a:moveTo>
                <a:lnTo>
                  <a:pt x="79160" y="0"/>
                </a:lnTo>
                <a:lnTo>
                  <a:pt x="79160" y="21600"/>
                </a:lnTo>
                <a:lnTo>
                  <a:pt x="0" y="21600"/>
                </a:lnTo>
                <a:close/>
              </a:path>
              <a:path fill="lightenLess" w="79160" h="21600">
                <a:moveTo>
                  <a:pt x="0" y="0"/>
                </a:moveTo>
                <a:lnTo>
                  <a:pt x="79160" y="0"/>
                </a:lnTo>
                <a:lnTo>
                  <a:pt x="74811" y="4350"/>
                </a:lnTo>
                <a:lnTo>
                  <a:pt x="4350" y="4350"/>
                </a:lnTo>
                <a:close/>
              </a:path>
              <a:path fill="darken" w="79160" h="21600">
                <a:moveTo>
                  <a:pt x="79160" y="0"/>
                </a:moveTo>
                <a:lnTo>
                  <a:pt x="79160" y="21600"/>
                </a:lnTo>
                <a:lnTo>
                  <a:pt x="74811" y="17250"/>
                </a:lnTo>
                <a:lnTo>
                  <a:pt x="74811" y="4350"/>
                </a:lnTo>
                <a:close/>
              </a:path>
              <a:path fill="darkenLess" w="79160" h="21600">
                <a:moveTo>
                  <a:pt x="79160" y="21600"/>
                </a:moveTo>
                <a:lnTo>
                  <a:pt x="0" y="21600"/>
                </a:lnTo>
                <a:lnTo>
                  <a:pt x="4350" y="17250"/>
                </a:lnTo>
                <a:lnTo>
                  <a:pt x="74811" y="17250"/>
                </a:lnTo>
                <a:close/>
              </a:path>
              <a:path fill="lighten" w="79160"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3" name=""/>
          <p:cNvSpPr/>
          <p:nvPr/>
        </p:nvSpPr>
        <p:spPr>
          <a:xfrm>
            <a:off x="3352680" y="1676520"/>
            <a:ext cx="54864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level of Hell, people are sent for gluttony. This is where they fill themselves with food constantly, or overindulgence. Such as money or food. People such as Shawn Carvin, Larry the Cable Guy, and Fat Bastard are in this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ffffff"/>
                </a:solidFill>
                <a:latin typeface="Chiller"/>
              </a:rPr>
              <a:t>Level A, The Punishment</a:t>
            </a:r>
            <a:endParaRPr b="0" lang="en-US" sz="6100" spc="-1" strike="noStrike">
              <a:solidFill>
                <a:srgbClr val="ffffff"/>
              </a:solidFill>
              <a:latin typeface="Chiller"/>
            </a:endParaRPr>
          </a:p>
        </p:txBody>
      </p:sp>
      <p:sp>
        <p:nvSpPr>
          <p:cNvPr id="43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will be forced to do a lot of work and eat small portions. Such as bread,</a:t>
            </a:r>
            <a:r>
              <a:rPr b="0" lang="en-US" sz="1800" spc="-1" strike="noStrike">
                <a:solidFill>
                  <a:srgbClr val="000000"/>
                </a:solidFill>
                <a:latin typeface="Arial"/>
              </a:rPr>
              <a:t> and they can only drink water. But it is given to them every couple of days. After work they’re put inside cells where they can never eat or drink. </a:t>
            </a:r>
            <a:endParaRPr b="0" lang="en-US" sz="1800" spc="-1" strike="noStrike">
              <a:solidFill>
                <a:srgbClr val="000000"/>
              </a:solidFill>
              <a:latin typeface="Arial"/>
            </a:endParaRPr>
          </a:p>
        </p:txBody>
      </p:sp>
      <p:sp>
        <p:nvSpPr>
          <p:cNvPr id="436" name="">
            <a:hlinkClick r:id="" action="ppaction://hlinkshowjump?jump=nextslide"/>
          </p:cNvPr>
          <p:cNvSpPr/>
          <p:nvPr/>
        </p:nvSpPr>
        <p:spPr>
          <a:xfrm>
            <a:off x="2895480" y="5638680"/>
            <a:ext cx="1752840" cy="457200"/>
          </a:xfrm>
          <a:custGeom>
            <a:avLst/>
            <a:gdLst>
              <a:gd name="textAreaLeft" fmla="*/ 47520 w 1752840"/>
              <a:gd name="textAreaRight" fmla="*/ 1705320 w 1752840"/>
              <a:gd name="textAreaTop" fmla="*/ 47520 h 457200"/>
              <a:gd name="textAreaBottom" fmla="*/ 40968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80513" y="2250"/>
                </a:lnTo>
                <a:lnTo>
                  <a:pt x="2250" y="2250"/>
                </a:lnTo>
                <a:close/>
              </a:path>
              <a:path fill="darken" w="82763" h="21600">
                <a:moveTo>
                  <a:pt x="82763" y="0"/>
                </a:moveTo>
                <a:lnTo>
                  <a:pt x="82763" y="21600"/>
                </a:lnTo>
                <a:lnTo>
                  <a:pt x="80513" y="19350"/>
                </a:lnTo>
                <a:lnTo>
                  <a:pt x="80513" y="2250"/>
                </a:lnTo>
                <a:close/>
              </a:path>
              <a:path fill="darkenLess" w="82763" h="21600">
                <a:moveTo>
                  <a:pt x="82763" y="21600"/>
                </a:moveTo>
                <a:lnTo>
                  <a:pt x="0" y="21600"/>
                </a:lnTo>
                <a:lnTo>
                  <a:pt x="2250" y="19350"/>
                </a:lnTo>
                <a:lnTo>
                  <a:pt x="80513" y="19350"/>
                </a:lnTo>
                <a:close/>
              </a:path>
              <a:path fill="lighten" w="82763" h="21600">
                <a:moveTo>
                  <a:pt x="0" y="21600"/>
                </a:moveTo>
                <a:lnTo>
                  <a:pt x="0" y="0"/>
                </a:lnTo>
                <a:lnTo>
                  <a:pt x="2250" y="2250"/>
                </a:lnTo>
                <a:lnTo>
                  <a:pt x="2250" y="193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7" name="">
            <a:hlinkClick r:id="rId1" action="ppaction://hlinksldjump"/>
          </p:cNvPr>
          <p:cNvSpPr/>
          <p:nvPr/>
        </p:nvSpPr>
        <p:spPr>
          <a:xfrm>
            <a:off x="5105520" y="5638680"/>
            <a:ext cx="1600200" cy="457200"/>
          </a:xfrm>
          <a:custGeom>
            <a:avLst/>
            <a:gdLst>
              <a:gd name="textAreaLeft" fmla="*/ 91800 w 1600200"/>
              <a:gd name="textAreaRight" fmla="*/ 1508400 w 1600200"/>
              <a:gd name="textAreaTop" fmla="*/ 91800 h 457200"/>
              <a:gd name="textAreaBottom" fmla="*/ 365400 h 457200"/>
            </a:gdLst>
            <a:ahLst/>
            <a:rect l="textAreaLeft" t="textAreaTop" r="textAreaRight" b="textAreaBottom"/>
            <a:pathLst>
              <a:path w="75558" h="21600">
                <a:moveTo>
                  <a:pt x="0" y="0"/>
                </a:moveTo>
                <a:lnTo>
                  <a:pt x="75558" y="0"/>
                </a:lnTo>
                <a:lnTo>
                  <a:pt x="75558" y="21600"/>
                </a:lnTo>
                <a:lnTo>
                  <a:pt x="0" y="21600"/>
                </a:lnTo>
                <a:close/>
              </a:path>
              <a:path fill="lightenLess" w="75558" h="21600">
                <a:moveTo>
                  <a:pt x="0" y="0"/>
                </a:moveTo>
                <a:lnTo>
                  <a:pt x="75558" y="0"/>
                </a:lnTo>
                <a:lnTo>
                  <a:pt x="71208" y="4350"/>
                </a:lnTo>
                <a:lnTo>
                  <a:pt x="4350" y="4350"/>
                </a:lnTo>
                <a:close/>
              </a:path>
              <a:path fill="darken" w="75558" h="21600">
                <a:moveTo>
                  <a:pt x="75558" y="0"/>
                </a:moveTo>
                <a:lnTo>
                  <a:pt x="75558" y="21600"/>
                </a:lnTo>
                <a:lnTo>
                  <a:pt x="71208" y="17250"/>
                </a:lnTo>
                <a:lnTo>
                  <a:pt x="71208" y="4350"/>
                </a:lnTo>
                <a:close/>
              </a:path>
              <a:path fill="darkenLess" w="75558" h="21600">
                <a:moveTo>
                  <a:pt x="75558" y="21600"/>
                </a:moveTo>
                <a:lnTo>
                  <a:pt x="0" y="21600"/>
                </a:lnTo>
                <a:lnTo>
                  <a:pt x="4350" y="17250"/>
                </a:lnTo>
                <a:lnTo>
                  <a:pt x="71208" y="17250"/>
                </a:lnTo>
                <a:close/>
              </a:path>
              <a:path fill="lighten" w="75558"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8" name="">
            <a:hlinkClick r:id="rId2" action="ppaction://hlinksldjump"/>
          </p:cNvPr>
          <p:cNvSpPr/>
          <p:nvPr/>
        </p:nvSpPr>
        <p:spPr>
          <a:xfrm>
            <a:off x="7086600" y="5638680"/>
            <a:ext cx="1752480" cy="457200"/>
          </a:xfrm>
          <a:custGeom>
            <a:avLst/>
            <a:gdLst>
              <a:gd name="textAreaLeft" fmla="*/ 79200 w 1752480"/>
              <a:gd name="textAreaRight" fmla="*/ 1673280 w 1752480"/>
              <a:gd name="textAreaTop" fmla="*/ 79200 h 457200"/>
              <a:gd name="textAreaBottom" fmla="*/ 3780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996" y="3750"/>
                </a:lnTo>
                <a:lnTo>
                  <a:pt x="3750" y="3750"/>
                </a:lnTo>
                <a:close/>
              </a:path>
              <a:path fill="darken" w="82746" h="21600">
                <a:moveTo>
                  <a:pt x="82746" y="0"/>
                </a:moveTo>
                <a:lnTo>
                  <a:pt x="82746" y="21600"/>
                </a:lnTo>
                <a:lnTo>
                  <a:pt x="78996" y="17850"/>
                </a:lnTo>
                <a:lnTo>
                  <a:pt x="78996" y="3750"/>
                </a:lnTo>
                <a:close/>
              </a:path>
              <a:path fill="darkenLess" w="82746" h="21600">
                <a:moveTo>
                  <a:pt x="82746" y="21600"/>
                </a:moveTo>
                <a:lnTo>
                  <a:pt x="0" y="21600"/>
                </a:lnTo>
                <a:lnTo>
                  <a:pt x="3750" y="17850"/>
                </a:lnTo>
                <a:lnTo>
                  <a:pt x="78996" y="17850"/>
                </a:lnTo>
                <a:close/>
              </a:path>
              <a:path fill="lighten" w="82746"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A, My Reaction</a:t>
            </a:r>
            <a:endParaRPr b="0" lang="en-US" sz="6600" spc="-1" strike="noStrike">
              <a:solidFill>
                <a:srgbClr val="ffffff"/>
              </a:solidFill>
              <a:latin typeface="Chiller"/>
            </a:endParaRPr>
          </a:p>
        </p:txBody>
      </p:sp>
      <p:sp>
        <p:nvSpPr>
          <p:cNvPr id="44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think it is a bad punishment because it is starving people, and they suffer. But it others ways it is what they deserve because of crimes they committed so I guess it’s necessary.</a:t>
            </a:r>
            <a:endParaRPr b="0" lang="en-US" sz="1800" spc="-1" strike="noStrike">
              <a:solidFill>
                <a:srgbClr val="000000"/>
              </a:solidFill>
              <a:latin typeface="Arial"/>
            </a:endParaRPr>
          </a:p>
        </p:txBody>
      </p:sp>
      <p:sp>
        <p:nvSpPr>
          <p:cNvPr id="441" name="">
            <a:hlinkClick r:id="" action="ppaction://hlinkshowjump?jump=nextslide"/>
          </p:cNvPr>
          <p:cNvSpPr/>
          <p:nvPr/>
        </p:nvSpPr>
        <p:spPr>
          <a:xfrm>
            <a:off x="2895480" y="5638680"/>
            <a:ext cx="1219320" cy="381240"/>
          </a:xfrm>
          <a:custGeom>
            <a:avLst/>
            <a:gdLst>
              <a:gd name="textAreaLeft" fmla="*/ 60120 w 1219320"/>
              <a:gd name="textAreaRight" fmla="*/ 1159200 w 1219320"/>
              <a:gd name="textAreaTop" fmla="*/ 60120 h 381240"/>
              <a:gd name="textAreaBottom" fmla="*/ 32112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5632" y="3407"/>
                </a:lnTo>
                <a:lnTo>
                  <a:pt x="3407" y="3407"/>
                </a:lnTo>
                <a:close/>
              </a:path>
              <a:path fill="darken" w="69038" h="21600">
                <a:moveTo>
                  <a:pt x="69038" y="0"/>
                </a:moveTo>
                <a:lnTo>
                  <a:pt x="69038" y="21600"/>
                </a:lnTo>
                <a:lnTo>
                  <a:pt x="65632" y="18193"/>
                </a:lnTo>
                <a:lnTo>
                  <a:pt x="65632" y="3407"/>
                </a:lnTo>
                <a:close/>
              </a:path>
              <a:path fill="darkenLess" w="69038" h="21600">
                <a:moveTo>
                  <a:pt x="69038" y="21600"/>
                </a:moveTo>
                <a:lnTo>
                  <a:pt x="0" y="21600"/>
                </a:lnTo>
                <a:lnTo>
                  <a:pt x="3407" y="18193"/>
                </a:lnTo>
                <a:lnTo>
                  <a:pt x="65632" y="18193"/>
                </a:lnTo>
                <a:close/>
              </a:path>
              <a:path fill="lighten" w="69038" h="21600">
                <a:moveTo>
                  <a:pt x="0" y="21600"/>
                </a:moveTo>
                <a:lnTo>
                  <a:pt x="0" y="0"/>
                </a:lnTo>
                <a:lnTo>
                  <a:pt x="3407" y="3407"/>
                </a:lnTo>
                <a:lnTo>
                  <a:pt x="3407" y="18193"/>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B</a:t>
            </a:r>
            <a:endParaRPr b="0" lang="en-US" sz="11800" spc="-1" strike="noStrike">
              <a:solidFill>
                <a:srgbClr val="ffffff"/>
              </a:solidFill>
              <a:latin typeface="Chiller"/>
            </a:endParaRPr>
          </a:p>
        </p:txBody>
      </p:sp>
      <p:sp>
        <p:nvSpPr>
          <p:cNvPr id="44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
            <a:hlinkClick r:id="" action="ppaction://hlinkshowjump?jump=nextslide"/>
          </p:cNvPr>
          <p:cNvSpPr/>
          <p:nvPr/>
        </p:nvSpPr>
        <p:spPr>
          <a:xfrm>
            <a:off x="2895480" y="5715000"/>
            <a:ext cx="1447920" cy="380880"/>
          </a:xfrm>
          <a:custGeom>
            <a:avLst/>
            <a:gdLst>
              <a:gd name="textAreaLeft" fmla="*/ 95040 w 1447920"/>
              <a:gd name="textAreaRight" fmla="*/ 1352880 w 1447920"/>
              <a:gd name="textAreaTop" fmla="*/ 95040 h 380880"/>
              <a:gd name="textAreaBottom" fmla="*/ 285840 h 380880"/>
            </a:gdLst>
            <a:ahLst/>
            <a:rect l="textAreaLeft" t="textAreaTop" r="textAreaRight" b="textAreaBottom"/>
            <a:pathLst>
              <a:path w="82056" h="21600">
                <a:moveTo>
                  <a:pt x="0" y="0"/>
                </a:moveTo>
                <a:lnTo>
                  <a:pt x="82056" y="0"/>
                </a:lnTo>
                <a:lnTo>
                  <a:pt x="82056" y="21600"/>
                </a:lnTo>
                <a:lnTo>
                  <a:pt x="0" y="21600"/>
                </a:lnTo>
                <a:close/>
              </a:path>
              <a:path fill="lightenLess" w="82056" h="21600">
                <a:moveTo>
                  <a:pt x="0" y="0"/>
                </a:moveTo>
                <a:lnTo>
                  <a:pt x="82056" y="0"/>
                </a:lnTo>
                <a:lnTo>
                  <a:pt x="76656" y="5400"/>
                </a:lnTo>
                <a:lnTo>
                  <a:pt x="5400" y="5400"/>
                </a:lnTo>
                <a:close/>
              </a:path>
              <a:path fill="darken" w="82056" h="21600">
                <a:moveTo>
                  <a:pt x="82056" y="0"/>
                </a:moveTo>
                <a:lnTo>
                  <a:pt x="82056" y="21600"/>
                </a:lnTo>
                <a:lnTo>
                  <a:pt x="76656" y="16200"/>
                </a:lnTo>
                <a:lnTo>
                  <a:pt x="76656" y="5400"/>
                </a:lnTo>
                <a:close/>
              </a:path>
              <a:path fill="darkenLess" w="82056" h="21600">
                <a:moveTo>
                  <a:pt x="82056" y="21600"/>
                </a:moveTo>
                <a:lnTo>
                  <a:pt x="0" y="21600"/>
                </a:lnTo>
                <a:lnTo>
                  <a:pt x="5400" y="16200"/>
                </a:lnTo>
                <a:lnTo>
                  <a:pt x="76656" y="16200"/>
                </a:lnTo>
                <a:close/>
              </a:path>
              <a:path fill="lighten" w="82056"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45" name="">
            <a:hlinkClick r:id="rId1" action="ppaction://hlinksldjump"/>
          </p:cNvPr>
          <p:cNvSpPr/>
          <p:nvPr/>
        </p:nvSpPr>
        <p:spPr>
          <a:xfrm>
            <a:off x="5029200" y="5715000"/>
            <a:ext cx="1676520" cy="380880"/>
          </a:xfrm>
          <a:custGeom>
            <a:avLst/>
            <a:gdLst>
              <a:gd name="textAreaLeft" fmla="*/ 77760 w 1676520"/>
              <a:gd name="textAreaRight" fmla="*/ 1598760 w 1676520"/>
              <a:gd name="textAreaTop" fmla="*/ 77760 h 380880"/>
              <a:gd name="textAreaBottom" fmla="*/ 30312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0583" y="4425"/>
                </a:lnTo>
                <a:lnTo>
                  <a:pt x="4425" y="4425"/>
                </a:lnTo>
                <a:close/>
              </a:path>
              <a:path fill="darken" w="95007" h="21600">
                <a:moveTo>
                  <a:pt x="95007" y="0"/>
                </a:moveTo>
                <a:lnTo>
                  <a:pt x="95007" y="21600"/>
                </a:lnTo>
                <a:lnTo>
                  <a:pt x="90583" y="17175"/>
                </a:lnTo>
                <a:lnTo>
                  <a:pt x="90583" y="4425"/>
                </a:lnTo>
                <a:close/>
              </a:path>
              <a:path fill="darkenLess" w="95007" h="21600">
                <a:moveTo>
                  <a:pt x="95007" y="21600"/>
                </a:moveTo>
                <a:lnTo>
                  <a:pt x="0" y="21600"/>
                </a:lnTo>
                <a:lnTo>
                  <a:pt x="4425" y="17175"/>
                </a:lnTo>
                <a:lnTo>
                  <a:pt x="90583" y="17175"/>
                </a:lnTo>
                <a:close/>
              </a:path>
              <a:path fill="lighten" w="95007"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46" name="">
            <a:hlinkClick r:id="rId2" action="ppaction://hlinksldjump"/>
          </p:cNvPr>
          <p:cNvSpPr/>
          <p:nvPr/>
        </p:nvSpPr>
        <p:spPr>
          <a:xfrm>
            <a:off x="7086600" y="5715000"/>
            <a:ext cx="1752480" cy="380880"/>
          </a:xfrm>
          <a:custGeom>
            <a:avLst/>
            <a:gdLst>
              <a:gd name="textAreaLeft" fmla="*/ 63360 w 1752480"/>
              <a:gd name="textAreaRight" fmla="*/ 1689120 w 1752480"/>
              <a:gd name="textAreaTop" fmla="*/ 63360 h 380880"/>
              <a:gd name="textAreaBottom" fmla="*/ 31752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5711" y="3600"/>
                </a:lnTo>
                <a:lnTo>
                  <a:pt x="3600" y="3600"/>
                </a:lnTo>
                <a:close/>
              </a:path>
              <a:path fill="darken" w="99311" h="21600">
                <a:moveTo>
                  <a:pt x="99311" y="0"/>
                </a:moveTo>
                <a:lnTo>
                  <a:pt x="99311" y="21600"/>
                </a:lnTo>
                <a:lnTo>
                  <a:pt x="95711" y="18000"/>
                </a:lnTo>
                <a:lnTo>
                  <a:pt x="95711" y="3600"/>
                </a:lnTo>
                <a:close/>
              </a:path>
              <a:path fill="darkenLess" w="99311" h="21600">
                <a:moveTo>
                  <a:pt x="99311" y="21600"/>
                </a:moveTo>
                <a:lnTo>
                  <a:pt x="0" y="21600"/>
                </a:lnTo>
                <a:lnTo>
                  <a:pt x="3600" y="18000"/>
                </a:lnTo>
                <a:lnTo>
                  <a:pt x="95711" y="18000"/>
                </a:lnTo>
                <a:close/>
              </a:path>
              <a:path fill="lighten" w="9931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47" name="" descr=""/>
          <p:cNvPicPr/>
          <p:nvPr/>
        </p:nvPicPr>
        <p:blipFill>
          <a:blip r:embed="rId3"/>
          <a:stretch/>
        </p:blipFill>
        <p:spPr>
          <a:xfrm>
            <a:off x="2895480" y="1676520"/>
            <a:ext cx="594360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The Crime</a:t>
            </a:r>
            <a:endParaRPr b="0" lang="en-US" sz="6600" spc="-1" strike="noStrike">
              <a:solidFill>
                <a:srgbClr val="ffffff"/>
              </a:solidFill>
              <a:latin typeface="Chiller"/>
            </a:endParaRPr>
          </a:p>
        </p:txBody>
      </p:sp>
      <p:sp>
        <p:nvSpPr>
          <p:cNvPr id="44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rime is the teachers and staff having school and also the government for the days and hours forced.</a:t>
            </a:r>
            <a:endParaRPr b="0" lang="en-US" sz="1800" spc="-1" strike="noStrike">
              <a:solidFill>
                <a:srgbClr val="000000"/>
              </a:solidFill>
              <a:latin typeface="Arial"/>
            </a:endParaRPr>
          </a:p>
        </p:txBody>
      </p:sp>
      <p:sp>
        <p:nvSpPr>
          <p:cNvPr id="450" name="">
            <a:hlinkClick r:id="" action="ppaction://hlinkshowjump?jump=nextslide"/>
          </p:cNvPr>
          <p:cNvSpPr/>
          <p:nvPr/>
        </p:nvSpPr>
        <p:spPr>
          <a:xfrm>
            <a:off x="2971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51" name="">
            <a:hlinkClick r:id="rId1" action="ppaction://hlinksldjump"/>
          </p:cNvPr>
          <p:cNvSpPr/>
          <p:nvPr/>
        </p:nvSpPr>
        <p:spPr>
          <a:xfrm>
            <a:off x="4724280" y="5715000"/>
            <a:ext cx="1905120" cy="380880"/>
          </a:xfrm>
          <a:custGeom>
            <a:avLst/>
            <a:gdLst>
              <a:gd name="textAreaLeft" fmla="*/ 87120 w 1905120"/>
              <a:gd name="textAreaRight" fmla="*/ 1818000 w 1905120"/>
              <a:gd name="textAreaTop" fmla="*/ 87120 h 380880"/>
              <a:gd name="textAreaBottom" fmla="*/ 293760 h 380880"/>
            </a:gdLst>
            <a:ahLst/>
            <a:rect l="textAreaLeft" t="textAreaTop" r="textAreaRight" b="textAreaBottom"/>
            <a:pathLst>
              <a:path w="107959" h="21600">
                <a:moveTo>
                  <a:pt x="0" y="0"/>
                </a:moveTo>
                <a:lnTo>
                  <a:pt x="107959" y="0"/>
                </a:lnTo>
                <a:lnTo>
                  <a:pt x="107959" y="21600"/>
                </a:lnTo>
                <a:lnTo>
                  <a:pt x="0" y="21600"/>
                </a:lnTo>
                <a:close/>
              </a:path>
              <a:path fill="lightenLess" w="107959" h="21600">
                <a:moveTo>
                  <a:pt x="0" y="0"/>
                </a:moveTo>
                <a:lnTo>
                  <a:pt x="107959" y="0"/>
                </a:lnTo>
                <a:lnTo>
                  <a:pt x="103009" y="4950"/>
                </a:lnTo>
                <a:lnTo>
                  <a:pt x="4950" y="4950"/>
                </a:lnTo>
                <a:close/>
              </a:path>
              <a:path fill="darken" w="107959" h="21600">
                <a:moveTo>
                  <a:pt x="107959" y="0"/>
                </a:moveTo>
                <a:lnTo>
                  <a:pt x="107959" y="21600"/>
                </a:lnTo>
                <a:lnTo>
                  <a:pt x="103009" y="16650"/>
                </a:lnTo>
                <a:lnTo>
                  <a:pt x="103009" y="4950"/>
                </a:lnTo>
                <a:close/>
              </a:path>
              <a:path fill="darkenLess" w="107959" h="21600">
                <a:moveTo>
                  <a:pt x="107959" y="21600"/>
                </a:moveTo>
                <a:lnTo>
                  <a:pt x="0" y="21600"/>
                </a:lnTo>
                <a:lnTo>
                  <a:pt x="4950" y="16650"/>
                </a:lnTo>
                <a:lnTo>
                  <a:pt x="103009" y="16650"/>
                </a:lnTo>
                <a:close/>
              </a:path>
              <a:path fill="lighten" w="107959"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2" name="">
            <a:hlinkClick r:id="rId2" action="ppaction://hlinksldjump"/>
          </p:cNvPr>
          <p:cNvSpPr/>
          <p:nvPr/>
        </p:nvSpPr>
        <p:spPr>
          <a:xfrm>
            <a:off x="6934320" y="5715000"/>
            <a:ext cx="1828800" cy="380880"/>
          </a:xfrm>
          <a:custGeom>
            <a:avLst/>
            <a:gdLst>
              <a:gd name="textAreaLeft" fmla="*/ 87120 w 1828800"/>
              <a:gd name="textAreaRight" fmla="*/ 1741680 w 1828800"/>
              <a:gd name="textAreaTop" fmla="*/ 87120 h 380880"/>
              <a:gd name="textAreaBottom" fmla="*/ 29376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685" y="4950"/>
                </a:lnTo>
                <a:lnTo>
                  <a:pt x="4950" y="4950"/>
                </a:lnTo>
                <a:close/>
              </a:path>
              <a:path fill="darken" w="103635" h="21600">
                <a:moveTo>
                  <a:pt x="103635" y="0"/>
                </a:moveTo>
                <a:lnTo>
                  <a:pt x="103635" y="21600"/>
                </a:lnTo>
                <a:lnTo>
                  <a:pt x="98685" y="16650"/>
                </a:lnTo>
                <a:lnTo>
                  <a:pt x="98685" y="4950"/>
                </a:lnTo>
                <a:close/>
              </a:path>
              <a:path fill="darkenLess" w="103635" h="21600">
                <a:moveTo>
                  <a:pt x="103635" y="21600"/>
                </a:moveTo>
                <a:lnTo>
                  <a:pt x="0" y="21600"/>
                </a:lnTo>
                <a:lnTo>
                  <a:pt x="4950" y="16650"/>
                </a:lnTo>
                <a:lnTo>
                  <a:pt x="98685" y="16650"/>
                </a:lnTo>
                <a:close/>
              </a:path>
              <a:path fill="lighten" w="103635"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13:47:49Z</dcterms:created>
  <dc:creator>NPSD</dc:creator>
  <dc:description/>
  <dc:language>en-US</dc:language>
  <cp:lastModifiedBy>NPSD</cp:lastModifiedBy>
  <dcterms:modified xsi:type="dcterms:W3CDTF">2010-04-07T14:39:11Z</dcterms:modified>
  <cp:revision>46</cp:revision>
  <dc:subject/>
  <dc:title>Dante’s Inferno</dc:title>
</cp:coreProperties>
</file>