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03BA2-E577-431C-A4FD-7493294F2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588A-F8A2-41B9-AA4E-FA3A00EC5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094E0-B370-47D5-AC26-771B0934C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A107D-2614-408E-AFFC-CA8510549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1E1CE-E40B-4460-8792-907FFA963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345ED-2B6C-46F7-88DA-8C69A9BAF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0B97F-F945-4924-A35B-355D3F131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47B9B-3702-4BCD-877D-F68F679F5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03A8B-B247-4B57-BBB9-172CE87E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DA00A-467F-46B9-A0D5-49A7813BE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3E25-9D6F-4D66-9A0B-B76ACF425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09FB-4203-4487-B34B-A303B14D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8F2DF-76C3-470F-A868-EADCAD140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0DC80-52D9-4CFC-AC41-BD70887D6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A5CA6-0127-4A19-AE61-852A6FEBB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D9BE9-CD1D-4B4B-AAF7-8DB3C78CF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2AAB4-3121-4DB6-9D41-B0F7CF17E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A323E-5BEB-4851-A353-78FDF4CF6C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50C08-ADBF-4F4C-9AA0-F0A403F49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86AA3-54BA-4E36-A500-907B44D11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E4287-4C98-4E53-9E58-ABDAB4AFD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4BC85F-9AB1-4523-8130-72ACEAD49F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01835-06F2-47FE-BCB6-64E208F1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E2A625-48FD-44F8-A0F8-91356AA69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E0026-317B-465C-93AF-445DAF10D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25D12-5331-4F05-B062-2450127A9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E9779A-484C-4907-BA5A-A92B18000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9DE6D-66DD-4686-AA57-EC5458566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A2A12-C15F-477E-B823-1D657BBB2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0DF30-102B-42AA-B8FF-959C979A2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BC428B-2AB5-463C-9339-43F9E9FB3E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3372E-7F86-443C-9B13-68DAF32FE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BDE9A-A6F6-476F-8581-45BEC976F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4DE8-348B-4984-BF41-79B1AA0C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5CE072-F256-4518-B440-97A63BF85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68376-3843-4049-ADED-14E4A8B1C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CBCD3-FA27-43AA-80BC-D5A068125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D23C5-DAB8-40C8-8522-C33974590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F39F5-E22E-49C9-8EC2-49645072E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CE4F5-BB45-4E26-80BA-B3F401538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E5DD55-C500-4CDE-8E4D-4627445FE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FDC5BC-A973-41E0-A26C-18ECF84B01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F9E5F-060E-4DAA-B37F-06568D8301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C4EAD6-6197-4449-AB50-D34C32790B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F3733-2E80-43F2-B5FC-F59CFCC9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08488E-6F04-4936-994E-5DF62B32A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AD4349-1445-4151-A3B7-B02569B98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B7CFCE-319F-4254-8A76-4FA9508537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D3F0D-6AE9-4DA9-9214-2106ED18F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55C45-8C57-4C73-8F14-FC5DC17D8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25E08-567E-47C5-9303-71B1BA454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5C57F7-7B58-403A-A0EC-EF3016281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6C5EE-624F-4A70-B6BC-53E930773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746F0-2731-47CB-A6B3-6D7235F1A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A9E225-13ED-4E80-8D47-4CCACF9E08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200D-682B-4532-B8C1-DD0C222F0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9E48CD-7BBC-469D-AB23-C0B50ADACC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CB56BC-6B4D-49DA-AADE-5E0C855DDB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4299D-85C8-4CF2-A1AC-4D0D158D6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B77266-51D2-4DD0-BFAB-B590CD225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465CC-9465-46A8-BE8F-42B43BC1C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A4FD73-61B0-4765-BEB8-A79576CCD4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F09B94-52F2-48D6-97C1-AC17FAAEF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C2A21-C699-41DB-9727-C481919EE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18C47-D7E5-44B6-94D1-BCC9570B7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1B795-5604-4481-9BC0-EEA80BBCC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CBC8-018D-4756-94DC-7973AF21B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F461E-21E5-446D-90FA-9D9AA1D410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1747C7-42E6-4FD7-81C7-15D979AE25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0F17A0-AFE7-4862-AB17-4A1D5B336F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C13B16-2BBC-4ED3-9AE5-6D553C449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96FE9-28A7-4D46-958B-D2CF255D0A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799FF-C688-4135-B05F-85EA32C9D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DFABF6-AFD2-4BF5-A5C9-F2095BD0E1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3D84B-5B57-4FE2-9E83-C8F2041E4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3713B-03D0-4062-B278-67A007B5D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739D0-0090-48D2-888A-5D8DDA99C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60CE-42A9-4EA0-A04C-048E674E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B53B0-F12C-4F7D-A950-12629BD88C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49C05-38DA-4446-8F26-FF2E69E76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71670-6B6E-4B50-9E97-C3449A9A16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9B990C-1BE7-4A6E-9B4E-9F38F648D7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7E4FD-88DA-42BE-B83E-6F07E36D92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7231-CA6E-49C4-BD15-EF5D5CD13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A894-719A-4C1C-AF85-8A8F5A8E4A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F12C-AD4D-4E15-B930-4760782DCC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6914-317A-4FDF-8E56-FA8063C30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8481-3820-4634-AE40-F2A25F79BC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1B12-8AD5-4ED9-B647-291C07BC76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9C19-4A5C-4C71-8BF1-665319F79A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3A98-0A9E-410B-82C1-09724EB973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7.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 Sloss</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971800" y="1600200"/>
            <a:ext cx="3666960" cy="3048120"/>
          </a:xfrm>
          <a:prstGeom prst="rect">
            <a:avLst/>
          </a:prstGeom>
          <a:ln w="0">
            <a:noFill/>
          </a:ln>
        </p:spPr>
      </p:pic>
      <p:pic>
        <p:nvPicPr>
          <p:cNvPr id="416" name="" descr=""/>
          <p:cNvPicPr/>
          <p:nvPr/>
        </p:nvPicPr>
        <p:blipFill>
          <a:blip r:embed="rId2"/>
          <a:stretch/>
        </p:blipFill>
        <p:spPr>
          <a:xfrm>
            <a:off x="33526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6"/>
                    </p:tgtEl>
                  </p:cond>
                </p:stCondLst>
                <p:childTnLst>
                  <p:par>
                    <p:cTn id="3" fill="hold">
                      <p:stCondLst>
                        <p:cond evt="onClick">
                          <p:tgtEl>
                            <p:spTgt spid="416"/>
                          </p:tgtEl>
                        </p:cond>
                      </p:stCondLst>
                      <p:childTnLst>
                        <p:par>
                          <p:cTn id="4" fill="hold">
                            <p:stCondLst>
                              <p:cond delay="0"/>
                            </p:stCondLst>
                            <p:childTnLst>
                              <p:par>
                                <p:cTn id="5" nodeType="clickEffect" fill="hold" presetClass="mediacall" presetID="1">
                                  <p:stCondLst>
                                    <p:cond delay="0"/>
                                  </p:stCondLst>
                                  <p:childTnLst>
                                    <p:cmd type="call" cmd="playFrom(0.0)">
                                      <p:cBhvr>
                                        <p:cTn id="6" dur="6011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achers are forced to sit through a day in school and do everything we do (tests, quizzes, work, get homework, etc.). We also beat them with books and rulers.</a:t>
            </a:r>
            <a:endParaRPr b="0" lang="en-US" sz="18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ove this punishment. Even though they already went through this, they should go through it again, because they put us through boring and annoying stuff for nine months.</a:t>
            </a:r>
            <a:endParaRPr b="0" lang="en-US" sz="18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3"/>
          <a:stretch/>
        </p:blipFill>
        <p:spPr>
          <a:xfrm>
            <a:off x="3048120" y="1600200"/>
            <a:ext cx="57909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vel is the worst level of Hell. In this level, people are sent because of horrible crimes of betrayal to friends, or even their leaders. People like Severus Snape go here because he killed Professor Dumbledore when he was with him formany years.</a:t>
            </a:r>
            <a:endParaRPr b="0" lang="en-US" sz="18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nishment is they will be tortured until they apologize for what they did and beg for forgiveness.</a:t>
            </a:r>
            <a:endParaRPr b="0" lang="en-US" sz="18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is is a little over board, but if they think that is what is needed for betrayal, because I think betrayal is a horrible thing to do, then I’m fine with it.</a:t>
            </a:r>
            <a:endParaRPr b="0" lang="en-US" sz="18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earned that gluttony, that teachers do what they have to (it’s there jobs), and that betrayal is a horrible act. I will never end up here again. After going through all these levels of Hell, I realized how bad these crimes were. So, now that I know, I will never commit these crimes, and never visit Hell again.</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4" name=""/>
          <p:cNvSpPr/>
          <p:nvPr/>
        </p:nvSpPr>
        <p:spPr>
          <a:xfrm>
            <a:off x="3048120" y="1981080"/>
            <a:ext cx="533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der Man: This guide will give you a tour of the worst levels of Hell. He still wears his suit, and he gets around by swinging on webs. He is in level of betrayal for becoming a villain in that short period of time from the venom.</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19" name="" descr="See full size image"/>
          <p:cNvPicPr/>
          <p:nvPr/>
        </p:nvPicPr>
        <p:blipFill>
          <a:blip r:embed="rId1"/>
          <a:stretch/>
        </p:blipFill>
        <p:spPr>
          <a:xfrm>
            <a:off x="3200400" y="2819520"/>
            <a:ext cx="4495680" cy="32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l person who was sent to the inferno. I’m still alive, but I was sent there to learn a lesson. Only 15 years old. Was a baseball player before being sent to the inferno. Sent to the inferno for stealing a chocolate milk from a little gir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 descr=""/>
          <p:cNvPicPr/>
          <p:nvPr/>
        </p:nvPicPr>
        <p:blipFill>
          <a:blip r:embed="rId1"/>
          <a:stretch/>
        </p:blipFill>
        <p:spPr>
          <a:xfrm>
            <a:off x="4800600" y="3505320"/>
            <a:ext cx="240048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See full size image"/>
          <p:cNvPicPr/>
          <p:nvPr/>
        </p:nvPicPr>
        <p:blipFill>
          <a:blip r:embed="rId3"/>
          <a:stretch/>
        </p:blipFill>
        <p:spPr>
          <a:xfrm>
            <a:off x="3048120" y="1752480"/>
            <a:ext cx="579096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3352680" y="1676520"/>
            <a:ext cx="5486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level of Hell, people are sent for gluttony. This is where they fill themselves with food constantly, or overindulgence. Such as money or food. People such as Shawn Carvin, Larry the Cable Guy, and Fat Bastard are in this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forced to do a lot of work and eat small portions. Such as bread,</a:t>
            </a:r>
            <a:r>
              <a:rPr b="0" lang="en-US" sz="1800" spc="-1" strike="noStrike">
                <a:solidFill>
                  <a:srgbClr val="000000"/>
                </a:solidFill>
                <a:latin typeface="Arial"/>
              </a:rPr>
              <a:t> and they can only drink water. But it is given to them every couple of days. After work they’re put inside cells where they can never eat or drink. </a:t>
            </a:r>
            <a:endParaRPr b="0" lang="en-US" sz="1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 is a bad punishment because it is starving people, and they suffer. But it others ways it is what they deserve because of crimes they committed so I guess it’s necessary.</a:t>
            </a:r>
            <a:endParaRPr b="0" lang="en-US" sz="1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76520"/>
            <a:ext cx="59436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me is the teachers and staff having school and also the government for the days and hours forced.</a:t>
            </a:r>
            <a:endParaRPr b="0" lang="en-US" sz="18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39:11Z</dcterms:modified>
  <cp:revision>46</cp:revision>
  <dc:subject/>
  <dc:title>Dante’s Inferno</dc:title>
</cp:coreProperties>
</file>