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4AE-5D8D-45FF-9C52-43643B48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4D8-6179-47C5-8F9D-ED35BB5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04E-9DEF-4EEB-AB06-B58A17C8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7CD-E9B6-48C5-B53E-E6883DA6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813-12AD-47D6-8929-F039D67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5E1-87D2-49A6-B53D-16373567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D27-0E25-48BA-A040-E540083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89E-C79F-456B-8CF2-4C88A9EB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A9A-6C56-47D5-B199-4DC5D5F9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B7F-2B19-4D55-AE92-510386E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D56-0DBC-4209-B81B-DA1FDDE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8D0-D72D-4BB5-BC82-5A19707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4C8-8D7F-4414-B8FD-09A156B66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bipolardisorder/completeindex.shtmlub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polar           Disor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shan Pa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2309760" cy="346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33520" cy="337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3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for 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atment plan for bipolar disorder primarily consists of pharmacological intervention (medications) with therapy as a possible additional intervention. At times, psychiatric hospitalizations may be necessary. There are also treatment options that are less common and those that are usually considered only in extreme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05520" cy="398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fflicted With Bi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isits to a doctor's office that resulted in a diagnosis of bipolar disorder in children and adolescents has increased by 40 times over the last decade, reported researchers funded in part by the National Institutes of Health (NIH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 For Bipolar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experiences a long period of feeling "high," or an overly happy or outgoing mood or extremely irritable mood, agitation, feeling "jumpy" or "wire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 long period of feeling worried or empty or loss of interest in activities once enjoyed, including s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DEPARTMENT OF HEALTH AND HUMAN SERVICESst, National Institutes of Healthst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Bipolar Disorder." (2008): n. pag. Web. 4 Jun 2010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nimh.nih.gov/health/publications/bipolardisorder/completeindex.shtml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Unknown: Bipolar Disorder."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XL Encyclopedia of Diseases and Disord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Rebecca J. Frey. Ed. Larry I. Lutwick. Vol. 1. Detroit: UXL, 2009. 103-109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eb. 7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6:26:53Z</dcterms:created>
  <dc:creator>NPSD</dc:creator>
  <dc:description/>
  <dc:language>en-US</dc:language>
  <cp:lastModifiedBy>NPSD</cp:lastModifiedBy>
  <dcterms:modified xsi:type="dcterms:W3CDTF">2010-06-07T16:13:06Z</dcterms:modified>
  <cp:revision>3</cp:revision>
  <dc:subject/>
  <dc:title>Slide 1</dc:title>
</cp:coreProperties>
</file>