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8A1D-E49B-4ED8-B6F7-4542FE630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0AC3-1F56-419C-A055-7E154582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3A1B-E72C-41EB-8592-B4EE19D88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8B29-DDCB-4D4D-9B1A-00D12EB92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5616-10CC-4469-A698-0C001DCA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0276-D39B-4EEB-825F-96FBB494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2E97-F6E0-4B14-AF2A-3F8FA316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0FB0-554D-4233-809B-7387D7A3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BD46-F1C5-4F9E-B988-A19EA3A5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83B3-39DB-4880-92B6-0D3B9B07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4A67-BDE6-4BA3-A418-84A0805A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00B9-630A-4886-9FCC-C5D7B1E9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D22B-6274-49F7-9865-D14225DF9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imh.nih.gov/health/publications/bipolardisorder/completeindex.shtmlub3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ipolar           Disord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shan Pat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2309760" cy="3467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00800" y="3124080"/>
            <a:ext cx="2333520" cy="3372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429000" y="304920"/>
            <a:ext cx="20336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105520" y="3048120"/>
            <a:ext cx="3733560" cy="37335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tment for Bipolar Dis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reatment plan for bipolar disorder primarily consists of pharmacological intervention (medications) with therapy as a possible additional intervention. At times, psychiatric hospitalizations may be necessary. There are also treatment options that are less common and those that are usually considered only in extreme circumstan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57400" y="2362320"/>
            <a:ext cx="5105520" cy="39844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ople Afflicted With Bipo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 of visits to a doctor's office that resulted in a diagnosis of bipolar disorder in children and adolescents has increased by 40 times over the last decade, reported researchers funded in part by the National Institutes of Health (NIH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43200" y="2666880"/>
            <a:ext cx="3581280" cy="3581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lifications For Bipolar Dis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who experiences a long period of feeling "high," or an overly happy or outgoing mood or extremely irritable mood, agitation, feeling "jumpy" or "wired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who a long period of feeling worried or empty or loss of interest in activities once enjoyed, including sex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.S. DEPARTMENT OF HEALTH AND HUMAN SERVICESst, National Institutes of Healthst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Bipolar Disorder." (2008): n. pag. Web. 4 Jun 2010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nimh.nih.gov/health/publications/bipolardisorder/completeindex.shtmlub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Unknown: Bipolar Disorder."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XL Encyclopedia of Diseases and Disorder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Rebecca J. Frey. Ed. Larry I. Lutwick. Vol. 1. Detroit: UXL, 2009. 103-109.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ale Virtual Reference Librar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Web. 7 June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16:26:53Z</dcterms:created>
  <dc:creator>NPSD</dc:creator>
  <dc:description/>
  <dc:language>en-US</dc:language>
  <cp:lastModifiedBy>NPSD</cp:lastModifiedBy>
  <dcterms:modified xsi:type="dcterms:W3CDTF">2010-06-07T16:13:06Z</dcterms:modified>
  <cp:revision>3</cp:revision>
  <dc:subject/>
  <dc:title>Slide 1</dc:title>
</cp:coreProperties>
</file>