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503-BCC6-469C-9E65-F7486469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4A7-B4FE-489F-9F77-DF9FE27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233-DDC2-42CE-884F-DAB45EDA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7F7-8968-4E19-83A0-FA958DD4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900-EC1E-431D-B53B-89A1BD7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884-496E-4912-90AA-F04BD9D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825-4A77-476C-A094-6EBA2110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F98-E191-4C8B-B771-3D6A7552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9F8-E934-41E3-99DD-5276B87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F86-EE90-4033-8A57-9D0B88A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D9A-1FBB-4496-B2EE-531D719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126-19E4-43EA-9AA7-148662A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CE63-0C8C-4E6B-B9E0-2D5868E9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imh.nih.gov/health/publications/bipolardisorder/completeindex.shtmlub3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ipolar           Disor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shan Pa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2309760" cy="3467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333520" cy="337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2033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05520" y="30481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tment for Bipolar Dis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eatment plan for bipolar disorder primarily consists of pharmacological intervention (medications) with therapy as a possible additional intervention. At times, psychiatric hospitalizations may be necessary. There are also treatment options that are less common and those that are usually considered only in extreme circumst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05520" cy="3984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Afflicted With Bip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visits to a doctor's office that resulted in a diagnosis of bipolar disorder in children and adolescents has increased by 40 times over the last decade, reported researchers funded in part by the National Institutes of Health (NIH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581280" cy="3581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fications For Bipolar Dis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experiences a long period of feeling "high," or an overly happy or outgoing mood or extremely irritable mood, agitation, feeling "jumpy" or "wired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a long period of feeling worried or empty or loss of interest in activities once enjoyed, including se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.S. DEPARTMENT OF HEALTH AND HUMAN SERVICESst, National Institutes of Healthst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Bipolar Disorder." (2008): n. pag. Web. 4 Jun 2010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nimh.nih.gov/health/publications/bipolardisorder/completeindex.shtml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Unknown: Bipolar Disorder."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XL Encyclopedia of Diseases and Disord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Rebecca J. Frey. Ed. Larry I. Lutwick. Vol. 1. Detroit: UXL, 2009. 103-109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ale Virtual Reference Libra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Web. 7 Jun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6:26:53Z</dcterms:created>
  <dc:creator>NPSD</dc:creator>
  <dc:description/>
  <dc:language>en-US</dc:language>
  <cp:lastModifiedBy>NPSD</cp:lastModifiedBy>
  <dcterms:modified xsi:type="dcterms:W3CDTF">2010-06-07T16:13:06Z</dcterms:modified>
  <cp:revision>3</cp:revision>
  <dc:subject/>
  <dc:title>Slide 1</dc:title>
</cp:coreProperties>
</file>