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64B-789A-4C8A-A27F-66BF3FAD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7B7-5BE6-40DD-85AD-941E31C7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666-733D-49C8-9CAD-5BEE1AF5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680-92AC-4B01-8BAD-21C2C830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D41-45F4-4C1B-BACC-DE9AC65C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C52-8AA4-4852-9129-805088AC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D4B-443E-48B3-A20F-21E5EE62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B34-8FF0-49C5-948D-A26D0D5F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D35-FD8A-4A62-BC40-E7030EE1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341-6114-4E5F-90DC-D3B05FF9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786-0292-4003-9B71-8DDB508A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949-054F-462C-9856-E59C3BA0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5154-6EB4-4AB4-9A7E-FA9EB75DC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imh.nih.gov/health/publications/bipolardisorder/completeindex.shtmlub3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ipolar           Disor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shan Pat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2309760" cy="346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333520" cy="337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429000" y="304920"/>
            <a:ext cx="2033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 for Bipolar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eatment plan for bipolar disorder primarily consists of pharmacological intervention (medications) with therapy as a possible additional intervention. At times, psychiatric hospitalizations may be necessary. There are also treatment options that are less common and those that are usually considered only in extreme circumst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105520" cy="3984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Afflicted With Bip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visits to a doctor's office that resulted in a diagnosis of bipolar disorder in children and adolescents has increased by 40 times over the last decade, reported researchers funded in part by the National Institutes of Health (NIH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fications For Bipolar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experiences a long period of feeling "high," or an overly happy or outgoing mood or extremely irritable mood, agitation, feeling "jumpy" or "wired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a long period of feeling worried or empty or loss of interest in activities once enjoyed, including se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S. DEPARTMENT OF HEALTH AND HUMAN SERVICESst, National Institutes of Healthst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Bipolar Disorder." (2008): n. pag. Web. 4 Jun 2010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nimh.nih.gov/health/publications/bipolardisorder/completeindex.shtmlu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Unknown: Bipolar Disorder."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XL Encyclopedia of Diseases and Disord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Rebecca J. Frey. Ed. Larry I. Lutwick. Vol. 1. Detroit: UXL, 2009. 103-109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Web. 7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6:26:53Z</dcterms:created>
  <dc:creator>NPSD</dc:creator>
  <dc:description/>
  <dc:language>en-US</dc:language>
  <cp:lastModifiedBy>NPSD</cp:lastModifiedBy>
  <dcterms:modified xsi:type="dcterms:W3CDTF">2010-06-07T16:13:06Z</dcterms:modified>
  <cp:revision>3</cp:revision>
  <dc:subject/>
  <dc:title>Slide 1</dc:title>
</cp:coreProperties>
</file>