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13050-8B92-4FE1-B5AE-D1A080531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ADE59-31DE-49E0-B293-B87363FB0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5B9E5-C589-4631-8674-67540747B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FF11-D298-4A14-B94D-25EFD6B2F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369D3-6037-44E5-A6A3-05C22AAC6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1F12B-268D-4B68-AE4A-8207DBB45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50332-8A45-4B2F-9C78-EFE1A8F0D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2EF10-1DC0-4928-A9D1-2604C7E4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7839C-55A9-401A-AF72-12AD3C4D5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D6CB9-EC77-4FC2-9D57-EDA201A1C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B2DB-E209-4958-8086-A80B4A754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4698-91EC-4F6A-9E59-E10AC81C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639F-0FE9-42D8-95F8-135591035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E1964-2224-47E5-BE1C-91BC75853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FE555-194A-4E6C-B482-461E23035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BE83A-6AE8-49D9-A60A-A4ED5E727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DC863-C747-4E3C-9237-3DFB2081B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5D275D-2417-42A1-A45F-C79D1A2D9D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60F9F-7538-49A2-9B37-5A8F8AF73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FFDB6-23B1-46EE-AF49-EA15307FA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F79E4-7A8D-4721-A747-E8E81FBFF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50EFA-7C4C-423C-B11A-6A79BB8D4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22381-25FF-443D-AAEA-E5A9D86A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F8665-DC80-4903-85C0-FF63C14C0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FD88A-CE08-47D4-9B9A-8AC113F96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E641F-0CFE-4992-821A-D5024194B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78F0A-FCD1-4C22-9BD0-61FF6FD9B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8658E-8E34-4875-A449-DEBB0D482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514071-B96C-4B31-B313-98D2A1282E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E4CEF4-0FFB-4D9B-BDEF-FC3849A19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7096BC-E67F-4655-929C-85CD9206EB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EAD1A-5CB3-4D58-9830-98755BC6D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F6C6A-1418-4355-9AA1-BE310D610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F029-2DAB-4C7A-BE03-C0C0FCFCE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2CFE5-5072-40A9-A240-ADF133931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D4D1F-A47B-4664-81DD-979C50A7C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05BEC-ED50-4588-B871-E06781E18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4582D-697E-430D-AEF1-2419253EE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B80AE-E18A-48EF-A3BD-B4F881BBA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31E09-39D5-40CA-8544-73E09392A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FD7DE-99E1-4468-98FB-58AD7670A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2586D-76DA-4A86-8774-5D729BD126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9C341-F2B6-4255-8CFB-796FEC588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A9D7E7-80A1-4181-9011-8D0817B7B3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3D353-F9F7-4E75-8A60-EB2D2FA72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C6F65-42EA-455A-9F65-B330CFFC7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03529-006E-4359-A42F-76276BE44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035BE8-5C37-4BC5-A0E9-6255244D5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F2062-BB0A-4B52-9724-7D7FA3787E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D331B-63F4-4CB9-A142-D3BCCC8AF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1C35A-C5C8-4CC8-A783-C96082DA1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A714F-64FD-45C5-9F91-A1A971F84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9A4BA-A6D3-4946-9EDC-9870F3DF8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50F86-9FAE-43D3-93D0-3587804D3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F32C07-8C1C-4294-AB3C-ADCEE7A2D1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1CA6B-0FA0-4F31-BA96-A4ACC144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7CFE76-D58C-4203-8F74-B52E926DC2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CFE023-E9E6-44B6-B487-A79EC5482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22588-9C46-4C8F-B15B-885BA8E5E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59847-3AF8-436A-88E2-74298A4B0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154F5-4D41-4B7C-B02A-C5BE84D8F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7422DB-9A1C-462B-B279-CF0FD48824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6E425-03EB-4108-8470-12A09C97C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2243F-871D-4942-AA8B-9B3EEE0EC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DCF44-772C-4A3E-BE85-00E4D6A9B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3A285-6739-4FB9-9430-A07BEBCD3D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D468-8054-4337-92AC-F767A2F6E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CF3232-53B3-4E9E-811A-570655920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BD7D87-0715-411D-8F07-4179C7E48A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33FF1-E754-479C-8B84-901EC86742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4729E4-089F-4139-9082-8BC6178209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C557B-F25B-468A-A02E-F36D08A90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22E1E-3C43-4DEB-9815-E8F47B8AD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27AB05-50F3-4742-BCD1-420905380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53A2EA-6F80-440D-A531-CAEB526AF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3C085-0B21-4A49-A82B-1E327D882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2F2DF-ECB6-4009-8B6B-9C3FB9235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B40C-BA40-41DF-8BBF-1AEF20E7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B2B35-B986-4F9E-ACA6-CFDD6EF40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4BC75-A3A0-4391-9BBD-590EB35C9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868B2-26A6-461F-ADDF-E0F49A108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BA96FB-1F67-4F57-8871-3BDF1B7D3F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578254-278D-4F70-92E1-B701F13F51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0ABF-4E54-4BAB-B8ED-0FEA30931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31EE-398A-4F99-B518-FA4C5251DC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E5AA-E3B6-4CC1-B893-2304F0083B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BF9E-5A6F-4E3A-9C3E-A949B18D7E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988E-4C31-4830-8499-4147DBF2C4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C422-0F7B-403F-A030-095D740131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EAEF-F2EB-4C42-A0E5-F04121BBD3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4DFA-817C-4F6B-BDD0-918AC616D3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95480" y="1600200"/>
            <a:ext cx="6019920" cy="37339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Gerstlauer</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56386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of not following this rule and committing this crime, is getting your desk taken away and your mouth taped up. </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just blown away. Getting your desk taken away and your mouth taped up is a little overboard. I feel bad for the people there. I may be going to this level of hell, guilty.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rot="566400">
            <a:off x="4114440" y="2057400"/>
            <a:ext cx="335268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O USING YOUR CELL PHONE DURING CLAS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are not aloud to use your cell phone during class. It is not aloud to be seen or anything. No texting, calling, or even “looking at the time”.</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following people that will be going to this level in hell will be; Carl Fink,  Scott Pitis, and Taylor Gerstlauer</a:t>
            </a:r>
            <a:endParaRPr b="0" lang="en-US" sz="1800" spc="-1" strike="noStrike">
              <a:solidFill>
                <a:srgbClr val="000000"/>
              </a:solidFill>
              <a:latin typeface="Arial"/>
            </a:endParaRPr>
          </a:p>
        </p:txBody>
      </p:sp>
      <p:sp>
        <p:nvSpPr>
          <p:cNvPr id="470"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1"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2"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is crime and not obeying the rules will be getting your phone taken away and not getting it back.</a:t>
            </a:r>
            <a:endParaRPr b="0" lang="en-US" sz="3200" spc="-1" strike="noStrike">
              <a:solidFill>
                <a:srgbClr val="000000"/>
              </a:solidFill>
              <a:latin typeface="Arial"/>
            </a:endParaRPr>
          </a:p>
        </p:txBody>
      </p:sp>
      <p:sp>
        <p:nvSpPr>
          <p:cNvPr id="475"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that I wouldn’t be able to live. My phone is my life, it never leaves my side and I don’t know what I would do without it. </a:t>
            </a:r>
            <a:endParaRPr b="0" lang="en-US" sz="3200" spc="-1" strike="noStrike">
              <a:solidFill>
                <a:srgbClr val="000000"/>
              </a:solidFill>
              <a:latin typeface="Arial"/>
            </a:endParaRPr>
          </a:p>
        </p:txBody>
      </p:sp>
      <p:sp>
        <p:nvSpPr>
          <p:cNvPr id="480"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 my experience of touring hell is that I would never ever want to be there. It is a cruel place, and I wouldn’t be able to live. I don’t know how people can deal with these types of punishments, they live a hard life. I will make sure that I will never ever enter hell again. I don’t want to be down there, and live there type of life. I’m glad that I got to tour hell though and know what its like, and be able to tell myself that I don’t ever want to be down there again. Therefore I’m always going to follow the rules and obey.</a:t>
            </a:r>
            <a:endParaRPr b="0" lang="en-US" sz="2400" spc="-1" strike="noStrike">
              <a:solidFill>
                <a:srgbClr val="000000"/>
              </a:solidFill>
              <a:latin typeface="Arial"/>
            </a:endParaRPr>
          </a:p>
        </p:txBody>
      </p:sp>
      <p:sp>
        <p:nvSpPr>
          <p:cNvPr id="484"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y Guide: Scott Pit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icture:</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a:t>
            </a:r>
            <a:r>
              <a:rPr b="0" lang="en-US" sz="3200" spc="-1" strike="noStrike">
                <a:solidFill>
                  <a:srgbClr val="ffffff"/>
                </a:solidFill>
                <a:latin typeface="Arial Narrow"/>
              </a:rPr>
              <a:t> </a:t>
            </a:r>
            <a:endParaRPr b="0" lang="en-US" sz="32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1800" spc="-1" strike="noStrike">
                <a:solidFill>
                  <a:srgbClr val="ffffff"/>
                </a:solidFill>
                <a:latin typeface="Arial Narrow"/>
              </a:rPr>
              <a:t>He’s an angel, but has committed crimes in his life time. He knows what hells all about, cause unfortunately he is down there. He is protecting me from going to hell after I pass away, so he is showing me the many consequences. He is very cute. Yes he is angel, but lives in hell. </a:t>
            </a:r>
            <a:endParaRPr b="0" lang="en-US" sz="1800" spc="-1" strike="noStrike">
              <a:solidFill>
                <a:srgbClr val="000000"/>
              </a:solidFill>
              <a:latin typeface="Arial"/>
            </a:endParaRPr>
          </a:p>
        </p:txBody>
      </p:sp>
      <p:pic>
        <p:nvPicPr>
          <p:cNvPr id="419" name="" descr=""/>
          <p:cNvPicPr/>
          <p:nvPr/>
        </p:nvPicPr>
        <p:blipFill>
          <a:blip r:embed="rId1"/>
          <a:stretch/>
        </p:blipFill>
        <p:spPr>
          <a:xfrm>
            <a:off x="4648320" y="2514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scription: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r>
              <a:rPr b="0" lang="en-US" sz="2000" spc="-1" strike="noStrike">
                <a:solidFill>
                  <a:srgbClr val="ffffff"/>
                </a:solidFill>
                <a:latin typeface="Arial Narrow"/>
              </a:rPr>
              <a:t>I’m Taylor Gerstlauer. I’m very nice, outgoing, and always caring. I play basketball and have been for my whole life. My family, friends, and boyfriend mean the world to me. I am scared to go to hell, so I’m having my friend Scott Pitis take me through hell and let me see all these consequences. I’m being as well behaved as I can and trying to not commit any crimes, I do not want to go to hell. </a:t>
            </a:r>
            <a:endParaRPr b="0" lang="en-US" sz="2000" spc="-1" strike="noStrike">
              <a:solidFill>
                <a:srgbClr val="000000"/>
              </a:solidFill>
              <a:latin typeface="Arial"/>
            </a:endParaRPr>
          </a:p>
        </p:txBody>
      </p:sp>
      <p:pic>
        <p:nvPicPr>
          <p:cNvPr id="422" name="" descr=""/>
          <p:cNvPicPr/>
          <p:nvPr/>
        </p:nvPicPr>
        <p:blipFill>
          <a:blip r:embed="rId1"/>
          <a:stretch/>
        </p:blipFill>
        <p:spPr>
          <a:xfrm>
            <a:off x="4495680" y="1600200"/>
            <a:ext cx="259092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2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3"/>
          <a:stretch/>
        </p:blipFill>
        <p:spPr>
          <a:xfrm rot="1014600">
            <a:off x="4419360" y="2209320"/>
            <a:ext cx="292248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048120" y="1828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276720" y="1981080"/>
            <a:ext cx="495288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EATING FOOD DURING CLASS.</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it in class, because its noisy, makes a mess, and you may not have enough for everyo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people that will be in this level of hell is the following; Devon Robinson, Alex Sloss, Shawn Carv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em eating during class is for the victim to throw it away and to be asked to leave that class. They are well aware of not eating during class, and if caught; consequences ..</a:t>
            </a:r>
            <a:endParaRPr b="0" lang="en-US" sz="3200" spc="-1" strike="noStrike">
              <a:solidFill>
                <a:srgbClr val="000000"/>
              </a:solidFill>
              <a:latin typeface="Arial"/>
            </a:endParaRPr>
          </a:p>
        </p:txBody>
      </p:sp>
      <p:sp>
        <p:nvSpPr>
          <p:cNvPr id="437"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8"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9"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of hell is not to bad. I don’t think it is a big deal to eat in class, but according to the rules ..it is. Oh well though, good thing I never eat in class.</a:t>
            </a:r>
            <a:endParaRPr b="0" lang="en-US" sz="3200" spc="-1" strike="noStrike">
              <a:solidFill>
                <a:srgbClr val="000000"/>
              </a:solidFill>
              <a:latin typeface="Arial"/>
            </a:endParaRPr>
          </a:p>
        </p:txBody>
      </p:sp>
      <p:sp>
        <p:nvSpPr>
          <p:cNvPr id="442"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6"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7"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8" name="" descr=""/>
          <p:cNvPicPr/>
          <p:nvPr/>
        </p:nvPicPr>
        <p:blipFill>
          <a:blip r:embed="rId3"/>
          <a:stretch/>
        </p:blipFill>
        <p:spPr>
          <a:xfrm rot="789600">
            <a:off x="4038120" y="1828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O TALKING DURING CLAS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talk during class, if wanting to talk you need to raise your hand. Do not shout out during class. It is very disrespectful.</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following people that will be going to this level of hell will be; Jess Griffith, Tracey Thompson, and Ryan Gerstlauer.</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29:58Z</dcterms:modified>
  <cp:revision>42</cp:revision>
  <dc:subject/>
  <dc:title>Dante’s Inferno</dc:title>
</cp:coreProperties>
</file>