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2F856-4445-426D-9EB9-E322229DD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F0EA-BF2B-47BE-AFE9-459B20C1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919F5-B5B3-4803-9897-437BEA5CB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220CC-01C7-439E-BA3F-6E79BD37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6F166-11CD-481E-AD62-46E63B51F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AAA99-13CE-4821-A01E-B850D7A33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5A74C-EC0D-4208-8C5B-7F9CD6ABA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ACF80-6B4B-434B-BC96-5AF4A2B17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4E026-4656-47C0-AF13-5D94409D9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F2519-5CB6-4DC7-AA49-8B14C2663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57C79-6328-4A7A-B448-8AD2A316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2552-36AA-42AD-B878-848E244E2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ADF37-FCBF-468D-9FE4-FB4A203B1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79E84-B93B-493D-B4BC-8AEEB1255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8DF07-404A-4880-A912-50DADCE8C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8860C-323A-4162-9AD9-C3382C3F0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661A1-8E48-45D2-B9AF-CF9ACB291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DF98AA-8C41-4970-89BC-863A83337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EEC44-D795-4749-954B-244EAEF08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70EAE-5D97-4C2E-A2FC-A13D77D28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115B2-EE3C-4935-B31D-D492AC4D5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BCF0E-DCF7-4700-9FE8-8801A6B57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E665C-3941-4D63-995A-76B39C50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F0F38-7CBD-4AF4-911F-2BA3A90FA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8B6E0-C44F-4110-9CC7-CD0869009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63B60-D066-4123-826D-269EC6853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D2FEB-3019-4380-A287-B3D9CB6F0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9B6DB-D7DF-49D8-AEB4-9CBCEC2AF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1F7475-9461-4761-920F-4EF7973E55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66C98-8196-4CB9-A24B-E41CEA6F0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2DE534-AA59-4EAD-B5D7-4C30235E95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8DD6B-A5AB-4B86-987B-AC7298ACB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003F0-CF53-4641-9D3B-48E037215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F6D9D-A269-45E2-AED9-65DEA522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ADD92F-DBFC-42FE-A8E7-5AE1EA64F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ED845-F3DC-4ED4-86CC-B6B3B2A73B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295A9-2658-4C23-A3CD-521E383CB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06C93-50AA-48DA-A4F5-4C03ACD16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41529-E690-49DE-87F3-3F67333DB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75299-D9C5-4293-A1B3-5242F1690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56A3C-59A6-4DC3-B399-311308A1B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51EB3-9271-4A54-9E45-DFC0DA1A6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9F3D9-C220-4D21-8DB5-4440F0552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4D7C1-B4B5-467F-B52B-87D074750F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A279A-B84B-414D-ACAA-4BCE8FCB6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2D1A1-7440-4429-A354-28F0316DE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80549-168D-4962-8823-DF72BB6FF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6EF63-D17D-43DF-843D-EE2FF55FE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BD9B4-53EC-42C1-B419-847218B27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60E32-F1AB-4FBC-B50A-1B2C72944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1A301-6C9C-4A99-B138-FB0A61E98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2490B-B8FB-4B10-B939-DFA438853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F9B4B-03A0-4A2A-BE54-38B96C349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2E239-8633-4571-BDCF-E95F9CD947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C611E8-E92E-48B7-A39D-A65BDB76E3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7A4F-1C7F-4A29-9B0E-F5940938D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A21D5F-3D3B-4A99-9AD4-CAC47DED9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ED0C4-0F98-4914-98D8-B9DAF1BA5E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21605-7F30-4E8C-A361-E03F93A566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90435B-6742-426D-9A1C-8911AE61E4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D6069-509A-40E9-9454-881AF5C6B8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6BA61-95A5-4B88-9398-CD469211A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945706-2F11-487A-97BD-2D97737AF2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31C36-C9A8-46A8-98DE-A5A46D3CE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6B5C5-491D-4D73-80FC-B8F9D10A5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336CA-53C8-4730-8557-9D7343CAF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C5D8-0178-4F26-B001-27AB340B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18BA9-781A-401D-91F2-5C67027CD3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5CF523-AAF6-4EF5-97F6-B824989FF0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2F490C-EC95-480E-82A9-E47B4531AE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2D156F-56D5-4456-9D34-44B0B214E8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09E9C-12DD-4C71-9292-97F1C0366A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AE3ED-668C-4DC4-9E77-7649C6689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29CB55-99F1-402B-8B54-8BED19EFE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CE63D0-C86A-41B6-AEB9-72A65671FD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773B4-324B-41E8-9CA8-80AEC92D4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A4A99-310E-4E32-B4EC-81DDDB9DB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27E7-7A2C-497B-B0B0-4734E741E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7EA46-931E-4828-B4FF-80C16948C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43765-47E6-442F-AC55-910141398C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34182-E7CB-400C-8910-851AB7C6B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13CBF3-144E-490D-8257-81186E4B0D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75BA34-3932-4B18-BFE9-7AA5E1B97F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5081-C716-421E-9044-0CA57E775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B9B2-7977-4BF2-B398-8CD1297986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13AD-C6A0-4218-A798-3E763394E6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F8CF-FC6E-4E76-88A1-3F72BE3499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09EA-3197-4264-92F9-B11BB20363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8A2B-E809-4A7C-B139-185CCA1F87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0221-177D-4A62-9056-512A6A8051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0361-5035-4CF0-AD13-AF8F54A705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4.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hiller"/>
              </a:rPr>
              <a:t>Abandon all hope! </a:t>
            </a:r>
            <a:r>
              <a:rPr b="0" i="1" lang="en-US" sz="4000" spc="-1" strike="noStrike">
                <a:solidFill>
                  <a:srgbClr val="000000"/>
                </a:solidFill>
                <a:latin typeface="Chiller"/>
              </a:rPr>
              <a:t>Ye who enter here</a:t>
            </a:r>
            <a:r>
              <a:rPr b="0" i="1" lang="en-US" sz="4000" spc="-1" strike="noStrike">
                <a:solidFill>
                  <a:srgbClr val="ff0000"/>
                </a:solidFill>
                <a:latin typeface="Chiller"/>
              </a:rPr>
              <a:t>.</a:t>
            </a:r>
            <a:endParaRPr b="0" lang="en-US" sz="4000" spc="-1" strike="noStrike">
              <a:solidFill>
                <a:srgbClr val="000000"/>
              </a:solidFill>
              <a:latin typeface="Arial"/>
            </a:endParaRPr>
          </a:p>
        </p:txBody>
      </p:sp>
      <p:pic>
        <p:nvPicPr>
          <p:cNvPr id="415" name="" descr=""/>
          <p:cNvPicPr/>
          <p:nvPr/>
        </p:nvPicPr>
        <p:blipFill>
          <a:blip r:embed="rId1"/>
          <a:stretch/>
        </p:blipFill>
        <p:spPr>
          <a:xfrm>
            <a:off x="3276720" y="1676520"/>
            <a:ext cx="5181480" cy="40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punishment for this level is they are suffering from freezing cold conditions in negative 33332232542 degrees of weather. It snows everyday and night and there is not a single blade of grass it is only ice and snow. </a:t>
            </a:r>
            <a:endParaRPr b="0" lang="en-US" sz="1600" spc="-1" strike="noStrike">
              <a:solidFill>
                <a:srgbClr val="000000"/>
              </a:solidFill>
              <a:latin typeface="Arial"/>
            </a:endParaRPr>
          </a:p>
        </p:txBody>
      </p:sp>
      <p:sp>
        <p:nvSpPr>
          <p:cNvPr id="453"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4"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5"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My reaction is that is exactly what they deserve and nothing less then that. They need to realize what they did was wrong and have to suffer from it.</a:t>
            </a:r>
            <a:endParaRPr b="0" lang="en-US" sz="1600" spc="-1" strike="noStrike">
              <a:solidFill>
                <a:srgbClr val="000000"/>
              </a:solidFill>
              <a:latin typeface="Arial"/>
            </a:endParaRPr>
          </a:p>
        </p:txBody>
      </p:sp>
      <p:sp>
        <p:nvSpPr>
          <p:cNvPr id="458"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61"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2"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3"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4" name="" descr=""/>
          <p:cNvPicPr/>
          <p:nvPr/>
        </p:nvPicPr>
        <p:blipFill>
          <a:blip r:embed="rId3"/>
          <a:stretch/>
        </p:blipFill>
        <p:spPr>
          <a:xfrm>
            <a:off x="2819520" y="1676520"/>
            <a:ext cx="6095880" cy="39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is level is for the people that have murdered people during church. Also people who have murdered anyone.</a:t>
            </a:r>
            <a:endParaRPr b="0" lang="en-US" sz="1600" spc="-1" strike="noStrike">
              <a:solidFill>
                <a:srgbClr val="000000"/>
              </a:solidFill>
              <a:latin typeface="Arial"/>
            </a:endParaRPr>
          </a:p>
        </p:txBody>
      </p:sp>
      <p:sp>
        <p:nvSpPr>
          <p:cNvPr id="467"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8"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9"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e punishment is they have to live in the desert for ever and they get no food or water they have to suffer there with nothing to do. All hey can do is read a book.</a:t>
            </a:r>
            <a:endParaRPr b="0" lang="en-US" sz="1600" spc="-1" strike="noStrike">
              <a:solidFill>
                <a:srgbClr val="000000"/>
              </a:solidFill>
              <a:latin typeface="Arial"/>
            </a:endParaRPr>
          </a:p>
        </p:txBody>
      </p:sp>
      <p:sp>
        <p:nvSpPr>
          <p:cNvPr id="472"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4"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y reaction to this is that it is a bad punishment they should at least get food or something to do.</a:t>
            </a:r>
            <a:endParaRPr b="0" lang="en-US" sz="3200" spc="-1" strike="noStrike">
              <a:solidFill>
                <a:srgbClr val="000000"/>
              </a:solidFill>
              <a:latin typeface="Arial"/>
            </a:endParaRPr>
          </a:p>
        </p:txBody>
      </p:sp>
      <p:sp>
        <p:nvSpPr>
          <p:cNvPr id="477"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2" name=""/>
          <p:cNvSpPr/>
          <p:nvPr/>
        </p:nvSpPr>
        <p:spPr>
          <a:xfrm>
            <a:off x="3276720" y="18288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ROARINGFIRE"/>
              </a:rPr>
              <a:t>You can not get out you are there for the rest of your life until the devil says other wise you could be here from anywhere to 1 year to the rest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My guide is SCARFACE</a:t>
            </a:r>
            <a:endParaRPr b="0" lang="en-US" sz="3200" spc="-1" strike="noStrike">
              <a:solidFill>
                <a:srgbClr val="000000"/>
              </a:solidFill>
              <a:latin typeface="Arial"/>
            </a:endParaRPr>
          </a:p>
        </p:txBody>
      </p:sp>
      <p:pic>
        <p:nvPicPr>
          <p:cNvPr id="418" name="" descr=""/>
          <p:cNvPicPr/>
          <p:nvPr/>
        </p:nvPicPr>
        <p:blipFill>
          <a:blip r:embed="rId1"/>
          <a:stretch/>
        </p:blipFill>
        <p:spPr>
          <a:xfrm>
            <a:off x="4114800" y="2133720"/>
            <a:ext cx="358128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cc00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My name is Ted Stoler I live in Lansdale PA and I am 16 years old. I play ice hockey and I like to listen to rap music. I go to northpenn high school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	</a:t>
            </a:r>
            <a:r>
              <a:rPr b="0" lang="en-US" sz="1800" spc="-1" strike="noStrike">
                <a:solidFill>
                  <a:srgbClr val="cc00ff"/>
                </a:solidFill>
                <a:latin typeface="Snap ITC"/>
              </a:rPr>
              <a:t>This year im going to hell.</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 descr=""/>
          <p:cNvPicPr/>
          <p:nvPr/>
        </p:nvPicPr>
        <p:blipFill>
          <a:blip r:embed="rId1"/>
          <a:stretch/>
        </p:blipFill>
        <p:spPr>
          <a:xfrm>
            <a:off x="1295280" y="0"/>
            <a:ext cx="236232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4"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5"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6" name="" descr=""/>
          <p:cNvPicPr/>
          <p:nvPr/>
        </p:nvPicPr>
        <p:blipFill>
          <a:blip r:embed="rId3"/>
          <a:stretch/>
        </p:blipFill>
        <p:spPr>
          <a:xfrm>
            <a:off x="2666880" y="1422360"/>
            <a:ext cx="64771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28"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9"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0"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1" name=""/>
          <p:cNvSpPr/>
          <p:nvPr/>
        </p:nvSpPr>
        <p:spPr>
          <a:xfrm>
            <a:off x="3048120" y="1828800"/>
            <a:ext cx="5790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evel A is full of fire this is the people that go here are bullies they have beat or verbally abused someone multiple times in there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The punishment for the people in this level is the burn for the rest of eternity in 3000000 degrees or fire. The bullies tore people apart for their life so they have to suffer for what they did.</a:t>
            </a:r>
            <a:endParaRPr b="0" lang="en-US" sz="1600" spc="-1" strike="noStrike">
              <a:solidFill>
                <a:srgbClr val="000000"/>
              </a:solidFill>
              <a:latin typeface="Arial"/>
            </a:endParaRPr>
          </a:p>
        </p:txBody>
      </p:sp>
      <p:sp>
        <p:nvSpPr>
          <p:cNvPr id="434"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y reaction to this is that it is a cruel punishment to do to bullies but they have to suffer for what they chose to do in the past. </a:t>
            </a:r>
            <a:endParaRPr b="0" lang="en-US" sz="1600" spc="-1" strike="noStrike">
              <a:solidFill>
                <a:srgbClr val="000000"/>
              </a:solidFill>
              <a:latin typeface="Arial"/>
            </a:endParaRPr>
          </a:p>
        </p:txBody>
      </p:sp>
      <p:sp>
        <p:nvSpPr>
          <p:cNvPr id="439"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42"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3"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4"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5" name="" descr=""/>
          <p:cNvPicPr/>
          <p:nvPr/>
        </p:nvPicPr>
        <p:blipFill>
          <a:blip r:embed="rId3"/>
          <a:stretch/>
        </p:blipFill>
        <p:spPr>
          <a:xfrm>
            <a:off x="2895480" y="1600200"/>
            <a:ext cx="59436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crime is for people who have cheated on there wives or husband, or boyfriend or girlfriend. They have froze someone's heart so they are going to be frozen for the rest of eternity.</a:t>
            </a:r>
            <a:endParaRPr b="0" lang="en-US" sz="1600" spc="-1" strike="noStrike">
              <a:solidFill>
                <a:srgbClr val="000000"/>
              </a:solidFill>
              <a:latin typeface="Arial"/>
            </a:endParaRPr>
          </a:p>
        </p:txBody>
      </p:sp>
      <p:sp>
        <p:nvSpPr>
          <p:cNvPr id="448"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9"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0"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9:53Z</dcterms:modified>
  <cp:revision>43</cp:revision>
  <dc:subject/>
  <dc:title>Dante’s Inferno</dc:title>
</cp:coreProperties>
</file>